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40E6E-90C6-4FAD-A3AC-1A2D6BF98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6F67C-E9CF-477E-AE93-C90AE8963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13222-5D98-4069-85E7-63AB0FD2C5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30807-CF17-443B-9A90-545B9E6AA0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DEF46-9170-4413-AD29-916CB1AF1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1F8DF-4DF8-4B80-A015-9033E656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067F-9642-4945-806E-9D9F19EF2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44931-E4E3-4602-8999-A6A7746A7A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EC9CF-A9B9-409C-B906-9BB1F512E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EC9E-F4BB-466E-8094-27C96DE06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871AE-E7A5-410B-A042-1E047B34F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BE37-649F-4D66-8194-720BCC7F44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A9F9C0-BA34-49C9-A5AC-D46737E468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5410080"/>
            <a:ext cx="9144000" cy="144792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1752480"/>
            <a:ext cx="9144000" cy="3657600"/>
          </a:xfrm>
          <a:prstGeom prst="rect">
            <a:avLst/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9144000" cy="1752480"/>
          </a:xfrm>
          <a:prstGeom prst="rect">
            <a:avLst/>
          </a:prstGeom>
          <a:solidFill>
            <a:srgbClr val="96969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4560480" y="1154880"/>
            <a:ext cx="2264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Filter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329960" y="392760"/>
            <a:ext cx="134820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87920" y="2004120"/>
            <a:ext cx="20095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840560" y="280260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840560" y="3821760"/>
            <a:ext cx="170460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433400" y="4812480"/>
            <a:ext cx="25185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840560" y="392760"/>
            <a:ext cx="17046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2682360" y="4098240"/>
            <a:ext cx="163908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TaggedOut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96800" y="1992960"/>
            <a:ext cx="18190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it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49440" y="280260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Order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49440" y="3823560"/>
            <a:ext cx="1514160" cy="64260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ByteCount</a:t>
            </a:r>
            <a:br>
              <a:rPr sz="1800"/>
            </a:b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2280" y="4812480"/>
            <a:ext cx="232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agged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49440" y="392760"/>
            <a:ext cx="151416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3082320" y="392760"/>
            <a:ext cx="1169640" cy="368280"/>
          </a:xfrm>
          <a:prstGeom prst="rect">
            <a:avLst/>
          </a:prstGeom>
          <a:solidFill>
            <a:srgbClr val="00008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DataInpu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382680" y="5650560"/>
            <a:ext cx="2047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080720" y="5879160"/>
            <a:ext cx="1997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766520" y="6107760"/>
            <a:ext cx="2023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In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3800" y="5650560"/>
            <a:ext cx="22381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GM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329080" y="5879160"/>
            <a:ext cx="21877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M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014520" y="6107760"/>
            <a:ext cx="22136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WFOutputStrea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4" name=""/>
          <p:cNvCxnSpPr>
            <a:stCxn id="53" idx="3"/>
            <a:endCxn id="57" idx="2"/>
          </p:cNvCxnSpPr>
          <p:nvPr/>
        </p:nvCxnSpPr>
        <p:spPr>
          <a:xfrm flipV="1">
            <a:off x="2163600" y="761040"/>
            <a:ext cx="150372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5" name=""/>
          <p:cNvCxnSpPr>
            <a:stCxn id="55" idx="3"/>
            <a:endCxn id="51" idx="2"/>
          </p:cNvCxnSpPr>
          <p:nvPr/>
        </p:nvCxnSpPr>
        <p:spPr>
          <a:xfrm flipV="1">
            <a:off x="2570400" y="4466520"/>
            <a:ext cx="931680" cy="53028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6" name=""/>
          <p:cNvCxnSpPr>
            <a:stCxn id="47" idx="3"/>
            <a:endCxn id="45" idx="2"/>
          </p:cNvCxnSpPr>
          <p:nvPr/>
        </p:nvCxnSpPr>
        <p:spPr>
          <a:xfrm flipV="1">
            <a:off x="6545160" y="761040"/>
            <a:ext cx="1459080" cy="2363040"/>
          </a:xfrm>
          <a:prstGeom prst="bentConnector2">
            <a:avLst/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67" name=""/>
          <p:cNvCxnSpPr>
            <a:stCxn id="52" idx="0"/>
            <a:endCxn id="56" idx="2"/>
          </p:cNvCxnSpPr>
          <p:nvPr/>
        </p:nvCxnSpPr>
        <p:spPr>
          <a:xfrm flipV="1">
            <a:off x="1406160" y="761040"/>
            <a:ext cx="720" cy="12322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8" name=""/>
          <p:cNvCxnSpPr>
            <a:stCxn id="46" idx="0"/>
            <a:endCxn id="44" idx="2"/>
          </p:cNvCxnSpPr>
          <p:nvPr/>
        </p:nvCxnSpPr>
        <p:spPr>
          <a:xfrm flipH="1" flipV="1">
            <a:off x="5692320" y="1523160"/>
            <a:ext cx="720" cy="4813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9" name=""/>
          <p:cNvCxnSpPr>
            <a:stCxn id="44" idx="0"/>
            <a:endCxn id="50" idx="2"/>
          </p:cNvCxnSpPr>
          <p:nvPr/>
        </p:nvCxnSpPr>
        <p:spPr>
          <a:xfrm flipV="1">
            <a:off x="5692320" y="761040"/>
            <a:ext cx="720" cy="39420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0" name=""/>
          <p:cNvCxnSpPr>
            <a:stCxn id="58" idx="0"/>
            <a:endCxn id="55" idx="2"/>
          </p:cNvCxnSpPr>
          <p:nvPr/>
        </p:nvCxnSpPr>
        <p:spPr>
          <a:xfrm flipH="1" flipV="1">
            <a:off x="1406160" y="5180760"/>
            <a:ext cx="72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1" name=""/>
          <p:cNvCxnSpPr>
            <a:stCxn id="55" idx="0"/>
            <a:endCxn id="54" idx="2"/>
          </p:cNvCxnSpPr>
          <p:nvPr/>
        </p:nvCxnSpPr>
        <p:spPr>
          <a:xfrm flipV="1">
            <a:off x="1406160" y="4466160"/>
            <a:ext cx="720" cy="3466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2" name=""/>
          <p:cNvCxnSpPr>
            <a:stCxn id="54" idx="0"/>
            <a:endCxn id="53" idx="2"/>
          </p:cNvCxnSpPr>
          <p:nvPr/>
        </p:nvCxnSpPr>
        <p:spPr>
          <a:xfrm flipV="1">
            <a:off x="1406520" y="3445200"/>
            <a:ext cx="360" cy="378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3" name=""/>
          <p:cNvCxnSpPr>
            <a:stCxn id="53" idx="0"/>
            <a:endCxn id="52" idx="2"/>
          </p:cNvCxnSpPr>
          <p:nvPr/>
        </p:nvCxnSpPr>
        <p:spPr>
          <a:xfrm flipH="1" flipV="1">
            <a:off x="1406160" y="2361240"/>
            <a:ext cx="720" cy="4417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4" name=""/>
          <p:cNvCxnSpPr>
            <a:stCxn id="61" idx="0"/>
            <a:endCxn id="49" idx="2"/>
          </p:cNvCxnSpPr>
          <p:nvPr/>
        </p:nvCxnSpPr>
        <p:spPr>
          <a:xfrm flipV="1">
            <a:off x="5692680" y="5180760"/>
            <a:ext cx="360" cy="4701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5" name=""/>
          <p:cNvCxnSpPr>
            <a:stCxn id="49" idx="0"/>
            <a:endCxn id="48" idx="2"/>
          </p:cNvCxnSpPr>
          <p:nvPr/>
        </p:nvCxnSpPr>
        <p:spPr>
          <a:xfrm flipV="1">
            <a:off x="5692680" y="4464360"/>
            <a:ext cx="360" cy="34848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6" name=""/>
          <p:cNvCxnSpPr>
            <a:stCxn id="48" idx="0"/>
            <a:endCxn id="47" idx="2"/>
          </p:cNvCxnSpPr>
          <p:nvPr/>
        </p:nvCxnSpPr>
        <p:spPr>
          <a:xfrm flipV="1">
            <a:off x="5692680" y="3445200"/>
            <a:ext cx="360" cy="37692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77" name=""/>
          <p:cNvCxnSpPr>
            <a:stCxn id="47" idx="0"/>
            <a:endCxn id="46" idx="2"/>
          </p:cNvCxnSpPr>
          <p:nvPr/>
        </p:nvCxnSpPr>
        <p:spPr>
          <a:xfrm flipV="1">
            <a:off x="5692680" y="2372400"/>
            <a:ext cx="360" cy="430560"/>
          </a:xfrm>
          <a:prstGeom prst="straightConnector1">
            <a:avLst/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sp>
        <p:nvSpPr>
          <p:cNvPr id="78" name=""/>
          <p:cNvSpPr/>
          <p:nvPr/>
        </p:nvSpPr>
        <p:spPr>
          <a:xfrm>
            <a:off x="6971040" y="6491160"/>
            <a:ext cx="2167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dividual pack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7197840" y="5029200"/>
            <a:ext cx="194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rg.freehep.util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8301960" y="1386000"/>
            <a:ext cx="83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java.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21T18:56:54Z</dcterms:created>
  <dc:creator>duns</dc:creator>
  <dc:description/>
  <dc:language>en-US</dc:language>
  <cp:lastModifiedBy>duns</cp:lastModifiedBy>
  <dcterms:modified xsi:type="dcterms:W3CDTF">2003-03-21T19:12:25Z</dcterms:modified>
  <cp:revision>6</cp:revision>
  <dc:subject/>
  <dc:title>Slide 1</dc:title>
</cp:coreProperties>
</file>