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42527"/>
        <c:axId val="9280337"/>
      </c:barChart>
      <c:catAx>
        <c:axId val="52942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0337"/>
        <c:crosses val="autoZero"/>
        <c:auto val="1"/>
        <c:lblAlgn val="ctr"/>
        <c:lblOffset val="100"/>
        <c:noMultiLvlLbl val="0"/>
      </c:catAx>
      <c:valAx>
        <c:axId val="9280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42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514-65ED-434B-B454-2BEECE72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490-6276-4B77-819F-367548E0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674-D768-41CF-BD32-9A67CA79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3CC-24A0-46A8-8CB5-DD7D333F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0C7-BE93-4248-A6A7-17D0FA37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A6A-8AFB-410C-9519-648426DC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46A-D77F-4660-B13A-6A701EFC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1A5-4FFB-428B-84C1-609C4A0F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1A9-036A-4318-94E8-A07188FB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520-AFF4-4612-A33F-48CDDC90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DE5-55AE-4951-9D53-07B7885E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B24-0449-42CE-85F5-FC588D24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730DB-739F-473B-9DCD-8430EBF76A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