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92275"/>
        <c:axId val="17200843"/>
      </c:barChart>
      <c:catAx>
        <c:axId val="20592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00843"/>
        <c:crosses val="autoZero"/>
        <c:auto val="1"/>
        <c:lblAlgn val="ctr"/>
        <c:lblOffset val="100"/>
        <c:noMultiLvlLbl val="0"/>
      </c:catAx>
      <c:valAx>
        <c:axId val="17200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92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851-8362-412E-9FE1-BD9E9527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13B-62AF-4EA7-A354-0F1A2630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D75-03BC-4C63-9177-285097A9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BE9-08C7-4C1C-8016-4297C0D2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7D3-47FE-4194-9B67-D644B511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07A-8CF8-4D06-A793-576F939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9B1-C3B9-4782-A5DD-5D88995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133-5222-4AB4-80CE-45E8115F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904-6FCF-4476-B64C-C4C5F95E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30C-616D-476F-A64E-F267D430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D8A-B9A1-44EE-8C18-372CA23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BB6-BE06-4529-8FB3-EA94F54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11438-C676-4A19-A7BB-C864D346CB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