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</p:sldIdLst>
  <p:sldSz cx="9144000" cy="6858000"/>
  <p:notesSz cx="7300913" cy="9586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E51D2-CA38-4C5A-A666-4B1849796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03744-DE63-490A-A2B3-7458B16B7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2BA6E-B48A-45C7-829F-5000B0BB7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00299-5029-4628-B364-A664FCE48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2ED4D-2CF7-4F3F-9980-988C0451F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235FA-D869-4C78-8882-1F2FB8401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8857E-4291-483E-9A07-BF5F3A00A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401BC-1192-422F-BD6E-4E9BF6E2F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D5108-6225-49CC-A187-C2EAE5E9B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4E3DC-8963-49E9-81A9-982C71941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4EFE1-40FE-4DC3-A4C1-9870AFCB7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1E3BA-E45C-4EBC-AA00-6F729DF31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D1918-6A21-4A9D-819F-CDFE2A03A1E4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88D7A-D153-475E-9836-324F97606B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warmfest ‘99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utor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ssion III: The libra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nedikt Stefans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benedikt@ucla.edu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ankedList: Example of Ma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581280" y="1676520"/>
            <a:ext cx="2362320" cy="24382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ked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209680" y="3048120"/>
            <a:ext cx="4953240" cy="76176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74520" y="4876920"/>
            <a:ext cx="56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574520" y="4038480"/>
            <a:ext cx="56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286000" y="4000680"/>
            <a:ext cx="228600" cy="22860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429000" y="4000680"/>
            <a:ext cx="228600" cy="22860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019920" y="4000680"/>
            <a:ext cx="228600" cy="22860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4952880"/>
            <a:ext cx="914400" cy="9144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048120" y="4952880"/>
            <a:ext cx="914400" cy="9144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638680" y="4952880"/>
            <a:ext cx="914400" cy="9144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600200" y="3962520"/>
            <a:ext cx="9144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048120" y="3962520"/>
            <a:ext cx="9144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638680" y="3962520"/>
            <a:ext cx="9144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9B25D-B5E8-4E2E-9DA7-AD4A540D4AD9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4FA5D3-B78D-4ECE-8A51-FE92DB66747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095880" y="3505320"/>
            <a:ext cx="1123920" cy="7254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de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jor Activity 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on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ates a set of actions which should be invoked at the “same time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set of actions or action grou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ates schedu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rols one level of model wor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410080" y="2666880"/>
            <a:ext cx="1123920" cy="7257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724280" y="5334120"/>
            <a:ext cx="1123920" cy="7761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hedu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095880" y="4419720"/>
            <a:ext cx="1123920" cy="7491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724280" y="3505320"/>
            <a:ext cx="1123920" cy="7254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y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724280" y="4419720"/>
            <a:ext cx="1123920" cy="7254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467480" y="4419720"/>
            <a:ext cx="1123920" cy="7491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467480" y="5361120"/>
            <a:ext cx="1123920" cy="7491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400800" y="1828800"/>
            <a:ext cx="1123920" cy="779400"/>
          </a:xfrm>
          <a:prstGeom prst="rect">
            <a:avLst/>
          </a:prstGeom>
          <a:solidFill>
            <a:srgbClr val="33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fob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1" name=""/>
          <p:cNvCxnSpPr>
            <a:stCxn id="140" idx="1"/>
            <a:endCxn id="133" idx="0"/>
          </p:cNvCxnSpPr>
          <p:nvPr/>
        </p:nvCxnSpPr>
        <p:spPr>
          <a:xfrm flipV="1" rot="10800000">
            <a:off x="5971320" y="2218320"/>
            <a:ext cx="429480" cy="448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2" name=""/>
          <p:cNvCxnSpPr>
            <a:stCxn id="140" idx="3"/>
            <a:endCxn id="138" idx="0"/>
          </p:cNvCxnSpPr>
          <p:nvPr/>
        </p:nvCxnSpPr>
        <p:spPr>
          <a:xfrm>
            <a:off x="7524720" y="2219400"/>
            <a:ext cx="505440" cy="2201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3" idx="1"/>
            <a:endCxn id="136" idx="0"/>
          </p:cNvCxnSpPr>
          <p:nvPr/>
        </p:nvCxnSpPr>
        <p:spPr>
          <a:xfrm flipV="1" rot="10800000">
            <a:off x="5285520" y="3029400"/>
            <a:ext cx="124560" cy="475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stCxn id="133" idx="3"/>
            <a:endCxn id="130" idx="0"/>
          </p:cNvCxnSpPr>
          <p:nvPr/>
        </p:nvCxnSpPr>
        <p:spPr>
          <a:xfrm>
            <a:off x="6534000" y="3030120"/>
            <a:ext cx="124560" cy="475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36" idx="2"/>
            <a:endCxn id="137" idx="0"/>
          </p:cNvCxnSpPr>
          <p:nvPr/>
        </p:nvCxnSpPr>
        <p:spPr>
          <a:xfrm>
            <a:off x="5285880" y="4230360"/>
            <a:ext cx="1080" cy="189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30" idx="2"/>
            <a:endCxn id="135" idx="0"/>
          </p:cNvCxnSpPr>
          <p:nvPr/>
        </p:nvCxnSpPr>
        <p:spPr>
          <a:xfrm>
            <a:off x="6657480" y="4230360"/>
            <a:ext cx="1080" cy="189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7" idx="2"/>
            <a:endCxn id="134" idx="0"/>
          </p:cNvCxnSpPr>
          <p:nvPr/>
        </p:nvCxnSpPr>
        <p:spPr>
          <a:xfrm>
            <a:off x="5285880" y="5144760"/>
            <a:ext cx="1080" cy="189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38" idx="2"/>
            <a:endCxn id="139" idx="0"/>
          </p:cNvCxnSpPr>
          <p:nvPr/>
        </p:nvCxnSpPr>
        <p:spPr>
          <a:xfrm>
            <a:off x="8029080" y="5168880"/>
            <a:ext cx="1080" cy="19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BE7B4-6DA9-4628-B76C-D2789B6221E3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A1F2CF-2889-4213-BBA4-FB5BCCA60A4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3932280" y="2971800"/>
            <a:ext cx="50576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hedule=[Schedu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reateBegin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zon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schedule setRepeatInterval: n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hedule=[schedule createEn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schedule    at: 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reateActionTo: bu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essage: M(eat)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hed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5800" y="1981080"/>
            <a:ext cx="33526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edules define event in terms of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eat interv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 within schedule of first invoc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name or action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 to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886280" y="2239920"/>
            <a:ext cx="337032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327640" y="213372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209000" y="212724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149440" y="156528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077880" y="1477800"/>
            <a:ext cx="48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076160" y="160668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+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848120" y="2219400"/>
            <a:ext cx="127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bug ea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797520" y="2211480"/>
            <a:ext cx="127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bug ea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35480" y="393876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934320" y="4191120"/>
            <a:ext cx="369720" cy="442800"/>
          </a:xfrm>
          <a:custGeom>
            <a:avLst/>
            <a:gdLst>
              <a:gd name="textAreaLeft" fmla="*/ 84240 w 369720"/>
              <a:gd name="textAreaRight" fmla="*/ 285480 w 36972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4419720"/>
            <a:ext cx="369720" cy="442800"/>
          </a:xfrm>
          <a:custGeom>
            <a:avLst/>
            <a:gdLst>
              <a:gd name="textAreaLeft" fmla="*/ 84240 w 369720"/>
              <a:gd name="textAreaRight" fmla="*/ 285480 w 36972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696080" y="4800600"/>
            <a:ext cx="370080" cy="442800"/>
          </a:xfrm>
          <a:custGeom>
            <a:avLst/>
            <a:gdLst>
              <a:gd name="textAreaLeft" fmla="*/ 84240 w 370080"/>
              <a:gd name="textAreaRight" fmla="*/ 285840 w 37008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871560" y="3338640"/>
            <a:ext cx="298440" cy="425160"/>
          </a:xfrm>
          <a:custGeom>
            <a:avLst/>
            <a:gdLst>
              <a:gd name="textAreaLeft" fmla="*/ 68040 w 298440"/>
              <a:gd name="textAreaRight" fmla="*/ 230400 w 298440"/>
              <a:gd name="textAreaTop" fmla="*/ 96840 h 425160"/>
              <a:gd name="textAreaBottom" fmla="*/ 328320 h 425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71560" y="2890800"/>
            <a:ext cx="298440" cy="425520"/>
          </a:xfrm>
          <a:custGeom>
            <a:avLst/>
            <a:gdLst>
              <a:gd name="textAreaLeft" fmla="*/ 68040 w 298440"/>
              <a:gd name="textAreaRight" fmla="*/ 230400 w 298440"/>
              <a:gd name="textAreaTop" fmla="*/ 97200 h 425520"/>
              <a:gd name="textAreaBottom" fmla="*/ 328320 h 42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38080" y="5334120"/>
            <a:ext cx="298440" cy="425160"/>
          </a:xfrm>
          <a:custGeom>
            <a:avLst/>
            <a:gdLst>
              <a:gd name="textAreaLeft" fmla="*/ 68040 w 298440"/>
              <a:gd name="textAreaRight" fmla="*/ 230400 w 298440"/>
              <a:gd name="textAreaTop" fmla="*/ 96840 h 425160"/>
              <a:gd name="textAreaBottom" fmla="*/ 328320 h 425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4572000"/>
            <a:ext cx="298440" cy="425520"/>
          </a:xfrm>
          <a:custGeom>
            <a:avLst/>
            <a:gdLst>
              <a:gd name="textAreaLeft" fmla="*/ 68040 w 298440"/>
              <a:gd name="textAreaRight" fmla="*/ 230400 w 298440"/>
              <a:gd name="textAreaTop" fmla="*/ 97200 h 425520"/>
              <a:gd name="textAreaBottom" fmla="*/ 328320 h 42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381880" y="3200400"/>
            <a:ext cx="370080" cy="442800"/>
          </a:xfrm>
          <a:custGeom>
            <a:avLst/>
            <a:gdLst>
              <a:gd name="textAreaLeft" fmla="*/ 84240 w 370080"/>
              <a:gd name="textAreaRight" fmla="*/ 285840 w 37008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C9238-E90B-4A8A-BA8A-14C76CB85985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366280-73E3-42F7-95BC-D2182A5047A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aning of time in Sched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mes in schedule can 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ative to activ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setRelativeTime: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ative to base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setRelativeTime: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all schedules are activated at beginning doesn’t matter mu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724280" y="2239920"/>
            <a:ext cx="4003920" cy="0"/>
          </a:xfrm>
          <a:prstGeom prst="line">
            <a:avLst/>
          </a:prstGeom>
          <a:ln w="50760">
            <a:solidFill>
              <a:srgbClr val="b2b2b2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937040" y="21258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562720" y="21258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172200" y="212724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797520" y="212724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467480" y="212724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093160" y="212724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638680" y="2590920"/>
            <a:ext cx="1981440" cy="0"/>
          </a:xfrm>
          <a:prstGeom prst="line">
            <a:avLst/>
          </a:prstGeom>
          <a:ln w="50760">
            <a:solidFill>
              <a:srgbClr val="3333cc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546880" y="2476440"/>
            <a:ext cx="228600" cy="228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172200" y="2476440"/>
            <a:ext cx="228600" cy="228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781680" y="2478240"/>
            <a:ext cx="228600" cy="228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407360" y="2478240"/>
            <a:ext cx="228600" cy="228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248520" y="3733920"/>
            <a:ext cx="2361960" cy="0"/>
          </a:xfrm>
          <a:prstGeom prst="line">
            <a:avLst/>
          </a:prstGeom>
          <a:ln w="50760">
            <a:solidFill>
              <a:srgbClr val="ff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172200" y="3619440"/>
            <a:ext cx="22860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407360" y="3619440"/>
            <a:ext cx="22860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00600" y="4952880"/>
            <a:ext cx="3733920" cy="0"/>
          </a:xfrm>
          <a:prstGeom prst="line">
            <a:avLst/>
          </a:prstGeom>
          <a:ln w="50760">
            <a:solidFill>
              <a:srgbClr val="00cc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486400" y="483876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172200" y="483876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781680" y="483876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391520" y="483876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8001000" y="483876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642920" y="2743200"/>
            <a:ext cx="388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dule activated at t=1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 events, after which it sto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642920" y="3886200"/>
            <a:ext cx="388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dule activated at t=2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event and repeat interval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718880" y="5105520"/>
            <a:ext cx="388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dule activated at t=0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t at t=1 and repeat intvl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648320" y="2438280"/>
            <a:ext cx="4114800" cy="1067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648320" y="3581280"/>
            <a:ext cx="4114800" cy="1067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648320" y="4724280"/>
            <a:ext cx="4114800" cy="1219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00B7B-3C8C-4548-AF9D-124DDA874E4E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22AB88-B510-444C-8984-ED52DB0C391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370800" y="5029200"/>
            <a:ext cx="737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ctivate at t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schedule setRepeatInterval: 1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schedule at: 1 createActionTo: obj message: M(message)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57200" y="2286000"/>
            <a:ext cx="8158320" cy="144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ctivate at t=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schedule at: 0 createActionTo: obj1 message:M(message1)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schedule at: 4 createActionTo: obj4 message:M(message4)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70800" y="3733920"/>
            <a:ext cx="737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ctivate at t=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schedule setRepeatInterval: 2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schedule at: 0 createActionTo: obj message: M(message)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2038320"/>
            <a:ext cx="5486400" cy="0"/>
          </a:xfrm>
          <a:prstGeom prst="line">
            <a:avLst/>
          </a:prstGeom>
          <a:ln w="50760">
            <a:solidFill>
              <a:srgbClr val="b2b2b2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336840" y="19242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962520" y="19242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572000" y="19242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197320" y="19242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867280" y="19242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492960" y="19242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257800" y="2514600"/>
            <a:ext cx="1981080" cy="0"/>
          </a:xfrm>
          <a:prstGeom prst="line">
            <a:avLst/>
          </a:prstGeom>
          <a:ln w="50760">
            <a:solidFill>
              <a:srgbClr val="3333cc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165640" y="2400480"/>
            <a:ext cx="228600" cy="228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791320" y="2400480"/>
            <a:ext cx="228600" cy="228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400800" y="2401920"/>
            <a:ext cx="228600" cy="228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026120" y="2401920"/>
            <a:ext cx="228600" cy="228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648320" y="4002120"/>
            <a:ext cx="4114800" cy="0"/>
          </a:xfrm>
          <a:prstGeom prst="line">
            <a:avLst/>
          </a:prstGeom>
          <a:ln w="50760">
            <a:solidFill>
              <a:srgbClr val="ff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72000" y="3887640"/>
            <a:ext cx="22860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807160" y="3887640"/>
            <a:ext cx="22860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962520" y="5257800"/>
            <a:ext cx="2971800" cy="0"/>
          </a:xfrm>
          <a:prstGeom prst="line">
            <a:avLst/>
          </a:prstGeom>
          <a:ln w="50760">
            <a:solidFill>
              <a:srgbClr val="00cc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6200" y="514368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72000" y="514368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181480" y="514368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791320" y="514368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400800" y="514368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80880" y="2286000"/>
            <a:ext cx="8382240" cy="1447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plementing these 3 sched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80880" y="3809880"/>
            <a:ext cx="838224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80880" y="5029200"/>
            <a:ext cx="838224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070760" y="19242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696080" y="19242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8229600" y="19242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102440" y="3887640"/>
            <a:ext cx="22860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8305920" y="3886200"/>
            <a:ext cx="22860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21F57-9407-4A7B-93D6-02AD5413444D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14CAB8-AD71-4D08-89EA-54AC2BA43AD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other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57200" y="2514600"/>
            <a:ext cx="84582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peatSchedule=[Schedule createBegin: zone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repeatSchedule setRepeatInterval: 3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peatSchedule=[repeatSchedule createEnd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repeatSchedule at: 0 createActionTo: firm message:M(do)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ainSchedule=[Schedule createBegin: zone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mainSchedule at:20 createActionTo: repeatSchedul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essage: M(activateIn:):aSwarm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mainSchedule activateIn: aSwarm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47640" y="5659560"/>
            <a:ext cx="7620120" cy="0"/>
          </a:xfrm>
          <a:prstGeom prst="line">
            <a:avLst/>
          </a:prstGeom>
          <a:ln w="50760">
            <a:solidFill>
              <a:srgbClr val="ff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84080" y="555300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828800" y="556272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294920" y="5715000"/>
            <a:ext cx="12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firm do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765520" y="555300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809880" y="556272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46600" y="555300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791320" y="556272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727680" y="555300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772400" y="556272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190760" y="5715000"/>
            <a:ext cx="12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firm do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394040" y="5715000"/>
            <a:ext cx="12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firm do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49080" y="51260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16120" y="51260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630520" y="51260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697200" y="51260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611600" y="51260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8280" y="51260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592680" y="51260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7659720" y="51260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816480" y="1641600"/>
            <a:ext cx="7477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rpose: A schedule which executes the “do” method on 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 called “firm” every 3 periods, starting at t=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93CB0-1A7B-4BFD-9762-8DF5E296AA6B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EEC5A8-4BB8-424B-82A3-AAB51298BD0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tionGrou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Groups group together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ction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agen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lang="en-US" sz="2800" spc="-1" strike="noStrike">
                <a:solidFill>
                  <a:srgbClr val="008000"/>
                </a:solidFill>
                <a:latin typeface="Times New Roman"/>
              </a:rPr>
              <a:t>collection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hich should happen at same time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te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04920" y="2743200"/>
            <a:ext cx="85122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ctionGroup=[ActionGroup createBegin: zone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ctionGroup createEnd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ctionGroup createActionTo: </a:t>
            </a:r>
            <a:r>
              <a:rPr b="0" lang="en-US" sz="1800" spc="-1" strike="noStrike">
                <a:solidFill>
                  <a:srgbClr val="00cc99"/>
                </a:solidFill>
                <a:latin typeface="Courier New"/>
              </a:rPr>
              <a:t>agent1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message: M(</a:t>
            </a:r>
            <a:r>
              <a:rPr b="0" lang="en-US" sz="1800" spc="-1" strike="noStrike">
                <a:solidFill>
                  <a:srgbClr val="ff3300"/>
                </a:solidFill>
                <a:latin typeface="Courier New"/>
              </a:rPr>
              <a:t>youDo1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ctionGroup createActionTo: </a:t>
            </a:r>
            <a:r>
              <a:rPr b="0" lang="en-US" sz="1800" spc="-1" strike="noStrike">
                <a:solidFill>
                  <a:srgbClr val="00cc99"/>
                </a:solidFill>
                <a:latin typeface="Courier New"/>
              </a:rPr>
              <a:t>agent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message: M(</a:t>
            </a:r>
            <a:r>
              <a:rPr b="0" lang="en-US" sz="1800" spc="-1" strike="noStrike">
                <a:solidFill>
                  <a:srgbClr val="ff3300"/>
                </a:solidFill>
                <a:latin typeface="Courier New"/>
              </a:rPr>
              <a:t>youDo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ctionGroup createActionForEach: </a:t>
            </a:r>
            <a:r>
              <a:rPr b="0" lang="en-US" sz="1800" spc="-1" strike="noStrike">
                <a:solidFill>
                  <a:srgbClr val="008000"/>
                </a:solidFill>
                <a:latin typeface="Courier New"/>
              </a:rPr>
              <a:t>group1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message: M(</a:t>
            </a:r>
            <a:r>
              <a:rPr b="0" lang="en-US" sz="1800" spc="-1" strike="noStrike">
                <a:solidFill>
                  <a:srgbClr val="ff3300"/>
                </a:solidFill>
                <a:latin typeface="Courier New"/>
              </a:rPr>
              <a:t>allDo1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ctionGroup createActionForEach: </a:t>
            </a:r>
            <a:r>
              <a:rPr b="0" lang="en-US" sz="1800" spc="-1" strike="noStrike">
                <a:solidFill>
                  <a:srgbClr val="008000"/>
                </a:solidFill>
                <a:latin typeface="Courier New"/>
              </a:rPr>
              <a:t>group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message: M(</a:t>
            </a:r>
            <a:r>
              <a:rPr b="0" lang="en-US" sz="1800" spc="-1" strike="noStrike">
                <a:solidFill>
                  <a:srgbClr val="ff3300"/>
                </a:solidFill>
                <a:latin typeface="Courier New"/>
              </a:rPr>
              <a:t>allDo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schedule at: </a:t>
            </a:r>
            <a:r>
              <a:rPr b="0" lang="en-US" sz="1800" spc="-1" strike="noStrike">
                <a:solidFill>
                  <a:srgbClr val="3333cc"/>
                </a:solidFill>
                <a:latin typeface="Courier New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createAction: actionGroup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209680" y="548640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952880" y="4952880"/>
            <a:ext cx="9907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267080" y="3276720"/>
            <a:ext cx="99072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267080" y="3809880"/>
            <a:ext cx="99072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477120" y="3276720"/>
            <a:ext cx="12952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477120" y="3809880"/>
            <a:ext cx="12952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162920" y="4952880"/>
            <a:ext cx="12952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7162920" y="4419720"/>
            <a:ext cx="12952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952880" y="4419720"/>
            <a:ext cx="9907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86501-BA19-498B-A549-6576BFD90ED5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7DEDC0-120A-404F-924F-92C0DC9617F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ynamic Schedul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274560" y="4191120"/>
            <a:ext cx="3693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growthSchedule at: time+interv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ateActionTo: foodSp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: M(putValue:atX:Y:):1:x:y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666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can use dynamic scheduling to  schedule regrowth of food at future timestep after food is eaten by Simplebu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7772400" y="3048120"/>
            <a:ext cx="888840" cy="85392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848720" y="1981080"/>
            <a:ext cx="723960" cy="7239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238880" y="4267080"/>
            <a:ext cx="1600200" cy="1295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705720" y="5257800"/>
            <a:ext cx="812520" cy="8143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858000" y="5334120"/>
            <a:ext cx="357120" cy="239760"/>
          </a:xfrm>
          <a:prstGeom prst="line">
            <a:avLst/>
          </a:prstGeom>
          <a:noFill/>
          <a:ln w="604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7162920" y="5638680"/>
            <a:ext cx="395280" cy="1800"/>
          </a:xfrm>
          <a:prstGeom prst="line">
            <a:avLst/>
          </a:prstGeom>
          <a:noFill/>
          <a:ln w="604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429000" y="2209680"/>
            <a:ext cx="320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foodSpace eatX: xPos Y: yPos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1240" y="3124080"/>
            <a:ext cx="367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self putValue: 0 atX: x Y: y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model scheduleGrowthAtX: x Y: y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70" idx="4"/>
            <a:endCxn id="269" idx="0"/>
          </p:cNvCxnSpPr>
          <p:nvPr/>
        </p:nvCxnSpPr>
        <p:spPr>
          <a:xfrm>
            <a:off x="8210520" y="2704680"/>
            <a:ext cx="7200" cy="343800"/>
          </a:xfrm>
          <a:prstGeom prst="straightConnector1">
            <a:avLst/>
          </a:prstGeom>
          <a:ln w="5724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278" name=""/>
          <p:cNvCxnSpPr>
            <a:stCxn id="269" idx="2"/>
            <a:endCxn id="271" idx="0"/>
          </p:cNvCxnSpPr>
          <p:nvPr/>
        </p:nvCxnSpPr>
        <p:spPr>
          <a:xfrm flipH="1">
            <a:off x="8039160" y="3902040"/>
            <a:ext cx="178200" cy="365760"/>
          </a:xfrm>
          <a:prstGeom prst="straightConnector1">
            <a:avLst/>
          </a:prstGeom>
          <a:ln w="5724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279" name=""/>
          <p:cNvCxnSpPr>
            <a:stCxn id="272" idx="0"/>
            <a:endCxn id="269" idx="1"/>
          </p:cNvCxnSpPr>
          <p:nvPr/>
        </p:nvCxnSpPr>
        <p:spPr>
          <a:xfrm flipH="1" flipV="1" rot="5400000">
            <a:off x="6550560" y="4035960"/>
            <a:ext cx="1783440" cy="660600"/>
          </a:xfrm>
          <a:prstGeom prst="bentConnector2">
            <a:avLst/>
          </a:prstGeom>
          <a:ln w="5724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280" name=""/>
          <p:cNvCxnSpPr>
            <a:stCxn id="271" idx="4"/>
            <a:endCxn id="272" idx="5"/>
          </p:cNvCxnSpPr>
          <p:nvPr/>
        </p:nvCxnSpPr>
        <p:spPr>
          <a:xfrm rot="5400000">
            <a:off x="7523280" y="5437800"/>
            <a:ext cx="390960" cy="640440"/>
          </a:xfrm>
          <a:prstGeom prst="bentConnector3">
            <a:avLst>
              <a:gd name="adj1" fmla="val 159723"/>
            </a:avLst>
          </a:prstGeom>
          <a:ln w="57240">
            <a:solidFill>
              <a:srgbClr val="808080"/>
            </a:solidFill>
            <a:miter/>
            <a:tailEnd len="med" type="triangle" w="med"/>
          </a:ln>
        </p:spPr>
      </p:cxnSp>
      <p:sp>
        <p:nvSpPr>
          <p:cNvPr id="281" name=""/>
          <p:cNvSpPr/>
          <p:nvPr/>
        </p:nvSpPr>
        <p:spPr>
          <a:xfrm>
            <a:off x="3352680" y="4267080"/>
            <a:ext cx="3657600" cy="99072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429000" y="3048120"/>
            <a:ext cx="3581280" cy="761760"/>
          </a:xfrm>
          <a:prstGeom prst="rect">
            <a:avLst/>
          </a:prstGeom>
          <a:noFill/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429000" y="2209680"/>
            <a:ext cx="3581280" cy="381240"/>
          </a:xfrm>
          <a:prstGeom prst="rect">
            <a:avLst/>
          </a:prstGeom>
          <a:noFill/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131F2-E81F-4671-B05E-455F60ADD97B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D3E754-F5F5-4108-9244-B8BDDB1F0F8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hedule activ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Schedule has to be activated in a Swarm, otherwise it will not do anyth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b-swarms are activated in top-level Swarm and then schedules in each Swa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638680" y="2209680"/>
            <a:ext cx="2975040" cy="144792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7" name=""/>
          <p:cNvGrpSpPr/>
          <p:nvPr/>
        </p:nvGrpSpPr>
        <p:grpSpPr>
          <a:xfrm>
            <a:off x="7696080" y="2666880"/>
            <a:ext cx="650880" cy="657360"/>
            <a:chOff x="7696080" y="2666880"/>
            <a:chExt cx="650880" cy="657360"/>
          </a:xfrm>
        </p:grpSpPr>
        <p:sp>
          <p:nvSpPr>
            <p:cNvPr id="288" name=""/>
            <p:cNvSpPr/>
            <p:nvPr/>
          </p:nvSpPr>
          <p:spPr>
            <a:xfrm>
              <a:off x="7696080" y="2673360"/>
              <a:ext cx="650880" cy="6508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8011800" y="2666880"/>
              <a:ext cx="308160" cy="341280"/>
            </a:xfrm>
            <a:custGeom>
              <a:avLst/>
              <a:gdLst/>
              <a:ahLst/>
              <a:rect l="l" t="t" r="r" b="b"/>
              <a:pathLst>
                <a:path w="194" h="215">
                  <a:moveTo>
                    <a:pt x="0" y="0"/>
                  </a:moveTo>
                  <a:lnTo>
                    <a:pt x="0" y="214"/>
                  </a:lnTo>
                  <a:lnTo>
                    <a:pt x="193" y="10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0" name=""/>
          <p:cNvSpPr/>
          <p:nvPr/>
        </p:nvSpPr>
        <p:spPr>
          <a:xfrm>
            <a:off x="4419720" y="4038480"/>
            <a:ext cx="2501640" cy="112716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641840" y="4446720"/>
            <a:ext cx="441360" cy="441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248520" y="4419720"/>
            <a:ext cx="139680" cy="1346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638680" y="4495680"/>
            <a:ext cx="13824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019920" y="4648320"/>
            <a:ext cx="139680" cy="1378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334120" y="4267080"/>
            <a:ext cx="137880" cy="13356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410080" y="4952880"/>
            <a:ext cx="2502000" cy="116208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715000" y="5562720"/>
            <a:ext cx="139680" cy="1396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324480" y="5715000"/>
            <a:ext cx="13824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7010280" y="5715000"/>
            <a:ext cx="13968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095880" y="5334120"/>
            <a:ext cx="138240" cy="1378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629400" y="5562720"/>
            <a:ext cx="138240" cy="1378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flipH="1">
            <a:off x="4754520" y="3182760"/>
            <a:ext cx="2176560" cy="1003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915240" y="3182760"/>
            <a:ext cx="15840" cy="1428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334120" y="4876920"/>
            <a:ext cx="7596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085880" y="4191120"/>
            <a:ext cx="1625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-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341960" y="3200400"/>
            <a:ext cx="1303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635360" y="4457880"/>
            <a:ext cx="324000" cy="222120"/>
          </a:xfrm>
          <a:custGeom>
            <a:avLst/>
            <a:gdLst/>
            <a:ahLst/>
            <a:rect l="l" t="t" r="r" b="b"/>
            <a:pathLst>
              <a:path w="204" h="140">
                <a:moveTo>
                  <a:pt x="0" y="86"/>
                </a:moveTo>
                <a:lnTo>
                  <a:pt x="150" y="139"/>
                </a:lnTo>
                <a:lnTo>
                  <a:pt x="203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172200" y="2666880"/>
            <a:ext cx="139680" cy="1396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858000" y="2666880"/>
            <a:ext cx="13824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7391520" y="2895480"/>
            <a:ext cx="13968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629400" y="2971800"/>
            <a:ext cx="13824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238880" y="2438280"/>
            <a:ext cx="13824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 flipH="1" flipV="1">
            <a:off x="5333760" y="4876560"/>
            <a:ext cx="144756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934320" y="5105520"/>
            <a:ext cx="441360" cy="441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927840" y="5116680"/>
            <a:ext cx="324000" cy="222120"/>
          </a:xfrm>
          <a:custGeom>
            <a:avLst/>
            <a:gdLst/>
            <a:ahLst/>
            <a:rect l="l" t="t" r="r" b="b"/>
            <a:pathLst>
              <a:path w="204" h="140">
                <a:moveTo>
                  <a:pt x="0" y="86"/>
                </a:moveTo>
                <a:lnTo>
                  <a:pt x="150" y="139"/>
                </a:lnTo>
                <a:lnTo>
                  <a:pt x="203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504600" y="5638680"/>
            <a:ext cx="2151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-sub-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104800" y="1828800"/>
            <a:ext cx="1616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p 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8" name=""/>
          <p:cNvCxnSpPr>
            <a:stCxn id="306" idx="1"/>
            <a:endCxn id="291" idx="1"/>
          </p:cNvCxnSpPr>
          <p:nvPr/>
        </p:nvCxnSpPr>
        <p:spPr>
          <a:xfrm flipH="1" flipV="1" rot="10800000">
            <a:off x="4343040" y="3427920"/>
            <a:ext cx="364320" cy="1083240"/>
          </a:xfrm>
          <a:prstGeom prst="curvedConnector5">
            <a:avLst>
              <a:gd name="adj1" fmla="val -62809"/>
              <a:gd name="adj2" fmla="val 28789"/>
              <a:gd name="adj3" fmla="val -6280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ECCF5-FB7E-4737-AAAB-4C648F6456A3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A788C3-8A25-48CD-BD11-58562817D3C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tivating Schedules &amp; Swa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659400" y="2133720"/>
            <a:ext cx="18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809880" y="2133720"/>
            <a:ext cx="5029200" cy="39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observerSwarm activateIn: nil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activateIn: (id) swarmContex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super activateIn: swarmContext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displaySchedule activateIn:self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modelSwarm activateIn: self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[self getSwarmActivity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activateIn: (id) swarmContex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super activateIn: swarmContext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modelSchedule activateIn:self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[self getSwarmActivity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733920" y="4648320"/>
            <a:ext cx="5105160" cy="1523880"/>
          </a:xfrm>
          <a:prstGeom prst="rect">
            <a:avLst/>
          </a:prstGeom>
          <a:noFill/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733920" y="2590920"/>
            <a:ext cx="5105160" cy="190476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733920" y="2133720"/>
            <a:ext cx="5105160" cy="3808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066680" y="4800600"/>
            <a:ext cx="1905120" cy="990720"/>
          </a:xfrm>
          <a:prstGeom prst="ellipse">
            <a:avLst/>
          </a:prstGeom>
          <a:solidFill>
            <a:srgbClr val="008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219320" y="5181480"/>
            <a:ext cx="139680" cy="1396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828800" y="5334120"/>
            <a:ext cx="138240" cy="1378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133720" y="5334120"/>
            <a:ext cx="139680" cy="1378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600200" y="4952880"/>
            <a:ext cx="138240" cy="13824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371600" y="5334120"/>
            <a:ext cx="138240" cy="1378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286000" y="4952880"/>
            <a:ext cx="441360" cy="441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286000" y="4952880"/>
            <a:ext cx="324000" cy="222480"/>
          </a:xfrm>
          <a:custGeom>
            <a:avLst/>
            <a:gdLst/>
            <a:ahLst/>
            <a:rect l="l" t="t" r="r" b="b"/>
            <a:pathLst>
              <a:path w="204" h="140">
                <a:moveTo>
                  <a:pt x="0" y="86"/>
                </a:moveTo>
                <a:lnTo>
                  <a:pt x="150" y="139"/>
                </a:lnTo>
                <a:lnTo>
                  <a:pt x="203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066680" y="3124080"/>
            <a:ext cx="1905120" cy="99072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3276720"/>
            <a:ext cx="441360" cy="441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286000" y="3276720"/>
            <a:ext cx="324000" cy="222120"/>
          </a:xfrm>
          <a:custGeom>
            <a:avLst/>
            <a:gdLst/>
            <a:ahLst/>
            <a:rect l="l" t="t" r="r" b="b"/>
            <a:pathLst>
              <a:path w="204" h="140">
                <a:moveTo>
                  <a:pt x="0" y="86"/>
                </a:moveTo>
                <a:lnTo>
                  <a:pt x="150" y="139"/>
                </a:lnTo>
                <a:lnTo>
                  <a:pt x="203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509840" y="2019240"/>
            <a:ext cx="914400" cy="685800"/>
          </a:xfrm>
          <a:prstGeom prst="flowChartDocumen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371600" y="3352680"/>
            <a:ext cx="304920" cy="533520"/>
          </a:xfrm>
          <a:prstGeom prst="rect">
            <a:avLst/>
          </a:prstGeom>
          <a:solidFill>
            <a:srgbClr val="b2b2b2"/>
          </a:solidFill>
          <a:ln w="0">
            <a:noFill/>
          </a:ln>
          <a:effectLst>
            <a:outerShdw dist="153753" dir="2700000" blurRad="0" rotWithShape="0">
              <a:srgbClr val="6a6a6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828800" y="3429000"/>
            <a:ext cx="304920" cy="533520"/>
          </a:xfrm>
          <a:prstGeom prst="rect">
            <a:avLst/>
          </a:prstGeom>
          <a:solidFill>
            <a:srgbClr val="b2b2b2"/>
          </a:solidFill>
          <a:ln w="0">
            <a:noFill/>
          </a:ln>
          <a:effectLst>
            <a:outerShdw dist="153753" dir="2700000" blurRad="0" rotWithShape="0">
              <a:srgbClr val="6a6a6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9" name=""/>
          <p:cNvCxnSpPr>
            <a:stCxn id="336" idx="2"/>
            <a:endCxn id="333" idx="0"/>
          </p:cNvCxnSpPr>
          <p:nvPr/>
        </p:nvCxnSpPr>
        <p:spPr>
          <a:xfrm>
            <a:off x="1966680" y="2666880"/>
            <a:ext cx="5292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0" name=""/>
          <p:cNvCxnSpPr>
            <a:stCxn id="333" idx="4"/>
            <a:endCxn id="325" idx="0"/>
          </p:cNvCxnSpPr>
          <p:nvPr/>
        </p:nvCxnSpPr>
        <p:spPr>
          <a:xfrm>
            <a:off x="2018880" y="4114440"/>
            <a:ext cx="1080" cy="68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41" name=""/>
          <p:cNvSpPr/>
          <p:nvPr/>
        </p:nvSpPr>
        <p:spPr>
          <a:xfrm>
            <a:off x="2287080" y="4038480"/>
            <a:ext cx="129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286720" y="5791320"/>
            <a:ext cx="97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656B1-6AD9-4821-944F-90448B815922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57E4AE-5EBF-489A-BE40-9C26F2D3F9C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rd ses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on Swarm libra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llection: Lists, Arrays, Sorted li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: Random numb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alysis: Graphs, Histograms and data fil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ace: Lattice cla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vity: Schedules and ActivityGrou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5B8BB-C607-4996-8799-A6F6C81E1CF7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534B19-5685-43DC-B6C5-4952DC5135A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jor Random 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276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Random library can be divided i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lling initSwarm in main creates a default generator and distrib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43400" y="3200400"/>
            <a:ext cx="1447920" cy="1000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962520" y="4419720"/>
            <a:ext cx="533160" cy="368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572000" y="4419720"/>
            <a:ext cx="533520" cy="368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638680" y="4419720"/>
            <a:ext cx="533520" cy="368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108040" y="4191120"/>
            <a:ext cx="56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0" name=""/>
          <p:cNvCxnSpPr>
            <a:stCxn id="345" idx="1"/>
            <a:endCxn id="346" idx="0"/>
          </p:cNvCxnSpPr>
          <p:nvPr/>
        </p:nvCxnSpPr>
        <p:spPr>
          <a:xfrm flipV="1" rot="10800000">
            <a:off x="4228560" y="3700080"/>
            <a:ext cx="114840" cy="7200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1" name=""/>
          <p:cNvCxnSpPr>
            <a:stCxn id="345" idx="3"/>
            <a:endCxn id="348" idx="0"/>
          </p:cNvCxnSpPr>
          <p:nvPr/>
        </p:nvCxnSpPr>
        <p:spPr>
          <a:xfrm>
            <a:off x="5790960" y="3700440"/>
            <a:ext cx="114840" cy="7200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52" name=""/>
          <p:cNvSpPr/>
          <p:nvPr/>
        </p:nvSpPr>
        <p:spPr>
          <a:xfrm>
            <a:off x="6934320" y="3200400"/>
            <a:ext cx="1447560" cy="1000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trib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553080" y="4419720"/>
            <a:ext cx="533520" cy="368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7162920" y="4419720"/>
            <a:ext cx="533160" cy="368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8229600" y="4419720"/>
            <a:ext cx="533520" cy="368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7698600" y="4191120"/>
            <a:ext cx="56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7" name=""/>
          <p:cNvCxnSpPr>
            <a:stCxn id="352" idx="1"/>
            <a:endCxn id="353" idx="0"/>
          </p:cNvCxnSpPr>
          <p:nvPr/>
        </p:nvCxnSpPr>
        <p:spPr>
          <a:xfrm flipV="1" rot="10800000">
            <a:off x="6819120" y="3700080"/>
            <a:ext cx="115200" cy="7200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8" name=""/>
          <p:cNvCxnSpPr>
            <a:stCxn id="352" idx="3"/>
            <a:endCxn id="355" idx="0"/>
          </p:cNvCxnSpPr>
          <p:nvPr/>
        </p:nvCxnSpPr>
        <p:spPr>
          <a:xfrm>
            <a:off x="8381880" y="3700440"/>
            <a:ext cx="115200" cy="7200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59" name=""/>
          <p:cNvSpPr/>
          <p:nvPr/>
        </p:nvSpPr>
        <p:spPr>
          <a:xfrm>
            <a:off x="5638680" y="1981080"/>
            <a:ext cx="1447920" cy="100512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60" name=""/>
          <p:cNvCxnSpPr>
            <a:stCxn id="359" idx="1"/>
            <a:endCxn id="345" idx="0"/>
          </p:cNvCxnSpPr>
          <p:nvPr/>
        </p:nvCxnSpPr>
        <p:spPr>
          <a:xfrm flipV="1" rot="10800000">
            <a:off x="5066640" y="2483280"/>
            <a:ext cx="572040" cy="716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1" name=""/>
          <p:cNvCxnSpPr>
            <a:stCxn id="359" idx="3"/>
            <a:endCxn id="352" idx="0"/>
          </p:cNvCxnSpPr>
          <p:nvPr/>
        </p:nvCxnSpPr>
        <p:spPr>
          <a:xfrm>
            <a:off x="7086600" y="2484000"/>
            <a:ext cx="572400" cy="716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"/>
          <p:cNvCxnSpPr>
            <a:stCxn id="345" idx="2"/>
            <a:endCxn id="347" idx="0"/>
          </p:cNvCxnSpPr>
          <p:nvPr/>
        </p:nvCxnSpPr>
        <p:spPr>
          <a:xfrm flipH="1">
            <a:off x="4838040" y="4200120"/>
            <a:ext cx="229320" cy="219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3" name=""/>
          <p:cNvCxnSpPr>
            <a:stCxn id="352" idx="2"/>
            <a:endCxn id="354" idx="0"/>
          </p:cNvCxnSpPr>
          <p:nvPr/>
        </p:nvCxnSpPr>
        <p:spPr>
          <a:xfrm flipH="1">
            <a:off x="7428960" y="4200120"/>
            <a:ext cx="229320" cy="219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F0AB6-BB42-4668-AD49-EA387A35AED6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898F89-2922-438E-AB82-DB31ADCA0C7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inciple of using Random li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draw random numbers from a distribution you’ll ne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generator in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st provide random seed - an integer number which primes the gen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distribution in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6019920" y="2514600"/>
            <a:ext cx="1447560" cy="1000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019920" y="4038480"/>
            <a:ext cx="1447560" cy="1000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785480" y="2779560"/>
            <a:ext cx="93528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se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648320" y="5410080"/>
            <a:ext cx="380988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equence of numb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0" name=""/>
          <p:cNvCxnSpPr>
            <a:stCxn id="366" idx="2"/>
            <a:endCxn id="367" idx="0"/>
          </p:cNvCxnSpPr>
          <p:nvPr/>
        </p:nvCxnSpPr>
        <p:spPr>
          <a:xfrm>
            <a:off x="6743520" y="3514320"/>
            <a:ext cx="108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1" name=""/>
          <p:cNvCxnSpPr>
            <a:stCxn id="368" idx="3"/>
            <a:endCxn id="366" idx="1"/>
          </p:cNvCxnSpPr>
          <p:nvPr/>
        </p:nvCxnSpPr>
        <p:spPr>
          <a:xfrm>
            <a:off x="5726160" y="3013200"/>
            <a:ext cx="29448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705720" y="5029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F385D-B66E-4405-8450-1F0A9CCC3E22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E971F3-0717-4EAA-B400-99011AD424F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fault distribu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calling initSwarm in main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ree default distributio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generated, fed by 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fault gener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can’t control this generator’s seed, but can give command line ar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rySeed: New seed every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wise always s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419720" y="3276720"/>
            <a:ext cx="1447560" cy="1000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T1993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324480" y="2133720"/>
            <a:ext cx="1447920" cy="1000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324480" y="3276720"/>
            <a:ext cx="1447920" cy="1000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sig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324480" y="4419720"/>
            <a:ext cx="1447920" cy="1000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75" idx="0"/>
            <a:endCxn id="376" idx="1"/>
          </p:cNvCxnSpPr>
          <p:nvPr/>
        </p:nvCxnSpPr>
        <p:spPr>
          <a:xfrm flipH="1" flipV="1" rot="5400000">
            <a:off x="5412600" y="2364840"/>
            <a:ext cx="643320" cy="1181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80" name=""/>
          <p:cNvCxnSpPr>
            <a:stCxn id="375" idx="0"/>
            <a:endCxn id="377" idx="1"/>
          </p:cNvCxnSpPr>
          <p:nvPr/>
        </p:nvCxnSpPr>
        <p:spPr>
          <a:xfrm flipH="1" rot="16200000">
            <a:off x="5483880" y="2935080"/>
            <a:ext cx="500760" cy="1181520"/>
          </a:xfrm>
          <a:prstGeom prst="bentConnector4">
            <a:avLst>
              <a:gd name="adj1" fmla="val -45683"/>
              <a:gd name="adj2" fmla="val 8061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81" name=""/>
          <p:cNvCxnSpPr>
            <a:stCxn id="375" idx="0"/>
            <a:endCxn id="378" idx="1"/>
          </p:cNvCxnSpPr>
          <p:nvPr/>
        </p:nvCxnSpPr>
        <p:spPr>
          <a:xfrm flipH="1" rot="16200000">
            <a:off x="4912560" y="3507480"/>
            <a:ext cx="1643760" cy="1181520"/>
          </a:xfrm>
          <a:prstGeom prst="bentConnector4">
            <a:avLst>
              <a:gd name="adj1" fmla="val -13910"/>
              <a:gd name="adj2" fmla="val 8061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C2E73-EC9F-4E95-9872-C9D63FE2694F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38DDE2-550E-4D9A-BDAB-9AC9DF1CEBA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the default distribu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ault distributions are globa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call any distribution from any agen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uld feed own distribution from genera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a double in interval [minVal,maxVal]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uniformDblRand getDoubleWithMin: minVal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withMax: maxVal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an integer in interval [minVal,maxVal]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uniformIntRand getIntegerWithMin: minVal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withMax:maxVal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B7D94-A3BB-409B-B6AD-475FDDA1C0FE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1004DF-E8E9-4FCA-95F6-E5E0FBD13B0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6477120" y="2411280"/>
            <a:ext cx="1828800" cy="45720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Random Number Generato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962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uters can’t create real random numb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se generators represent a large number of studies of pseudo RN gen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le of thumb: Choose well tested generator which has a long peri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800600" y="2487240"/>
            <a:ext cx="17524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2LCG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2MRG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2TA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3MW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4LCG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C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708600" y="2438280"/>
            <a:ext cx="15004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T199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W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WC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MMLC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SW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WC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WC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GFS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76920" y="2057400"/>
            <a:ext cx="30477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802040" y="1981080"/>
            <a:ext cx="390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ors in Swarm lib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A43BD-CCDE-4D1A-8E79-3E601E5DF630}" type="slidenum">
              <a:t>24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0142A3-45FA-4CC9-A29C-8A57367F6B0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distribu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495320" y="1981080"/>
            <a:ext cx="3962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need setGenera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.and parameter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Bernoull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Probability: 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xponent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Me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Normal/LogNo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Variance, setMe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Gam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Alpha, setBe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9140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trib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rnoulliD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onentialD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mmaD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NormalD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rmalD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BitD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formDoubleD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formIntegerD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formUnsignedD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17524-B3CC-4D33-9287-369A42E3D194}" type="slidenum">
              <a:t>2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80FA67-85F4-4281-98AC-289C341930F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jor Probe 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1371600" y="3124080"/>
            <a:ext cx="1454040" cy="10098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562720" y="3276720"/>
            <a:ext cx="1454040" cy="10094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562720" y="4495680"/>
            <a:ext cx="1454040" cy="10098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le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7162920" y="4495680"/>
            <a:ext cx="1454040" cy="10098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le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962520" y="4495680"/>
            <a:ext cx="1454040" cy="10098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ust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286000" y="4495680"/>
            <a:ext cx="1454040" cy="10098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33520" y="4495680"/>
            <a:ext cx="1454040" cy="10098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r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429000" y="2057400"/>
            <a:ext cx="1454040" cy="10065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3" name=""/>
          <p:cNvCxnSpPr>
            <a:stCxn id="402" idx="1"/>
            <a:endCxn id="395" idx="0"/>
          </p:cNvCxnSpPr>
          <p:nvPr/>
        </p:nvCxnSpPr>
        <p:spPr>
          <a:xfrm flipV="1" rot="10800000">
            <a:off x="2098080" y="2559600"/>
            <a:ext cx="133092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4" name=""/>
          <p:cNvCxnSpPr>
            <a:stCxn id="402" idx="3"/>
            <a:endCxn id="396" idx="0"/>
          </p:cNvCxnSpPr>
          <p:nvPr/>
        </p:nvCxnSpPr>
        <p:spPr>
          <a:xfrm>
            <a:off x="4882680" y="2560320"/>
            <a:ext cx="1407240" cy="716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5" name=""/>
          <p:cNvCxnSpPr>
            <a:stCxn id="395" idx="1"/>
            <a:endCxn id="401" idx="0"/>
          </p:cNvCxnSpPr>
          <p:nvPr/>
        </p:nvCxnSpPr>
        <p:spPr>
          <a:xfrm flipV="1" rot="10800000">
            <a:off x="1259640" y="3628080"/>
            <a:ext cx="111960" cy="867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6" name=""/>
          <p:cNvCxnSpPr>
            <a:stCxn id="395" idx="3"/>
            <a:endCxn id="400" idx="0"/>
          </p:cNvCxnSpPr>
          <p:nvPr/>
        </p:nvCxnSpPr>
        <p:spPr>
          <a:xfrm>
            <a:off x="2825280" y="3628800"/>
            <a:ext cx="188280" cy="867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7" name=""/>
          <p:cNvCxnSpPr>
            <a:stCxn id="396" idx="1"/>
            <a:endCxn id="399" idx="0"/>
          </p:cNvCxnSpPr>
          <p:nvPr/>
        </p:nvCxnSpPr>
        <p:spPr>
          <a:xfrm flipV="1" rot="10800000">
            <a:off x="4688640" y="3781080"/>
            <a:ext cx="874080" cy="714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8" name=""/>
          <p:cNvCxnSpPr>
            <a:stCxn id="396" idx="3"/>
            <a:endCxn id="398" idx="0"/>
          </p:cNvCxnSpPr>
          <p:nvPr/>
        </p:nvCxnSpPr>
        <p:spPr>
          <a:xfrm>
            <a:off x="7016400" y="3781440"/>
            <a:ext cx="873720" cy="714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9" name=""/>
          <p:cNvCxnSpPr>
            <a:stCxn id="396" idx="2"/>
            <a:endCxn id="397" idx="0"/>
          </p:cNvCxnSpPr>
          <p:nvPr/>
        </p:nvCxnSpPr>
        <p:spPr>
          <a:xfrm flipV="1" rot="10800000">
            <a:off x="6288840" y="4285800"/>
            <a:ext cx="1080" cy="210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10" name=""/>
          <p:cNvSpPr/>
          <p:nvPr/>
        </p:nvSpPr>
        <p:spPr>
          <a:xfrm>
            <a:off x="7010280" y="1981080"/>
            <a:ext cx="1454400" cy="10098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EFAC8-C5F6-46EA-B6F6-D77112AC7C73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EF8022-BDFF-4671-A493-0274E1270ED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prob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major uses for prob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interface with an objec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create a GUI to a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face with an object of two typ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Probe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Probes an instance var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Probe:    Probes a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UI utiliti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Map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Collection of Var and Message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B39A3-45AE-4B88-9A50-D3DA76B8DD55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47AB40-18DF-46B7-B1A3-8EB6BFF17E7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raphical probes to ag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 out instance of EmtpyProbeMa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ach VarProbe or MessageProbe to each variable or message to appear on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 each probe on the EmptyProbe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DisplayManager  asked to create wid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257800" y="5105520"/>
            <a:ext cx="2895480" cy="99036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105520" y="3886200"/>
            <a:ext cx="30456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724280" y="3581280"/>
            <a:ext cx="990720" cy="9907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105520" y="2971800"/>
            <a:ext cx="30456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095880" y="388620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5715000" y="3352680"/>
            <a:ext cx="990720" cy="9907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5410080" y="289548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963960" y="4648320"/>
            <a:ext cx="146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162920" y="3886200"/>
            <a:ext cx="30456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781680" y="3276720"/>
            <a:ext cx="990720" cy="99036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943600" y="297180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876920" y="2209680"/>
            <a:ext cx="1904760" cy="14479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5029200" y="2438280"/>
            <a:ext cx="8380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4952880" y="3124080"/>
            <a:ext cx="16765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867280" y="2286000"/>
            <a:ext cx="685800" cy="304920"/>
          </a:xfrm>
          <a:prstGeom prst="rect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029200" y="2819520"/>
            <a:ext cx="8380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867280" y="2666880"/>
            <a:ext cx="685800" cy="304920"/>
          </a:xfrm>
          <a:prstGeom prst="rect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6858360" y="213372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Pro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3" name=""/>
          <p:cNvCxnSpPr>
            <a:stCxn id="422" idx="0"/>
            <a:endCxn id="417" idx="2"/>
          </p:cNvCxnSpPr>
          <p:nvPr/>
        </p:nvCxnSpPr>
        <p:spPr>
          <a:xfrm flipH="1" flipV="1" rot="5400000">
            <a:off x="4425480" y="4349520"/>
            <a:ext cx="572400" cy="259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4" name=""/>
          <p:cNvCxnSpPr>
            <a:stCxn id="422" idx="2"/>
            <a:endCxn id="420" idx="4"/>
          </p:cNvCxnSpPr>
          <p:nvPr/>
        </p:nvCxnSpPr>
        <p:spPr>
          <a:xfrm flipH="1" flipV="1" rot="5400000">
            <a:off x="5073480" y="3968280"/>
            <a:ext cx="762840" cy="1512000"/>
          </a:xfrm>
          <a:prstGeom prst="curvedConnector5">
            <a:avLst>
              <a:gd name="adj1" fmla="val -29981"/>
              <a:gd name="adj2" fmla="val 49988"/>
              <a:gd name="adj3" fmla="val -2998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5" name=""/>
          <p:cNvCxnSpPr>
            <a:stCxn id="432" idx="2"/>
            <a:endCxn id="424" idx="7"/>
          </p:cNvCxnSpPr>
          <p:nvPr/>
        </p:nvCxnSpPr>
        <p:spPr>
          <a:xfrm rot="5400000">
            <a:off x="7317720" y="2900520"/>
            <a:ext cx="830880" cy="211680"/>
          </a:xfrm>
          <a:prstGeom prst="curvedConnector5">
            <a:avLst>
              <a:gd name="adj1" fmla="val 41265"/>
              <a:gd name="adj2" fmla="val 49914"/>
              <a:gd name="adj3" fmla="val 412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4192200" y="1981080"/>
            <a:ext cx="145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DA0F8-28E9-4DF7-AFC3-35E2CA01AA02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C35EB7-7A66-4C08-9313-1D50FA27972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de for previous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obeMap=[EmptyProbeMap createBegin: aZon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probeMap setProbedClass: [self class]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obeMap=[probeMap createEn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probeMap addProbe: [probe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etProbeForVariable: ”someVar"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Class: [agent class]]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probeMap addProbe: [probeLibrary getProbeForMessage: ”someMessage"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inClass: [agent class]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tHideResult: 1]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probeLibrary setProbeMap: probeM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: [self class]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probeDisplayManager createProbeDisplayFor: modelSwarm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609480" y="1600200"/>
            <a:ext cx="8001000" cy="403848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609480" y="5715000"/>
            <a:ext cx="8001000" cy="5335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68B34-738C-417C-8FB7-AA1B53A66D14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2A5B6E-426C-46CD-AB8A-B6EABEFC4DB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librar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04920" y="5486400"/>
            <a:ext cx="8397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: It is actually impossible to draw the class hierarchy because some of the lib directories contain classes from different branch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724280" y="1752480"/>
            <a:ext cx="1316160" cy="911520"/>
          </a:xfrm>
          <a:prstGeom prst="rect">
            <a:avLst/>
          </a:prstGeom>
          <a:solidFill>
            <a:srgbClr val="33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fob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124080" y="4572000"/>
            <a:ext cx="1316160" cy="9111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752480" y="4572000"/>
            <a:ext cx="1316160" cy="9158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562720" y="3048120"/>
            <a:ext cx="1315800" cy="9111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4572000"/>
            <a:ext cx="1316160" cy="911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391520" y="4572000"/>
            <a:ext cx="1315800" cy="9111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kobj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495680" y="4572000"/>
            <a:ext cx="1316160" cy="907920"/>
          </a:xfrm>
          <a:prstGeom prst="rect">
            <a:avLst/>
          </a:prstGeom>
          <a:solidFill>
            <a:srgbClr val="ff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733920" y="3048120"/>
            <a:ext cx="1315800" cy="911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391520" y="3048120"/>
            <a:ext cx="1315800" cy="9111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" name=""/>
          <p:cNvCxnSpPr>
            <a:stCxn id="47" idx="3"/>
            <a:endCxn id="55" idx="0"/>
          </p:cNvCxnSpPr>
          <p:nvPr/>
        </p:nvCxnSpPr>
        <p:spPr>
          <a:xfrm>
            <a:off x="6040080" y="2207880"/>
            <a:ext cx="2010600" cy="840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"/>
          <p:cNvSpPr/>
          <p:nvPr/>
        </p:nvSpPr>
        <p:spPr>
          <a:xfrm>
            <a:off x="1371600" y="1752480"/>
            <a:ext cx="1316160" cy="911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" name=""/>
          <p:cNvCxnSpPr>
            <a:stCxn id="47" idx="1"/>
            <a:endCxn id="57" idx="3"/>
          </p:cNvCxnSpPr>
          <p:nvPr/>
        </p:nvCxnSpPr>
        <p:spPr>
          <a:xfrm rot="10800000">
            <a:off x="2687040" y="2207520"/>
            <a:ext cx="203724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55" idx="2"/>
            <a:endCxn id="52" idx="0"/>
          </p:cNvCxnSpPr>
          <p:nvPr/>
        </p:nvCxnSpPr>
        <p:spPr>
          <a:xfrm>
            <a:off x="8049960" y="3959280"/>
            <a:ext cx="1080" cy="613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54" idx="2"/>
            <a:endCxn id="51" idx="0"/>
          </p:cNvCxnSpPr>
          <p:nvPr/>
        </p:nvCxnSpPr>
        <p:spPr>
          <a:xfrm rot="5400000">
            <a:off x="2409120" y="2589120"/>
            <a:ext cx="613440" cy="335376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4" idx="2"/>
            <a:endCxn id="53" idx="0"/>
          </p:cNvCxnSpPr>
          <p:nvPr/>
        </p:nvCxnSpPr>
        <p:spPr>
          <a:xfrm flipH="1" rot="16200000">
            <a:off x="4467240" y="3884400"/>
            <a:ext cx="613440" cy="76248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4" idx="2"/>
            <a:endCxn id="49" idx="0"/>
          </p:cNvCxnSpPr>
          <p:nvPr/>
        </p:nvCxnSpPr>
        <p:spPr>
          <a:xfrm rot="5400000">
            <a:off x="3094920" y="3274920"/>
            <a:ext cx="613440" cy="198216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54" idx="2"/>
            <a:endCxn id="48" idx="0"/>
          </p:cNvCxnSpPr>
          <p:nvPr/>
        </p:nvCxnSpPr>
        <p:spPr>
          <a:xfrm rot="5400000">
            <a:off x="3780720" y="3960720"/>
            <a:ext cx="613440" cy="61056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4" name=""/>
          <p:cNvCxnSpPr>
            <a:stCxn id="47" idx="2"/>
            <a:endCxn id="54" idx="0"/>
          </p:cNvCxnSpPr>
          <p:nvPr/>
        </p:nvCxnSpPr>
        <p:spPr>
          <a:xfrm rot="5400000">
            <a:off x="4695120" y="2360520"/>
            <a:ext cx="384840" cy="9910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" name=""/>
          <p:cNvCxnSpPr>
            <a:stCxn id="47" idx="2"/>
            <a:endCxn id="50" idx="0"/>
          </p:cNvCxnSpPr>
          <p:nvPr/>
        </p:nvCxnSpPr>
        <p:spPr>
          <a:xfrm flipH="1" rot="16200000">
            <a:off x="5609160" y="2436480"/>
            <a:ext cx="384840" cy="8391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6" name=""/>
          <p:cNvSpPr/>
          <p:nvPr/>
        </p:nvSpPr>
        <p:spPr>
          <a:xfrm>
            <a:off x="5867280" y="4572000"/>
            <a:ext cx="1316160" cy="90972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" name=""/>
          <p:cNvCxnSpPr>
            <a:stCxn id="54" idx="2"/>
            <a:endCxn id="66" idx="0"/>
          </p:cNvCxnSpPr>
          <p:nvPr/>
        </p:nvCxnSpPr>
        <p:spPr>
          <a:xfrm flipH="1" rot="16200000">
            <a:off x="5153040" y="3198600"/>
            <a:ext cx="613440" cy="213408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8" name=""/>
          <p:cNvSpPr/>
          <p:nvPr/>
        </p:nvSpPr>
        <p:spPr>
          <a:xfrm>
            <a:off x="533520" y="3048120"/>
            <a:ext cx="1315800" cy="9111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09680" y="3048120"/>
            <a:ext cx="1316160" cy="9111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warm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0" name=""/>
          <p:cNvCxnSpPr>
            <a:stCxn id="57" idx="2"/>
            <a:endCxn id="68" idx="0"/>
          </p:cNvCxnSpPr>
          <p:nvPr/>
        </p:nvCxnSpPr>
        <p:spPr>
          <a:xfrm rot="5400000">
            <a:off x="1418760" y="2436840"/>
            <a:ext cx="384840" cy="838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"/>
          <p:cNvCxnSpPr>
            <a:stCxn id="57" idx="2"/>
            <a:endCxn id="69" idx="0"/>
          </p:cNvCxnSpPr>
          <p:nvPr/>
        </p:nvCxnSpPr>
        <p:spPr>
          <a:xfrm flipH="1" rot="16200000">
            <a:off x="2257200" y="2436480"/>
            <a:ext cx="384840" cy="838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37133-4C80-4B02-AD7D-656B9A1AEA31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A714B8-8F38-48E5-835C-0E706CDAFC2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uses for prob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 of dynamic message calling where message is chosen at runtime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eProbe=[MessageProbe createBegin: zone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theProbe setProbedSelector: theSelector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eProbe=[theProbe createEnd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nIndex=[aCollection begin: zone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ile((aMember=[anIndex next])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eData=[theProbe doubleDynamicCallOn: aMember]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self doSomething: theData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nIndex drop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47640" y="3048120"/>
            <a:ext cx="533520" cy="533160"/>
          </a:xfrm>
          <a:custGeom>
            <a:avLst/>
            <a:gdLst>
              <a:gd name="textAreaLeft" fmla="*/ 121680 w 533520"/>
              <a:gd name="textAreaRight" fmla="*/ 411840 w 533520"/>
              <a:gd name="textAreaTop" fmla="*/ 121680 h 533160"/>
              <a:gd name="textAreaBottom" fmla="*/ 4114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647640" y="4191120"/>
            <a:ext cx="533520" cy="533160"/>
          </a:xfrm>
          <a:custGeom>
            <a:avLst/>
            <a:gdLst>
              <a:gd name="textAreaLeft" fmla="*/ 121680 w 533520"/>
              <a:gd name="textAreaRight" fmla="*/ 411840 w 533520"/>
              <a:gd name="textAreaTop" fmla="*/ 121680 h 533160"/>
              <a:gd name="textAreaBottom" fmla="*/ 4114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53F91-B531-469B-8180-21C75668C32D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B0F6BA-5DDE-4D9E-B5F4-AB4B7BB9611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jor Analysis 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ZGrap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athers and displays data on line grap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ZB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es same for histo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unctionGrap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raphs y values of function over range of x val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erager,Entropy and EZ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llect statistics from collection of obj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281560" y="3975120"/>
            <a:ext cx="1052640" cy="6714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ver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4591080" y="2895480"/>
            <a:ext cx="1052640" cy="6717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ZGrap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6431040" y="3975120"/>
            <a:ext cx="1050840" cy="673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ZB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6248520" y="2057400"/>
            <a:ext cx="1052280" cy="6699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bjectb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7662960" y="3970440"/>
            <a:ext cx="1052280" cy="6699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trop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431040" y="4908600"/>
            <a:ext cx="1050840" cy="673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7086600" y="2895480"/>
            <a:ext cx="1052640" cy="671760"/>
          </a:xfrm>
          <a:prstGeom prst="rect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4" name=""/>
          <p:cNvCxnSpPr>
            <a:stCxn id="453" idx="2"/>
            <a:endCxn id="447" idx="0"/>
          </p:cNvCxnSpPr>
          <p:nvPr/>
        </p:nvCxnSpPr>
        <p:spPr>
          <a:xfrm rot="5400000">
            <a:off x="6506640" y="2868480"/>
            <a:ext cx="408600" cy="1805760"/>
          </a:xfrm>
          <a:prstGeom prst="bentConnector3">
            <a:avLst>
              <a:gd name="adj1" fmla="val 4973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5" name=""/>
          <p:cNvCxnSpPr/>
          <p:nvPr/>
        </p:nvCxnSpPr>
        <p:spPr>
          <a:xfrm flipH="1" rot="16200000">
            <a:off x="7699320" y="3494520"/>
            <a:ext cx="403920" cy="577080"/>
          </a:xfrm>
          <a:prstGeom prst="bentConnector3">
            <a:avLst>
              <a:gd name="adj1" fmla="val 4683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6" name=""/>
          <p:cNvCxnSpPr>
            <a:stCxn id="449" idx="2"/>
            <a:endCxn id="452" idx="0"/>
          </p:cNvCxnSpPr>
          <p:nvPr/>
        </p:nvCxnSpPr>
        <p:spPr>
          <a:xfrm>
            <a:off x="6955920" y="4647960"/>
            <a:ext cx="1080" cy="26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7" name=""/>
          <p:cNvCxnSpPr>
            <a:stCxn id="450" idx="1"/>
            <a:endCxn id="448" idx="0"/>
          </p:cNvCxnSpPr>
          <p:nvPr/>
        </p:nvCxnSpPr>
        <p:spPr>
          <a:xfrm flipV="1" rot="10800000">
            <a:off x="5117400" y="2391840"/>
            <a:ext cx="1131120" cy="5040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8" name=""/>
          <p:cNvCxnSpPr>
            <a:stCxn id="450" idx="3"/>
            <a:endCxn id="453" idx="0"/>
          </p:cNvCxnSpPr>
          <p:nvPr/>
        </p:nvCxnSpPr>
        <p:spPr>
          <a:xfrm>
            <a:off x="7300440" y="2392200"/>
            <a:ext cx="313560" cy="5040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59" name=""/>
          <p:cNvSpPr/>
          <p:nvPr/>
        </p:nvSpPr>
        <p:spPr>
          <a:xfrm>
            <a:off x="5867280" y="2895480"/>
            <a:ext cx="1052640" cy="6717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rap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0" name=""/>
          <p:cNvCxnSpPr>
            <a:stCxn id="450" idx="2"/>
            <a:endCxn id="459" idx="0"/>
          </p:cNvCxnSpPr>
          <p:nvPr/>
        </p:nvCxnSpPr>
        <p:spPr>
          <a:xfrm rot="5400000">
            <a:off x="6500160" y="2620440"/>
            <a:ext cx="168840" cy="3819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61" name=""/>
          <p:cNvSpPr/>
          <p:nvPr/>
        </p:nvSpPr>
        <p:spPr>
          <a:xfrm>
            <a:off x="6934320" y="38098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784C1-CC6D-4406-9429-1217093DCA5A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94DC9F-1F66-4010-B197-9DEF55D7D89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EZGrap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ZGraph is a wrapper around several 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ows creation and setup to be achieved in one fell swo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fter setting title and labels must add one or more seque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cessary step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) create an in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) setTitle: titleSt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) setAxisLabelsX: str Y: st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) Add sequence(s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feed from 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 feed from collecti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verageSequence TotalSequ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inSequence MaxSequ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F3555-F611-4F6E-AA43-FD5B6FCE102A}" type="slidenum">
              <a:t>32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F4B38C-BACE-41DD-A7D3-E282DDE0E2B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ng an EZGrap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6" name="ezgraph" descr=""/>
          <p:cNvPicPr/>
          <p:nvPr/>
        </p:nvPicPr>
        <p:blipFill>
          <a:blip r:embed="rId1"/>
          <a:stretch/>
        </p:blipFill>
        <p:spPr>
          <a:xfrm>
            <a:off x="663480" y="1895400"/>
            <a:ext cx="3886200" cy="2610000"/>
          </a:xfrm>
          <a:prstGeom prst="rect">
            <a:avLst/>
          </a:prstGeom>
          <a:ln w="0">
            <a:noFill/>
          </a:ln>
        </p:spPr>
      </p:pic>
      <p:sp>
        <p:nvSpPr>
          <p:cNvPr id="467" name=""/>
          <p:cNvSpPr/>
          <p:nvPr/>
        </p:nvSpPr>
        <p:spPr>
          <a:xfrm>
            <a:off x="3884760" y="3203640"/>
            <a:ext cx="4398840" cy="24717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sequence with feed from collection is created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creat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quence: aSt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ithFeedFrom: col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ndSelector: M(metho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one of Average, Total, Min, Max or Cou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6651720" y="3921120"/>
            <a:ext cx="125100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St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9" name=""/>
          <p:cNvCxnSpPr/>
          <p:nvPr/>
        </p:nvCxnSpPr>
        <p:spPr>
          <a:xfrm flipV="1" rot="16200000">
            <a:off x="5421240" y="1740600"/>
            <a:ext cx="1197360" cy="3162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0" name=""/>
          <p:cNvCxnSpPr>
            <a:stCxn id="467" idx="1"/>
          </p:cNvCxnSpPr>
          <p:nvPr/>
        </p:nvCxnSpPr>
        <p:spPr>
          <a:xfrm rot="10800000">
            <a:off x="2733120" y="3714120"/>
            <a:ext cx="1151640" cy="727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1" name=""/>
          <p:cNvCxnSpPr/>
          <p:nvPr/>
        </p:nvCxnSpPr>
        <p:spPr>
          <a:xfrm flipV="1" rot="10800000">
            <a:off x="2380680" y="2160360"/>
            <a:ext cx="2286720" cy="20692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2" name=""/>
          <p:cNvSpPr/>
          <p:nvPr/>
        </p:nvSpPr>
        <p:spPr>
          <a:xfrm>
            <a:off x="771480" y="4842000"/>
            <a:ext cx="2923920" cy="7646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title, made wit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setTitle: aSt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3" name=""/>
          <p:cNvCxnSpPr>
            <a:stCxn id="472" idx="0"/>
          </p:cNvCxnSpPr>
          <p:nvPr/>
        </p:nvCxnSpPr>
        <p:spPr>
          <a:xfrm flipV="1" rot="16200000">
            <a:off x="581040" y="3189600"/>
            <a:ext cx="2537640" cy="7671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4" name=""/>
          <p:cNvSpPr/>
          <p:nvPr/>
        </p:nvSpPr>
        <p:spPr>
          <a:xfrm>
            <a:off x="4197600" y="1774800"/>
            <a:ext cx="4295520" cy="764640"/>
          </a:xfrm>
          <a:prstGeom prst="rect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xis labels, set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setAxisLabelsX: str Y: st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5A286-7B2B-4B22-B5F9-63FE05FFF803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078008-44B0-4939-AA7D-90AE72B3C94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EZB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62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ZBin, is also a wrapper around several 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type of graph needs to be told the number of bins for histogram and interval in which values l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381560" y="1981080"/>
            <a:ext cx="428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cessary step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) create an in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) setTitle: titleSt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) setCollection: col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) setProbedSelector:M(metho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) setBinNum: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) setUpperBound:  and setLowerBoun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6C6F1-DE32-48A6-8DC1-BA5607F2ECE3}" type="slidenum">
              <a:t>34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842AEF-1B06-49E4-9F3C-A766E675979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ng an EZB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9" name="ezbin" descr=""/>
          <p:cNvPicPr/>
          <p:nvPr/>
        </p:nvPicPr>
        <p:blipFill>
          <a:blip r:embed="rId1"/>
          <a:stretch/>
        </p:blipFill>
        <p:spPr>
          <a:xfrm>
            <a:off x="552600" y="1957320"/>
            <a:ext cx="3886200" cy="2638440"/>
          </a:xfrm>
          <a:prstGeom prst="rect">
            <a:avLst/>
          </a:prstGeom>
          <a:ln w="0">
            <a:noFill/>
          </a:ln>
        </p:spPr>
      </p:pic>
      <p:sp>
        <p:nvSpPr>
          <p:cNvPr id="480" name=""/>
          <p:cNvSpPr/>
          <p:nvPr/>
        </p:nvSpPr>
        <p:spPr>
          <a:xfrm>
            <a:off x="3846600" y="4842000"/>
            <a:ext cx="4551120" cy="14353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is fed into Histogram 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setCollection: col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setProbedSelector:M(metho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771480" y="4842000"/>
            <a:ext cx="2923920" cy="7646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title, made wit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setTitle: aSt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2" name=""/>
          <p:cNvCxnSpPr>
            <a:stCxn id="481" idx="0"/>
          </p:cNvCxnSpPr>
          <p:nvPr/>
        </p:nvCxnSpPr>
        <p:spPr>
          <a:xfrm flipV="1" rot="16200000">
            <a:off x="581040" y="3189600"/>
            <a:ext cx="2537640" cy="7671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3" name=""/>
          <p:cNvSpPr/>
          <p:nvPr/>
        </p:nvSpPr>
        <p:spPr>
          <a:xfrm>
            <a:off x="3816360" y="3984480"/>
            <a:ext cx="4295520" cy="764640"/>
          </a:xfrm>
          <a:prstGeom prst="rect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xis labels, set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setAxisLabelsX: str Y: st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4" name=""/>
          <p:cNvCxnSpPr>
            <a:stCxn id="483" idx="1"/>
          </p:cNvCxnSpPr>
          <p:nvPr/>
        </p:nvCxnSpPr>
        <p:spPr>
          <a:xfrm flipV="1" rot="10800000">
            <a:off x="2552040" y="4370040"/>
            <a:ext cx="1257840" cy="7848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5" name=""/>
          <p:cNvSpPr/>
          <p:nvPr/>
        </p:nvSpPr>
        <p:spPr>
          <a:xfrm>
            <a:off x="3813120" y="2308320"/>
            <a:ext cx="4929480" cy="1435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number of bins is determined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setNumBins: n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the range of values 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setUpperBound: -setLowerBound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6" name=""/>
          <p:cNvCxnSpPr>
            <a:stCxn id="485" idx="1"/>
          </p:cNvCxnSpPr>
          <p:nvPr/>
        </p:nvCxnSpPr>
        <p:spPr>
          <a:xfrm flipV="1" rot="10800000">
            <a:off x="2628360" y="3027960"/>
            <a:ext cx="1184760" cy="1105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26A6B-E4EC-41F3-B6C2-E2F5883979B6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269067-9682-430A-B142-13AC0933D14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utility objects in Analy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ts feed from collection and calculat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er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495320" y="1981080"/>
            <a:ext cx="3962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trop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ts feed from collection and calculates entropy assuming data is probabil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Z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class of EZBin, gives acces to underlying distribution of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97CE8-B578-409B-B99E-E740AF5C8CD9}" type="slidenum">
              <a:t>36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D6E2A3-D64E-43CF-8BBC-53F0AD7C365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"/>
          <p:cNvSpPr/>
          <p:nvPr/>
        </p:nvSpPr>
        <p:spPr>
          <a:xfrm>
            <a:off x="4952880" y="1828800"/>
            <a:ext cx="35053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" y="1828800"/>
            <a:ext cx="41148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aster and Object2dDispl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533520" y="2209680"/>
            <a:ext cx="1676160" cy="1752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5181480" y="1981080"/>
            <a:ext cx="1752840" cy="152424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screte2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1600200" y="3124080"/>
            <a:ext cx="30492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914400" y="2438280"/>
            <a:ext cx="304920" cy="3049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7" name=""/>
          <p:cNvCxnSpPr>
            <a:stCxn id="494" idx="1"/>
            <a:endCxn id="498" idx="5"/>
          </p:cNvCxnSpPr>
          <p:nvPr/>
        </p:nvCxnSpPr>
        <p:spPr>
          <a:xfrm flipV="1" rot="10800000">
            <a:off x="4237920" y="2742840"/>
            <a:ext cx="943560" cy="658080"/>
          </a:xfrm>
          <a:prstGeom prst="bentConnector4">
            <a:avLst>
              <a:gd name="adj1" fmla="val 36335"/>
              <a:gd name="adj2" fmla="val 173891"/>
            </a:avLst>
          </a:prstGeom>
          <a:ln w="57240">
            <a:solidFill>
              <a:srgbClr val="808080"/>
            </a:solidFill>
            <a:miter/>
            <a:tailEnd len="med" type="triangle" w="med"/>
          </a:ln>
        </p:spPr>
      </p:cxnSp>
      <p:sp>
        <p:nvSpPr>
          <p:cNvPr id="499" name=""/>
          <p:cNvSpPr/>
          <p:nvPr/>
        </p:nvSpPr>
        <p:spPr>
          <a:xfrm>
            <a:off x="841320" y="3429000"/>
            <a:ext cx="112860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a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6629400" y="3249720"/>
            <a:ext cx="1671480" cy="1191240"/>
          </a:xfrm>
          <a:prstGeom prst="borderCallout1">
            <a:avLst>
              <a:gd name="adj1" fmla="val 18750"/>
              <a:gd name="adj2" fmla="val -8333"/>
              <a:gd name="adj3" fmla="val -33712"/>
              <a:gd name="adj4" fmla="val -2771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lds x,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tions of ag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2743200" y="1905120"/>
            <a:ext cx="1752480" cy="17524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bject2dDispl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2819520" y="3733920"/>
            <a:ext cx="1371600" cy="13716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Colorm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953600" y="472428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534240" y="4724280"/>
            <a:ext cx="21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365040" y="5272200"/>
            <a:ext cx="8321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in purpose of Object2dDisplay to catch messages from Raster widget on a mouse-click. It then opens up a probe to the object that at this  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5" name=""/>
          <p:cNvCxnSpPr>
            <a:stCxn id="498" idx="2"/>
            <a:endCxn id="493" idx="3"/>
          </p:cNvCxnSpPr>
          <p:nvPr/>
        </p:nvCxnSpPr>
        <p:spPr>
          <a:xfrm flipV="1" rot="10800000">
            <a:off x="2208960" y="2780280"/>
            <a:ext cx="534240" cy="305640"/>
          </a:xfrm>
          <a:prstGeom prst="bentConnector3">
            <a:avLst>
              <a:gd name="adj1" fmla="val 49966"/>
            </a:avLst>
          </a:prstGeom>
          <a:ln w="5724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506" name=""/>
          <p:cNvCxnSpPr>
            <a:stCxn id="501" idx="2"/>
            <a:endCxn id="493" idx="2"/>
          </p:cNvCxnSpPr>
          <p:nvPr/>
        </p:nvCxnSpPr>
        <p:spPr>
          <a:xfrm rot="10800000">
            <a:off x="1370880" y="3961800"/>
            <a:ext cx="1448640" cy="457920"/>
          </a:xfrm>
          <a:prstGeom prst="bentConnector2">
            <a:avLst/>
          </a:prstGeom>
          <a:ln w="57240">
            <a:solidFill>
              <a:srgbClr val="808080"/>
            </a:solidFill>
            <a:miter/>
            <a:tailEnd len="med" type="triangle" w="med"/>
          </a:ln>
        </p:spPr>
      </p:cxnSp>
      <p:sp>
        <p:nvSpPr>
          <p:cNvPr id="507" name=""/>
          <p:cNvSpPr/>
          <p:nvPr/>
        </p:nvSpPr>
        <p:spPr>
          <a:xfrm>
            <a:off x="5410080" y="3048120"/>
            <a:ext cx="990720" cy="9144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g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34C75-2BBE-4D37-971E-8F5C0C3C1D60}" type="slidenum">
              <a:t>3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C10EF7-7276-45DF-BDE0-EB19B25F58B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08" name=""/>
          <p:cNvCxnSpPr>
            <a:stCxn id="509" idx="3"/>
            <a:endCxn id="510" idx="2"/>
          </p:cNvCxnSpPr>
          <p:nvPr/>
        </p:nvCxnSpPr>
        <p:spPr>
          <a:xfrm>
            <a:off x="4723920" y="2971800"/>
            <a:ext cx="877320" cy="381600"/>
          </a:xfrm>
          <a:prstGeom prst="curvedConnector5">
            <a:avLst>
              <a:gd name="adj1" fmla="val 17364"/>
              <a:gd name="adj2" fmla="val 79981"/>
              <a:gd name="adj3" fmla="val 17364"/>
            </a:avLst>
          </a:prstGeom>
          <a:ln w="9360">
            <a:solidFill>
              <a:srgbClr val="000000"/>
            </a:solidFill>
            <a:prstDash val="lgDash"/>
            <a:miter/>
          </a:ln>
        </p:spPr>
      </p:cxnSp>
      <p:cxnSp>
        <p:nvCxnSpPr>
          <p:cNvPr id="511" name=""/>
          <p:cNvCxnSpPr>
            <a:stCxn id="509" idx="3"/>
            <a:endCxn id="512" idx="2"/>
          </p:cNvCxnSpPr>
          <p:nvPr/>
        </p:nvCxnSpPr>
        <p:spPr>
          <a:xfrm>
            <a:off x="4723920" y="2971800"/>
            <a:ext cx="2248920" cy="381600"/>
          </a:xfrm>
          <a:prstGeom prst="curvedConnector5">
            <a:avLst>
              <a:gd name="adj1" fmla="val 37271"/>
              <a:gd name="adj2" fmla="val 79981"/>
              <a:gd name="adj3" fmla="val 37271"/>
            </a:avLst>
          </a:prstGeom>
          <a:ln w="9360">
            <a:solidFill>
              <a:srgbClr val="000000"/>
            </a:solidFill>
            <a:prstDash val="lgDash"/>
            <a:miter/>
          </a:ln>
        </p:spPr>
      </p:cxnSp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classes in 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3581280" y="16765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3581280" y="25909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crete2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2819520" y="35053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blBuff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4267080" y="35053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id2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2133720" y="44197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f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3505320" y="44197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2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3505320" y="53341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029200" y="25909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2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6400800" y="25909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2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905120" y="25909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2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1" name=""/>
          <p:cNvCxnSpPr>
            <a:stCxn id="514" idx="2"/>
            <a:endCxn id="509" idx="0"/>
          </p:cNvCxnSpPr>
          <p:nvPr/>
        </p:nvCxnSpPr>
        <p:spPr>
          <a:xfrm flipV="1" rot="10800000">
            <a:off x="4152240" y="2437920"/>
            <a:ext cx="108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2" name=""/>
          <p:cNvCxnSpPr>
            <a:stCxn id="509" idx="1"/>
            <a:endCxn id="515" idx="0"/>
          </p:cNvCxnSpPr>
          <p:nvPr/>
        </p:nvCxnSpPr>
        <p:spPr>
          <a:xfrm flipV="1" rot="10800000">
            <a:off x="3390120" y="2971440"/>
            <a:ext cx="191160" cy="534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3" name=""/>
          <p:cNvCxnSpPr>
            <a:stCxn id="509" idx="3"/>
            <a:endCxn id="516" idx="0"/>
          </p:cNvCxnSpPr>
          <p:nvPr/>
        </p:nvCxnSpPr>
        <p:spPr>
          <a:xfrm>
            <a:off x="4724280" y="2971800"/>
            <a:ext cx="115200" cy="534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4" name=""/>
          <p:cNvCxnSpPr>
            <a:stCxn id="515" idx="1"/>
            <a:endCxn id="517" idx="0"/>
          </p:cNvCxnSpPr>
          <p:nvPr/>
        </p:nvCxnSpPr>
        <p:spPr>
          <a:xfrm flipV="1" rot="10800000">
            <a:off x="2704320" y="3885840"/>
            <a:ext cx="115200" cy="534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"/>
          <p:cNvCxnSpPr>
            <a:stCxn id="515" idx="3"/>
            <a:endCxn id="518" idx="0"/>
          </p:cNvCxnSpPr>
          <p:nvPr/>
        </p:nvCxnSpPr>
        <p:spPr>
          <a:xfrm>
            <a:off x="3962160" y="3886200"/>
            <a:ext cx="114840" cy="534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"/>
          <p:cNvCxnSpPr>
            <a:stCxn id="518" idx="2"/>
            <a:endCxn id="519" idx="0"/>
          </p:cNvCxnSpPr>
          <p:nvPr/>
        </p:nvCxnSpPr>
        <p:spPr>
          <a:xfrm>
            <a:off x="4076280" y="51814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9A106-0378-46D7-B299-30B3A428B967}" type="slidenum">
              <a:t>3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7AD9D0-2CFB-4128-BB5E-534A954156A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27" name=""/>
          <p:cNvCxnSpPr>
            <a:stCxn id="528" idx="3"/>
            <a:endCxn id="529" idx="2"/>
          </p:cNvCxnSpPr>
          <p:nvPr/>
        </p:nvCxnSpPr>
        <p:spPr>
          <a:xfrm>
            <a:off x="6325920" y="2928600"/>
            <a:ext cx="592920" cy="254520"/>
          </a:xfrm>
          <a:prstGeom prst="curvedConnector5">
            <a:avLst>
              <a:gd name="adj1" fmla="val 17132"/>
              <a:gd name="adj2" fmla="val 94900"/>
              <a:gd name="adj3" fmla="val 17132"/>
            </a:avLst>
          </a:prstGeom>
          <a:ln w="9360">
            <a:solidFill>
              <a:srgbClr val="000000"/>
            </a:solidFill>
            <a:prstDash val="lgDash"/>
            <a:miter/>
          </a:ln>
        </p:spPr>
      </p:cxnSp>
      <p:cxnSp>
        <p:nvCxnSpPr>
          <p:cNvPr id="530" name=""/>
          <p:cNvCxnSpPr>
            <a:stCxn id="528" idx="3"/>
            <a:endCxn id="531" idx="2"/>
          </p:cNvCxnSpPr>
          <p:nvPr/>
        </p:nvCxnSpPr>
        <p:spPr>
          <a:xfrm>
            <a:off x="6326280" y="2928600"/>
            <a:ext cx="1529280" cy="254520"/>
          </a:xfrm>
          <a:prstGeom prst="curvedConnector5">
            <a:avLst>
              <a:gd name="adj1" fmla="val 37273"/>
              <a:gd name="adj2" fmla="val 94900"/>
              <a:gd name="adj3" fmla="val 37273"/>
            </a:avLst>
          </a:prstGeom>
          <a:ln w="9360">
            <a:solidFill>
              <a:srgbClr val="000000"/>
            </a:solidFill>
            <a:prstDash val="lgDash"/>
            <a:miter/>
          </a:ln>
        </p:spPr>
      </p:cxnSp>
      <p:sp>
        <p:nvSpPr>
          <p:cNvPr id="532" name=""/>
          <p:cNvSpPr/>
          <p:nvPr/>
        </p:nvSpPr>
        <p:spPr>
          <a:xfrm>
            <a:off x="5551560" y="2057400"/>
            <a:ext cx="774720" cy="5126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p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5551560" y="2670120"/>
            <a:ext cx="774720" cy="5158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iscre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5035680" y="3287880"/>
            <a:ext cx="772920" cy="5108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blBuff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6014880" y="3287880"/>
            <a:ext cx="771840" cy="5108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rid2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4572000" y="3900600"/>
            <a:ext cx="773280" cy="515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5500800" y="3900600"/>
            <a:ext cx="771480" cy="515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5500800" y="4516560"/>
            <a:ext cx="771480" cy="51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6531120" y="2670120"/>
            <a:ext cx="772920" cy="51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7467480" y="2670120"/>
            <a:ext cx="773280" cy="51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4495680" y="2670120"/>
            <a:ext cx="774720" cy="51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9" name=""/>
          <p:cNvCxnSpPr>
            <a:stCxn id="532" idx="2"/>
            <a:endCxn id="528" idx="0"/>
          </p:cNvCxnSpPr>
          <p:nvPr/>
        </p:nvCxnSpPr>
        <p:spPr>
          <a:xfrm flipV="1" rot="10800000">
            <a:off x="5936400" y="2569680"/>
            <a:ext cx="1080" cy="1008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0" name=""/>
          <p:cNvCxnSpPr>
            <a:stCxn id="528" idx="1"/>
            <a:endCxn id="533" idx="0"/>
          </p:cNvCxnSpPr>
          <p:nvPr/>
        </p:nvCxnSpPr>
        <p:spPr>
          <a:xfrm flipV="1" rot="10800000">
            <a:off x="5422320" y="2929320"/>
            <a:ext cx="129240" cy="3582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1" name=""/>
          <p:cNvCxnSpPr>
            <a:stCxn id="528" idx="3"/>
            <a:endCxn id="534" idx="0"/>
          </p:cNvCxnSpPr>
          <p:nvPr/>
        </p:nvCxnSpPr>
        <p:spPr>
          <a:xfrm>
            <a:off x="6325920" y="2930040"/>
            <a:ext cx="75240" cy="3582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2" name=""/>
          <p:cNvCxnSpPr>
            <a:stCxn id="533" idx="1"/>
            <a:endCxn id="535" idx="0"/>
          </p:cNvCxnSpPr>
          <p:nvPr/>
        </p:nvCxnSpPr>
        <p:spPr>
          <a:xfrm flipV="1" rot="10800000">
            <a:off x="4957200" y="3543120"/>
            <a:ext cx="78480" cy="357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3" name=""/>
          <p:cNvCxnSpPr>
            <a:stCxn id="533" idx="3"/>
            <a:endCxn id="536" idx="0"/>
          </p:cNvCxnSpPr>
          <p:nvPr/>
        </p:nvCxnSpPr>
        <p:spPr>
          <a:xfrm>
            <a:off x="5808600" y="3543480"/>
            <a:ext cx="78480" cy="357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4" name=""/>
          <p:cNvCxnSpPr>
            <a:stCxn id="536" idx="2"/>
            <a:endCxn id="537" idx="0"/>
          </p:cNvCxnSpPr>
          <p:nvPr/>
        </p:nvCxnSpPr>
        <p:spPr>
          <a:xfrm>
            <a:off x="5886000" y="4416480"/>
            <a:ext cx="1080" cy="100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basic 2d 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crete2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des basic 2d lattice fu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bcla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id2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esn’t allow you to overwrite memb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blBuffer2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ites go to a buff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n updates all at o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F6086-464D-4C6E-97D7-B0626E945BF1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5EF54E-99C5-4915-BEEB-EAEC9BF664F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these classes d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1752480"/>
            <a:ext cx="1490400" cy="10321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62120" y="4038480"/>
            <a:ext cx="1523880" cy="10573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62120" y="2895480"/>
            <a:ext cx="1523880" cy="1054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62120" y="5194440"/>
            <a:ext cx="1523880" cy="10540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286000" y="1676520"/>
            <a:ext cx="2133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hedules, ActivityGroups  and Swar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362320" y="3962520"/>
            <a:ext cx="2057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ing object’s state and behavi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362320" y="2819520"/>
            <a:ext cx="2057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number generators and distrib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286000" y="5105520"/>
            <a:ext cx="220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ab bag of various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495680" y="1739880"/>
            <a:ext cx="1490760" cy="10317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495680" y="4025880"/>
            <a:ext cx="1524240" cy="10573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kobj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495680" y="2882880"/>
            <a:ext cx="1524240" cy="1054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495680" y="5181480"/>
            <a:ext cx="1524240" cy="1054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95880" y="1676520"/>
            <a:ext cx="2362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rays, Lists and ordered Lists of obje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72200" y="3962520"/>
            <a:ext cx="220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aphical interface obje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172200" y="2819520"/>
            <a:ext cx="228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s information for 2D lattice or gri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95880" y="5105520"/>
            <a:ext cx="228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sier interface to graphs, calculate stat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96CF2-F894-4513-9DA8-4A93ECDD45AA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E16BC2-5BF6-4EC1-8FA1-DF293E1AE39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basic Discrete2d synta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tSizeX: i Y: j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the world siz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etSizeX, getSiz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t the dimensions of the lat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illWithValue: val, fillWithObject: ob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same value or object at each si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tDiscrete2d: o  toFile: file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ds a PGM formatted file and fills lattice with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pyDiscrete2d: a toDiscrete2d: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lls lattice b with values from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89952-7974-405A-B0BA-EB0842A66E92}" type="slidenum">
              <a:t>40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8CC454-A2CD-4EEA-9DE3-C030A7C6733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basic Discrete2d synta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434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etObjectAtX: Y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object at x,y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etValueAtX: Y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value at x,y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4190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tObject:o atX: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 obj at x,y and overwrite present obj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tValue: v atX: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 val v at x,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18339-67A8-4C3A-9526-BEDC85EC31D2}" type="slidenum">
              <a:t>41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1FDD43-A908-46D3-BAA5-E7EEE106A75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classes in Simtoo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Loader / Sa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ads/Saves instance variable values from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Sel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s N members from collec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S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ickSort for col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Fil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stitute for opening outfiles C sty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s file and understand basic operations, getString, getInt, next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02B8E-59E8-46D0-800F-9AF8AF1E5324}" type="slidenum">
              <a:t>42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B4290F-CEB7-49C2-9815-CCBE7277342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File and InFi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ic idea that InFile opens file and “gets” strings and OutFile opens file and “puts” s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can deal with any var type (only String and Int show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addition methods to insert delimiter (“tab”), skip line, go to next line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me methods in InFi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(int) getWord: (char *) aWor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(int) getInt: (int *) anIn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(int) skipLin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.and OutFi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putString: (char *) aStr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putInt: (int) anI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putTab: (char) aCha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putNewLin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E5CFE-B9F1-41A5-9E7C-29B648FC4B64}" type="slidenum">
              <a:t>4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270356-A202-4411-859B-5666762DE6C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jor TkObjC 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oomRas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izeable ra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ic display of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sto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play of hist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lor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p between integer values and col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"/>
          <p:cNvCxnSpPr>
            <a:stCxn id="562" idx="1"/>
            <a:endCxn id="563" idx="0"/>
          </p:cNvCxnSpPr>
          <p:nvPr/>
        </p:nvCxnSpPr>
        <p:spPr>
          <a:xfrm flipV="1" rot="10800000">
            <a:off x="4870440" y="2829600"/>
            <a:ext cx="621000" cy="478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4" name=""/>
          <p:cNvCxnSpPr>
            <a:stCxn id="562" idx="3"/>
            <a:endCxn id="565" idx="0"/>
          </p:cNvCxnSpPr>
          <p:nvPr/>
        </p:nvCxnSpPr>
        <p:spPr>
          <a:xfrm>
            <a:off x="6543720" y="2830320"/>
            <a:ext cx="622800" cy="478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6" name=""/>
          <p:cNvCxnSpPr>
            <a:stCxn id="562" idx="2"/>
            <a:endCxn id="567" idx="0"/>
          </p:cNvCxnSpPr>
          <p:nvPr/>
        </p:nvCxnSpPr>
        <p:spPr>
          <a:xfrm>
            <a:off x="6017760" y="3165120"/>
            <a:ext cx="1080" cy="143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7" name=""/>
          <p:cNvSpPr/>
          <p:nvPr/>
        </p:nvSpPr>
        <p:spPr>
          <a:xfrm>
            <a:off x="5491080" y="3308400"/>
            <a:ext cx="1052640" cy="6714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as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4343400" y="3308400"/>
            <a:ext cx="1052640" cy="6714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rap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6640560" y="3308400"/>
            <a:ext cx="1050840" cy="673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stogr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5491080" y="2495520"/>
            <a:ext cx="1052640" cy="6699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dg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5491080" y="4122720"/>
            <a:ext cx="1052640" cy="6699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ZoomRas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9" name=""/>
          <p:cNvCxnSpPr/>
          <p:nvPr/>
        </p:nvCxnSpPr>
        <p:spPr>
          <a:xfrm>
            <a:off x="5638320" y="3123720"/>
            <a:ext cx="1080" cy="143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0" name=""/>
          <p:cNvSpPr/>
          <p:nvPr/>
        </p:nvSpPr>
        <p:spPr>
          <a:xfrm>
            <a:off x="7516800" y="2489040"/>
            <a:ext cx="1050840" cy="673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orm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715D3-4759-4D1E-B8FE-26D2E4F60B24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12145B-0753-446E-8056-0EAEA659CFA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ll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flat list of objects with random acces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eyedColl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ey  is independent obje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ey is the member itsel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r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ction with fixed siz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172200" y="2057400"/>
            <a:ext cx="1143000" cy="76212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648320" y="3124080"/>
            <a:ext cx="1143000" cy="76212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172200" y="3124080"/>
            <a:ext cx="1143000" cy="76212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y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620120" y="3124080"/>
            <a:ext cx="1143000" cy="76212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r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486400" y="4419720"/>
            <a:ext cx="1143000" cy="76176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934320" y="4419720"/>
            <a:ext cx="1143000" cy="76176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" name=""/>
          <p:cNvCxnSpPr>
            <a:stCxn id="91" idx="1"/>
            <a:endCxn id="92" idx="0"/>
          </p:cNvCxnSpPr>
          <p:nvPr/>
        </p:nvCxnSpPr>
        <p:spPr>
          <a:xfrm flipV="1" rot="10800000">
            <a:off x="5218920" y="2437200"/>
            <a:ext cx="9532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8" name=""/>
          <p:cNvCxnSpPr>
            <a:stCxn id="91" idx="3"/>
            <a:endCxn id="94" idx="0"/>
          </p:cNvCxnSpPr>
          <p:nvPr/>
        </p:nvCxnSpPr>
        <p:spPr>
          <a:xfrm>
            <a:off x="7315200" y="2437920"/>
            <a:ext cx="87696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9" name=""/>
          <p:cNvCxnSpPr>
            <a:stCxn id="91" idx="2"/>
            <a:endCxn id="93" idx="0"/>
          </p:cNvCxnSpPr>
          <p:nvPr/>
        </p:nvCxnSpPr>
        <p:spPr>
          <a:xfrm>
            <a:off x="6743520" y="2819520"/>
            <a:ext cx="108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3" idx="2"/>
            <a:endCxn id="95" idx="0"/>
          </p:cNvCxnSpPr>
          <p:nvPr/>
        </p:nvCxnSpPr>
        <p:spPr>
          <a:xfrm rot="5400000">
            <a:off x="6133320" y="3809880"/>
            <a:ext cx="534240" cy="686520"/>
          </a:xfrm>
          <a:prstGeom prst="bentConnector3">
            <a:avLst>
              <a:gd name="adj1" fmla="val 4996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93" idx="2"/>
            <a:endCxn id="96" idx="0"/>
          </p:cNvCxnSpPr>
          <p:nvPr/>
        </p:nvCxnSpPr>
        <p:spPr>
          <a:xfrm flipH="1" rot="16200000">
            <a:off x="6858000" y="3771720"/>
            <a:ext cx="534240" cy="762480"/>
          </a:xfrm>
          <a:prstGeom prst="bentConnector3">
            <a:avLst>
              <a:gd name="adj1" fmla="val 4996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284C5-CB41-42A7-A7DB-29DA14AEE10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2182FE-7BC0-4248-BF7A-0AF9DD1EA61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Collection synta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etCou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ives number of memb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tOffset: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rieves member at location 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tOffset:i put: ob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serts obj at location 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ddFirst: o addLast: 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s o at start/end of l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etFirst,getL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s first/last me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48320" y="182880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ntains: 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s 1 if o is me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move: 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moves object 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move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moves a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rEach:M(messag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ds message to all memb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moveFirst/L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moves and returns first/last me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3835F-5DC7-4650-838B-EAC1E5572701}" type="slidenum">
              <a:t>6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46A35D-AF44-4DC9-9460-54F7C0EE377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419720" y="3200400"/>
            <a:ext cx="4267080" cy="198108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cessing Collections with Inde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 collection can generate an index of itsel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index behaves as an object, and understands messages such 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v,n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Next: o,findPrev: 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index to loop over all member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dex=[list begin: zone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ile(o=[index next]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value=[o getValue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index drop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41C6B-F7C8-4D47-8925-66A16AAB398C}" type="slidenum">
              <a:t>7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4DB87C-14DA-4385-A45D-C29128A0897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4419720" y="2819520"/>
            <a:ext cx="4267080" cy="304776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ical use of Li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ypical use of a List instance is to keep track of agent popula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t create time Model initializes each agent and puts him on agentLis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e agentList is then accessed by Schedule, GUI objects and so on..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(i=0;i&lt;numAgents;i++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=[Agent create: zone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 setVar1: var1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 setVar2: var2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 setVarN: varN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gentList addLast: a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8D4DE-80B5-4D6A-8D01-E15DC3BC265A}" type="slidenum">
              <a:t>8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58B9E6-265B-4AD9-AE76-6DEC7647730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KeyedColl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KeyedCollection if you want a List that is continously s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either have seperate key objects for each member (Map) or treat the members as keys (Se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ant: You must provide the key object yoursel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A key object knows how to respond to a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compare: obj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method call. It then retrieves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the value in obj and respond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with {-1,0,1} depending o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if it is &lt;, equal to, &gt; than ob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CD3C5-15AC-4A1F-9B67-BD05DB665628}" type="slidenum">
              <a:t>9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CCC66A-55D4-4F0F-A289-D60C64B052E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02T02:00:03Z</dcterms:created>
  <dc:creator>Benedikt Stefansson</dc:creator>
  <dc:description/>
  <dc:language>en-US</dc:language>
  <cp:lastModifiedBy>Office</cp:lastModifiedBy>
  <cp:lastPrinted>1998-03-19T09:02:27Z</cp:lastPrinted>
  <dcterms:modified xsi:type="dcterms:W3CDTF">1999-04-02T03:37:47Z</dcterms:modified>
  <cp:revision>19</cp:revision>
  <dc:subject/>
  <dc:title>Agent Based Modeling in Swarm Lecture 8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4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cce.sscnet.ucla.edu/swarmcourse</vt:lpwstr>
  </property>
  <property fmtid="{D5CDD505-2E9C-101B-9397-08002B2CF9AE}" pid="9" name="LinkColor">
    <vt:r8>16711782</vt:r8>
  </property>
  <property fmtid="{D5CDD505-2E9C-101B-9397-08002B2CF9AE}" pid="10" name="MailAddress">
    <vt:lpwstr>benedikt@ucla.edu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swarmfest99\tutorial99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