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2BC9-354B-4E4B-BF0C-65408D5D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619-9598-46CF-B135-2609E3A1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86E-61FE-4683-A008-17B7DFB3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8861-E23B-483A-BC8B-D9F253A6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2D4E-1520-4F6D-A629-952B55AA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3175-29D3-416F-9158-EDAA153D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AC96-D87B-4122-8C69-8AFF353C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A309-9C14-46FD-9646-5FB2D86E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4EF2-6C96-49EB-A383-D5BB830B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607E-BE61-44EC-8B40-F10BB617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BC8A-46C1-4DBC-B349-EA7B5E15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8FCF-6A6A-40EF-9BA7-51254263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34F3-613B-45D7-AFAD-6A2271B1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0C70-0BD6-4D4C-A4E5-67F26721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5A08-FCA4-49DF-BE45-A18B758C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EFD1-7718-4BB9-8C66-E22187E1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6443-8B03-43FD-AC41-51CF6AAF8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F92-0111-4668-A9B2-05492257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8869-3092-4CD5-86C7-EDD02F67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7147-FD3B-4398-BF70-B237AD2F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5550-10E2-49A3-BF4B-4FA9779C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32C6-3301-4F3F-881C-5B0D21C4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B37-7187-4C42-9BD2-37A809A3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305-0023-46AB-99E8-0CDAB24B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98FB2-B12F-4116-ACEE-D98AAF2C101C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48A6-D301-4867-8D00-F9B4CC24D2D6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Diplomverteidig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Them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Untersuchung zur Realisierbarkeit einer technologieneutral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apping-Schicht für den Datenaustausch am Beispiel einer Anwendu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zum medizinischen Formulardruck als integrativer Bestandteil e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lectronic Health Record (EH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19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lmenau, den 27.01.2003        *        25973        *        Torsten Kun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2 Auszug des ER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2" name="ERD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25832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3 Kommunikationsmodel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4" name="Resmedicinae_2Tier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4 Klassendiagram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Gesamtmodell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5. Der Prototyp: </a:t>
            </a:r>
            <a:r>
              <a:rPr b="0" i="1" lang="de-DE" sz="4400" spc="-1" strike="noStrike">
                <a:solidFill>
                  <a:srgbClr val="ffcc66"/>
                </a:solidFill>
                <a:latin typeface="Arial"/>
              </a:rPr>
              <a:t>ReFor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ReForm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4380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 Zusammenfass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Bessere Strukturierung von Prgrammcode mit Softwaremus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erschiedene Persistenzmechanismen garantieren ein sicheres Arbeit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Vorteile verteilter Anwendungen werden für die Verwaltung der Patientenkarteien genutz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 kombiniert Persistenz und Kommunikation in einer Schic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transparent, flexibel erweiterb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6.1 Ausblic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llständige Implementierung der entworfenen Model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s Formulardesigners für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gleichartigen Codes aus den Fat-Clients und Entwicklung eines Drei-Schichten-Model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Welche Fragen sind offen gebliebe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Question1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2017800" cy="2200320"/>
          </a:xfrm>
          <a:prstGeom prst="rect">
            <a:avLst/>
          </a:prstGeom>
          <a:ln w="0">
            <a:noFill/>
          </a:ln>
        </p:spPr>
      </p:pic>
      <p:pic>
        <p:nvPicPr>
          <p:cNvPr id="146" name="Question2" descr=""/>
          <p:cNvPicPr/>
          <p:nvPr/>
        </p:nvPicPr>
        <p:blipFill>
          <a:blip r:embed="rId2"/>
          <a:stretch/>
        </p:blipFill>
        <p:spPr>
          <a:xfrm>
            <a:off x="6095880" y="2590920"/>
            <a:ext cx="2816280" cy="3805200"/>
          </a:xfrm>
          <a:prstGeom prst="rect">
            <a:avLst/>
          </a:prstGeom>
          <a:ln w="0">
            <a:noFill/>
          </a:ln>
        </p:spPr>
      </p:pic>
      <p:pic>
        <p:nvPicPr>
          <p:cNvPr id="147" name="Question3" descr=""/>
          <p:cNvPicPr/>
          <p:nvPr/>
        </p:nvPicPr>
        <p:blipFill>
          <a:blip r:embed="rId3"/>
          <a:stretch/>
        </p:blipFill>
        <p:spPr>
          <a:xfrm>
            <a:off x="1143000" y="3505320"/>
            <a:ext cx="1612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Resmedicinae_3Tier" descr=""/>
          <p:cNvPicPr/>
          <p:nvPr/>
        </p:nvPicPr>
        <p:blipFill>
          <a:blip r:embed="rId1"/>
          <a:stretch/>
        </p:blipFill>
        <p:spPr>
          <a:xfrm>
            <a:off x="378000" y="380880"/>
            <a:ext cx="4620960" cy="609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315400" y="803160"/>
            <a:ext cx="30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rei-Schichten-Mod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Inhal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Vorstellung des Projektes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Motivation und Zielstellu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lementare Architekturen (Softwaremus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gener Ansatz (Modelle und Umsetzu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Der Prototyp: </a:t>
            </a:r>
            <a:r>
              <a:rPr b="0" i="1" lang="de-DE" sz="3200" spc="-1" strike="noStrike">
                <a:solidFill>
                  <a:srgbClr val="ffffff"/>
                </a:solidFill>
                <a:latin typeface="Times New Roman"/>
              </a:rPr>
              <a:t>Re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99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Zusammenfassung und Ausb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 Res Medicina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ezeichnung aus dem Lateinischen,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zu deutsch: „Sache der Medizin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ponentenbasiertes Open Source Projek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ient der Verwaltung, Darstellung, Auswertung und sicheren Verteilung von Patienten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Primäre Zielgruppe: Ärzte, ArzthelferInnen, Patien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nforderungsanalyse parallel zur Realisierungsphase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=&gt; Extreme Program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xtraktion eines Framework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1.1 Eine Einsatzmöglichkei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bination von Handheld / Tablet PC mit dem Krankenbe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Ortsunabhängike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erringerter Verwaltungsaufwand für die Ärz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otwendigkeit eines Sicherheits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nwendungen2_Krankenhau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3505320" cy="2732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1752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11560" y="1752480"/>
            <a:ext cx="379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richtungsinterne Nutzu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 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 einziger Persistenzmechanismus ist unzureichend für die Datenspeicherung moderner Software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Kommunikation zwischen den einzelnen Modulen von 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Res Medicinae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notwendig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Nutzen von externen Services (OMG HDTF: PIDS, CIAS, CO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sergebnisse sollen abstrahierbar und in das Framework aufnehmbarse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2.1 Aufgabenstellu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ntwicklung einer transparenten Schicht, um Domain Model und Backend möglichst unabhängig voneinander zu gestalten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Basis: Softwaremu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Untersuchung von Kommunikationsparadigmen und Finden einer allgemeinen Möglichkeit, diese transparent zu nutz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Testen der umgesetzten Modelle anhand eines zu erstellenden Prototypen zum elektronischen Formulardru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3. Zwei wesentliche Softwaremuster</a:t>
            </a:r>
            <a:br>
              <a:rPr sz="3600"/>
            </a:br>
            <a:r>
              <a:rPr b="0" lang="de-DE" sz="3600" spc="-1" strike="noStrike">
                <a:solidFill>
                  <a:srgbClr val="ffcc66"/>
                </a:solidFill>
                <a:latin typeface="Arial"/>
              </a:rPr>
              <a:t>                          </a:t>
            </a:r>
            <a:r>
              <a:rPr b="0" lang="de-DE" sz="2800" spc="-1" strike="noStrike">
                <a:solidFill>
                  <a:srgbClr val="ffcc66"/>
                </a:solidFill>
                <a:latin typeface="Arial"/>
              </a:rPr>
              <a:t>für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600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Persisten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DataMaper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3429000" cy="3535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4120" y="16002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ffcc66"/>
                </a:solidFill>
                <a:uFillTx/>
                <a:latin typeface="Arial"/>
              </a:rPr>
              <a:t>Kommunik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248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Mapp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62485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Data Transfer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DTO" descr=""/>
          <p:cNvPicPr/>
          <p:nvPr/>
        </p:nvPicPr>
        <p:blipFill>
          <a:blip r:embed="rId2"/>
          <a:stretch/>
        </p:blipFill>
        <p:spPr>
          <a:xfrm>
            <a:off x="4648320" y="2666880"/>
            <a:ext cx="4114800" cy="35038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209680" y="5029200"/>
            <a:ext cx="25909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236232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362320"/>
            <a:ext cx="41911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143000" y="23619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209680" y="47239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4495680"/>
            <a:ext cx="5867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153280" y="37339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 Eigener Ansatz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51520" y="2125800"/>
            <a:ext cx="363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266720" y="1904760"/>
            <a:ext cx="4496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odel-View-Controller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zur Präsentation der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omain Model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de-DE" sz="2400" spc="-1" strike="noStrike">
                <a:solidFill>
                  <a:srgbClr val="ffffff"/>
                </a:solidFill>
                <a:latin typeface="Times New Roman"/>
              </a:rPr>
              <a:t>Electronic Health Record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gener Datentyp für die Geschäftsda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ayer PerCom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eine einzige Schicht für die transparente Datensicherung und Kommunik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Persistenzschicht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als Back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LogischeArchitektur_Resmedicinae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426120" cy="4648320"/>
          </a:xfrm>
          <a:prstGeom prst="rect">
            <a:avLst/>
          </a:prstGeom>
          <a:ln w="0">
            <a:noFill/>
          </a:ln>
        </p:spPr>
      </p:pic>
      <p:pic>
        <p:nvPicPr>
          <p:cNvPr id="123" name="DataMaper" descr=""/>
          <p:cNvPicPr/>
          <p:nvPr/>
        </p:nvPicPr>
        <p:blipFill>
          <a:blip r:embed="rId2"/>
          <a:stretch/>
        </p:blipFill>
        <p:spPr>
          <a:xfrm>
            <a:off x="4343400" y="1828800"/>
            <a:ext cx="4572000" cy="464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V="1">
            <a:off x="6095880" y="45720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00040" y="5105520"/>
            <a:ext cx="2895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495680"/>
            <a:ext cx="17524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289512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0400" y="5791320"/>
            <a:ext cx="2666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4.1 Dateien und Tabellen</a:t>
            </a:r>
            <a:br>
              <a:rPr sz="4400"/>
            </a:br>
            <a:r>
              <a:rPr b="0" lang="de-DE" sz="1800" spc="-1" strike="noStrike">
                <a:solidFill>
                  <a:srgbClr val="ffcc66"/>
                </a:solidFill>
                <a:latin typeface="Arial"/>
              </a:rPr>
              <a:t>Zwei entworfene und umgesetzte Persistenzmechanismen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0" name="XML2DB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7631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07:39:32Z</dcterms:created>
  <dc:creator>zonie</dc:creator>
  <dc:description/>
  <dc:language>en-US</dc:language>
  <cp:lastModifiedBy>zonie</cp:lastModifiedBy>
  <dcterms:modified xsi:type="dcterms:W3CDTF">2003-01-22T14:39:41Z</dcterms:modified>
  <cp:revision>130</cp:revision>
  <dc:subject/>
  <dc:title>Diplomverteidigung</dc:title>
</cp:coreProperties>
</file>