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40637"/>
        <c:axId val="24183088"/>
      </c:barChart>
      <c:catAx>
        <c:axId val="21840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3088"/>
        <c:crosses val="autoZero"/>
        <c:auto val="1"/>
        <c:lblAlgn val="ctr"/>
        <c:lblOffset val="100"/>
        <c:noMultiLvlLbl val="0"/>
      </c:catAx>
      <c:valAx>
        <c:axId val="24183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0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BEB-50F4-48B3-8E69-C30B95E1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E08-9585-480D-8FC3-3177B3E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B36-FF5A-4802-9166-2E07F02E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D31-323A-44E0-983B-4ACCB799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AC6-50FC-4C23-B69E-983ED851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9CC-8665-4330-9699-6C0A4E14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5EE-0FA1-491C-9881-E332BC4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6F5-61DB-43C1-9D48-F8F6726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533-CCDF-4389-B796-FBFBA13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AB8-C312-43DD-A3E1-F416183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B2B-A7BE-4637-93D9-7F743B0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62D-6270-4EAC-92AB-0165A01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B6BC1-1B40-4651-BE73-A6DC148A2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