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66F3428-965A-46E1-8302-68681DBABA0A}"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3B5189A-18E4-4716-A2B6-B883C5ADE44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EDBDFE9-F0DA-47F9-B93D-C45058B496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A1371D4-F5D2-4A6C-9E1E-6A78287937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BBDC914-BCEE-4541-8B92-42123A7866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2750722-5D7C-48E1-9883-750CC9E2A3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286036E-1F9A-4892-8D30-A8CCA8CB41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C0B9579-4B1F-43F3-BA8D-52474948775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366805D-9F30-4119-A9F1-C8E90CF1D50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66D90A5-BF00-47D2-8B4F-B9835406BF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0A6B2FA-E536-4D95-AC4E-C36A3F5E1CE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25BB7FB-74DA-428A-BC73-95392CBDB42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6B0BD68-5E12-4A79-A903-0D7EEEDE946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AE0194-5C30-41EE-84F8-D5A2F87F02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6A4D34C-73A5-4525-BF18-E81DA6CD9B2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07CF2ED-63F8-4926-99FA-E79AC15FBB8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2AA98BB-747C-494A-8AA5-135FF6AAD55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593AFBA-D40C-4259-AD42-B6C9C1B4C6B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644507B-5986-4E65-88E0-E531677AA5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5F84E0-FA4D-43FC-817A-688712D902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C9E225-7FAA-4A5A-8091-F9C79A12E6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7B3341-2F66-4FE2-9C05-73D617959F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5BDDE4-243D-4F69-83AE-2611C81717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160462-46D5-4354-9E3A-BA696CBC40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822B83-2FCC-4356-84F4-06E9E5558D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21C238-CACE-4444-A626-147E8F5FF8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9A06E-FCD6-4897-BFA2-D4DBF53C44CB}"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5CB65-BFAF-45AA-BB12-21487E07C3E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7588877-CB3B-49A2-AC4B-060492E8E9E3}"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2C53C09-7A48-4F1C-9A59-B348355DC3EF}"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9324C51-B072-4477-B248-AE052E8842A1}"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D025985-3EA9-4B0D-BA26-5CA48E8E058A}"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561688F-F17F-4EA5-A794-09529622B314}"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E911DEB-3A95-42AD-8D5D-7C25506FEE20}"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F2BDDE2-A35F-4471-80B9-21051D3B16E6}"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B14F6C8-B8FA-46CE-B8C4-9D4C94AC2CE3}"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A3644E4-49E9-49C7-91CE-B25F8C34036C}"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8592A54-B7CC-4EC9-B12D-46DA5FF7452F}"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07DDDD6-9B1F-4067-A5D1-CAD0CD07911E}"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9A2C52B-4D6C-4FC7-ADD1-4573A885B470}"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35A1320-D226-4DD9-8E75-57E240F514C3}"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C010BA3-AA07-42FC-A7D6-CE98B219DF5B}"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2EDF2B6-961D-419F-A6D0-8BE3EC0D88F3}"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3309406-C968-4C81-816F-96557E156F8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A4578B6-31E6-4549-96C3-D6FDD8346E8D}"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5ADE9C2-0C45-4AFD-81A9-F73AE92B07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D5E814CA-6C13-49B7-9339-262C6E74475B}"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F3B1648-4112-4D56-8A9E-E6C66AF93005}"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3B67911-FB48-4D27-8DA3-735C911102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97ACD4D-ECCB-4D89-AA5A-6C46AFC61B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102352B-9F0A-4072-AB2F-CEEAF761AFF6}"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F79ADEA-0E9D-48AD-B20B-BC6B7037C8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3051327-1AF6-40D7-B8D9-3ECF435AEA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F69CEA6-7D5D-4186-95AC-5C8AC3503B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DFEC4AD-61AC-4611-A333-67184A579425}"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9BF8E03-C666-4A62-AD55-47DF723CC8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48F49EE-F0A9-4B98-870A-23EE372CFC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C950636-DA10-40FC-B0F8-E06D4ECC0B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1D5AB1D-BE15-4966-AA2D-1277512739F2}"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7181F63-D11F-4644-937F-C6F4020D098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05931B8-DA51-443C-851E-9EB33E20FE8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DCCE61E-4580-423C-A778-93FF2F28D990}"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A2BB73B-72EF-48E2-9BB0-D2726A8D6EF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99DC246-C585-4E99-A81E-8BC31FF5A5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5F9049F-E00C-4E32-9322-FAECBFCD85B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A1B177F-70EE-4E43-AD70-47BDBA786E0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7F47DB0-12E3-46FA-861E-6E7F483D91D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5F15A1C-25BE-4A3B-BA0C-2A812C4E4CA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3920740-EC7D-4674-AAF7-D19F80A1BED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8BC6CC3-A243-47B9-B44D-48B6F20A0D5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AC8CE04-AE73-44C4-8159-C8EF97B9004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2DCD3B1-648F-433A-8FAB-1537990FB33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444796B-E586-4F76-9A22-E680F95A9FA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0F482C4-A0AF-4665-9C1C-820CB8123AE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C43F4E1-5E68-4157-9B6A-3119AB6AAF35}"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A058B2D-F756-4099-BACC-F76E6C6577E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AF70C90-6BE7-45CA-A14E-CE2AC728FD1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20D1A70-F197-4BE5-9A53-3E94406A28D1}"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7E5D92C-E8EC-48C5-96C8-ACFEC4D15EE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1224B88-5A6B-4587-AD3B-DE1223E1E8FF}"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F1C27AA-1D5E-4BCD-9005-138EF31F1175}"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A9E133D-F555-4CA3-AF2F-824AA47487DE}"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E283B41-F9CD-4C99-91E7-070A0FDE8419}"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8A3F75B-8971-4DD8-8A7F-B9B00DF8AED6}"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922C7D6-77A9-4091-A281-088E54828559}"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91FBE91-0721-4F80-91D0-D96B0D75D763}"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44FC48B-BB36-47F1-84F5-F272E406AAF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8AB8044-DDED-450F-8F8C-573AAE3613D8}"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EAB2474-78A2-4F7D-9EF2-A7C89B859635}"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46384D1-B6ED-451D-AA15-768E1B2CE7C7}"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E9BD499-6881-4028-9982-D446F503A2E7}"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25F9D58-2D61-417E-9C88-567AFC08C728}"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2A126C3-A966-40AA-9B04-5BDFA64ADEF6}"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4ED6204-AB88-4470-8DAB-42553CD6D451}"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33DD8FA-7FE7-44B9-956A-4B6F6FEBDC3D}"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FCB6037-2F29-4B17-852B-3EA1122049DA}"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AD20D20-6544-4482-8873-4F471AB1A77A}"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02C299B-E43D-4D43-92A7-19647BE4E130}"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2B049E8-383B-49FD-82F2-10BF8C8E6D4A}"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98F54A9-21F5-44EA-8296-0EDA11D0EA8E}"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90185C7-B257-4FEE-B486-7CBFD4EE8659}"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9140945-CB54-4F2B-BC13-C62049589DC6}"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99B4B57-B4FE-4255-AA5D-C66A48539B0F}"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2B80BD9-2B1D-4CF6-8E8B-FF0CFDB85DB0}"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861BC69-8829-4A5E-8F54-A2BD7CA38AA0}"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A0B3445-67C4-4AE1-B762-EB869D8E39B6}"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AEC575A-F668-4C8D-8B95-E09FFB48380A}"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CF057BA-7029-48F2-9923-52703EC28B80}"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66C1468-3884-4615-B7A1-30D1482AF451}"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5AF8A02-43DC-485E-852B-B192866330D7}"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520DF08-9F08-4C9E-9F48-BD346A8D1B1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E2548CD-EEE0-4B01-AB54-BDF9B974FF3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388EB0A-2D0E-4C80-9539-ADA0A3489B45}"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3201155-1F3C-42F6-8C64-D751E772A92E}"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131DD6D-5EA3-46C1-86F4-8B9C14AADA5D}"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9053C7B-6497-4AD9-98A4-C76D70AC8169}"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00927B7-93A0-46D8-B5DD-815DAE25916C}"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B978CCB-8479-4B2E-AB6B-31908A2A11E2}"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45DD228-CD7A-4149-B5F3-4FAA0C586771}"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6058B0C-5780-4C55-820E-DF6DF3596357}"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5D2AFB-7146-4A02-A6FF-BD6089E42462}"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DFEC4B2-02DE-4867-9175-195E6C270806}"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38EF5C32-3B58-45D3-804B-B7E2D06D8461}"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7BFC17F-72DF-4DD8-9C43-8B3A4B461D30}"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43B4E3E-FC55-4301-829F-17C8AC39C0D2}"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8C7E36D-37BE-466E-93AF-9B835D957C95}"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9912CD9-43D5-4A85-8F27-E58D67715674}"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719D86C-C7C9-4436-BAB9-66C5129C2D57}"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17ADEFA-8ADC-48C8-A0F2-ED3E5673D138}"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FABEEE7-61C3-4537-86F1-B9D3AD8D33AA}"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1277546-94A5-4394-936C-782E0D7BD0C8}"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3A62AC8-3BBE-4A81-9E0E-4F49E08191DF}"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64217D6-6E93-46AC-BF62-5F6048155E44}"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FB4CF8F-6343-48BD-8AAB-207DC728BC44}"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0CA92F31-161B-4F4B-B94F-83E571EF26E1}"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BA5F6C6-3322-4B97-AC26-D2A1BD5F9370}"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B09A8E2-3EAA-41C7-AA70-2D48761199A8}"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66F739F-712C-4649-AA38-A20B337E58D3}"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9700991-9759-4E96-B332-949EDCF74B6B}"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0954488-51DC-4BCB-B6FC-1AA3E0217179}"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