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8005"/>
        <c:axId val="36517885"/>
      </c:barChart>
      <c:catAx>
        <c:axId val="40880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17885"/>
        <c:crosses val="autoZero"/>
        <c:auto val="1"/>
        <c:lblAlgn val="ctr"/>
        <c:lblOffset val="100"/>
        <c:noMultiLvlLbl val="0"/>
      </c:catAx>
      <c:valAx>
        <c:axId val="36517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80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F9B6-0B02-46BF-9A12-D28E742C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D9D0-8917-4686-B763-D8503F2E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145A-D2C5-4B39-ABB5-87BF907C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2488-9618-42F2-9CDD-AEED8384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247-398F-423D-AD7B-D5C82A49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2F3-CC78-44B4-B795-94B7E4F7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538-6D1C-4731-89A7-C06580AF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64B-3280-47C3-BFEC-4C3AA403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2FE-67F0-4C15-914B-27B1FCAB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1F8-E1ED-4FB7-9370-E816C69A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D76-6E02-4B54-A244-EB10C702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96D-CA7F-4993-AF14-EA010EE2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31637-BDB6-4067-8975-3737A55456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