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3724"/>
        <c:axId val="17229267"/>
      </c:barChart>
      <c:catAx>
        <c:axId val="2883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29267"/>
        <c:crosses val="autoZero"/>
        <c:auto val="1"/>
        <c:lblAlgn val="ctr"/>
        <c:lblOffset val="100"/>
        <c:noMultiLvlLbl val="0"/>
      </c:catAx>
      <c:valAx>
        <c:axId val="17229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A83-84C1-4D74-BE91-5D4C16FE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C88-8D7B-4833-9772-4E58533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FB2-8975-4EB1-BF79-4D2BFEC1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F3A-8A61-418F-997A-745147E9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4D1-69DE-4A4F-B745-8B68E15A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286-FC49-4A40-8F00-6B003651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E2A-A876-494C-BF10-3DA73F33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6E8-C3AC-4C6C-A1C2-FD0AADF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529-EE47-4AF3-81E8-FD7FCFF4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A0D-01C4-43C0-863D-8412637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3D8-B7D8-422E-848A-BEBB3ED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BFF-90EC-4E66-BB25-13A22F5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5ECF6-B192-4A66-92C6-BDFC69F456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