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32600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19DA-A1AA-4580-ACDD-C62ADE0EE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AEE0-7E58-4F40-B7EB-3971222FE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B02E-0A6A-4EC4-9CBB-351D4FB0F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B9E8-BBCD-4428-B6FF-1F64CF3DF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ADB8-D7FB-4BEC-863E-3AE14CE16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40D4-7E40-48E8-A6E2-E0BE2BE7C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0A0A-F51C-40AB-99D2-133B12D58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AC10-5C92-433A-920A-6AF931C1B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1731-700F-43BC-B0CA-95F5AED6F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F3A6-2B9A-41ED-98CC-C780C268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D7C1-3E9A-4362-BBEA-3F617E6A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9635-D5C4-4D14-901C-769F30C8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A1788-FBC5-4879-9EB8-9FEACF578F5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54B00-5DED-4B47-B0C2-F786A17A96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I: Simplebug 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dSpace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subclassing from Discrete2d FoodSpace inherits several Ivars and about 16 methods to store and retrieve values in 2d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nly addition is a method to fill space with “foo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77240" y="2154240"/>
            <a:ext cx="43261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seedFoodWithProb:(float)seedPro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x,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y = 0; y &lt; ysize; y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x = 0; x &lt; xsize; x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[uniformDblR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tDoubleWithMin: 0.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ithMax: 1.0]&lt;=seedPr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elf putValue: 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tX: 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: y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246720" y="5345280"/>
            <a:ext cx="2343240" cy="439560"/>
          </a:xfrm>
          <a:prstGeom prst="wedgeRectCallout">
            <a:avLst>
              <a:gd name="adj1" fmla="val -49527"/>
              <a:gd name="adj2" fmla="val -173828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53080" y="2666880"/>
            <a:ext cx="2343240" cy="439920"/>
          </a:xfrm>
          <a:prstGeom prst="wedgeRectCallout">
            <a:avLst>
              <a:gd name="adj1" fmla="val -37398"/>
              <a:gd name="adj2" fmla="val 75629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CBC5-EA08-4BBE-B505-C87E4F1C8CB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1BD322-3B1A-4057-93A4-C25A6993CF6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 class of Swarm. Memory management, create, drop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support for 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 lattic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57760" y="217800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99160" y="2954160"/>
            <a:ext cx="541440" cy="54144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103" idx="4"/>
            <a:endCxn id="104" idx="0"/>
          </p:cNvCxnSpPr>
          <p:nvPr/>
        </p:nvCxnSpPr>
        <p:spPr>
          <a:xfrm flipH="1" rot="16200000">
            <a:off x="6281640" y="2365920"/>
            <a:ext cx="235440" cy="942120"/>
          </a:xfrm>
          <a:prstGeom prst="bentConnector3">
            <a:avLst>
              <a:gd name="adj1" fmla="val 4992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6" name=""/>
          <p:cNvSpPr/>
          <p:nvPr/>
        </p:nvSpPr>
        <p:spPr>
          <a:xfrm>
            <a:off x="6523920" y="21924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304812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284960" y="3639960"/>
            <a:ext cx="541440" cy="54144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89680" y="3639960"/>
            <a:ext cx="541440" cy="54144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4" idx="4"/>
            <a:endCxn id="109" idx="0"/>
          </p:cNvCxnSpPr>
          <p:nvPr/>
        </p:nvCxnSpPr>
        <p:spPr>
          <a:xfrm rot="5400000">
            <a:off x="6492960" y="3262320"/>
            <a:ext cx="144720" cy="610200"/>
          </a:xfrm>
          <a:prstGeom prst="bentConnector3">
            <a:avLst>
              <a:gd name="adj1" fmla="val 4937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" name=""/>
          <p:cNvCxnSpPr>
            <a:stCxn id="104" idx="4"/>
            <a:endCxn id="108" idx="0"/>
          </p:cNvCxnSpPr>
          <p:nvPr/>
        </p:nvCxnSpPr>
        <p:spPr>
          <a:xfrm flipH="1" rot="16200000">
            <a:off x="7140600" y="3224160"/>
            <a:ext cx="144720" cy="686520"/>
          </a:xfrm>
          <a:prstGeom prst="bentConnector3">
            <a:avLst>
              <a:gd name="adj1" fmla="val 4937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2" name=""/>
          <p:cNvSpPr/>
          <p:nvPr/>
        </p:nvSpPr>
        <p:spPr>
          <a:xfrm>
            <a:off x="4465800" y="379260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67240" y="463068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89680" y="4554360"/>
            <a:ext cx="541440" cy="54144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09" idx="4"/>
            <a:endCxn id="114" idx="0"/>
          </p:cNvCxnSpPr>
          <p:nvPr/>
        </p:nvCxnSpPr>
        <p:spPr>
          <a:xfrm>
            <a:off x="6260760" y="4181400"/>
            <a:ext cx="1080" cy="373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ower of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0B5A-0807-4DE7-8025-CCE06466A6E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44E049-69BA-43C2-AB6A-40FD484AEBC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: The Model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stance of the  Swarm class can manage a model 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ilitates the creation of agents and interaction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 can have many Swarms, often n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43600" y="1981080"/>
            <a:ext cx="133020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3886200"/>
            <a:ext cx="160020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4114800"/>
            <a:ext cx="1676520" cy="16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/>
          <p:nvPr/>
        </p:nvCxnSpPr>
        <p:spPr>
          <a:xfrm>
            <a:off x="6019560" y="4723920"/>
            <a:ext cx="686520" cy="105480"/>
          </a:xfrm>
          <a:prstGeom prst="straightConnector1">
            <a:avLst/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5442120" y="2867040"/>
            <a:ext cx="22698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0762200">
            <a:off x="5257800" y="35809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rot="10777800">
            <a:off x="7543080" y="3809520"/>
            <a:ext cx="457200" cy="38124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56240" y="271620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62920" y="281952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289548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33AE-57A4-41E7-BBED-12F2B618C39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13AC55-52D5-46BA-B75A-A35E5CC451E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Begin,create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memory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uild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all the agents and objects i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I. build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rder and timing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V. act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 into top level swarm or start Swarm r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F943-5306-4EFB-A6C0-81E0F53BE76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5242D7-018F-4BEF-836F-7BB8B3DDEB6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752480" y="1905120"/>
            <a:ext cx="213372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48320" y="1905120"/>
            <a:ext cx="106668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2362320"/>
            <a:ext cx="304812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52480" y="2971800"/>
            <a:ext cx="548640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3429000"/>
            <a:ext cx="36576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: Initia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52120" y="190512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createBegin: (id) aZon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warm *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 = [super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worldXSize = 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worldYSize = 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seedProb = 0.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xPos = 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yPos = 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182880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190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228600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19320" y="2895480"/>
            <a:ext cx="374400" cy="405000"/>
          </a:xfrm>
          <a:custGeom>
            <a:avLst/>
            <a:gdLst>
              <a:gd name="textAreaLeft" fmla="*/ 85320 w 374400"/>
              <a:gd name="textAreaRight" fmla="*/ 289080 w 37440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4038480"/>
            <a:ext cx="374400" cy="405000"/>
          </a:xfrm>
          <a:custGeom>
            <a:avLst/>
            <a:gdLst>
              <a:gd name="textAreaLeft" fmla="*/ 85320 w 374400"/>
              <a:gd name="textAreaRight" fmla="*/ 289080 w 37440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631B-1A37-4641-803A-7023CEE726F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D3721C-F498-4355-B32A-1D6433A960F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on createBegin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“+” indicates that this is a class method as opposed to “-” which indicates an instance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warm * obj” indicates to compiler that obj is statically typ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super ...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es createBegin method in the super class of obj (Swarm) and returns an instance of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-&gt;varName=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ses OOP paradigm and “pokes” values directly into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44197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42670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12F0-526A-480A-B41B-43996BCF7A28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5D7FF3-E300-44E5-B764-829937CCE9E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mory z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fobj super class provides facilities to create and drop an object - allocate and deallocate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object is created in a memory z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ively this means that the underlying mechanism provides enough memory for the instance, its variables and metho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zone also keeps track of all objects created in it and allows you to reclaim memory simply by dropping a zone. It will signals to all objects in it to destroy themsel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99072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499E-000C-46BB-9014-8E0AE9965FE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8A9A50-8B10-4BEB-9BE4-45F51C43C04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0880" y="4648320"/>
            <a:ext cx="556272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3276720"/>
            <a:ext cx="685800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1828800"/>
            <a:ext cx="4114800" cy="10666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0200" y="3657600"/>
            <a:ext cx="66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ain.m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elSwarm= [ModelSwarm create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did that zone come fro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360" y="2133720"/>
            <a:ext cx="4190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ain.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initSwarm (argc, argv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2520" y="5029200"/>
            <a:ext cx="37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odelSwarm.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+createBeg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24280" y="1600200"/>
            <a:ext cx="3962520" cy="2057400"/>
          </a:xfrm>
          <a:prstGeom prst="ellipse">
            <a:avLst/>
          </a:prstGeom>
          <a:solidFill>
            <a:srgbClr val="00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vari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s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create a global memory z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ong other th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4114800"/>
            <a:ext cx="4343400" cy="1905120"/>
          </a:xfrm>
          <a:prstGeom prst="ellipse">
            <a:avLst/>
          </a:prstGeom>
          <a:solidFill>
            <a:srgbClr val="00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: method is implem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superclass of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it calls the createBeg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"/>
          <p:cNvCxnSpPr/>
          <p:nvPr/>
        </p:nvCxnSpPr>
        <p:spPr>
          <a:xfrm rot="5400000">
            <a:off x="6912000" y="2688120"/>
            <a:ext cx="716760" cy="12834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"/>
          <p:cNvCxnSpPr/>
          <p:nvPr/>
        </p:nvCxnSpPr>
        <p:spPr>
          <a:xfrm flipH="1" rot="16200000">
            <a:off x="5637600" y="3809520"/>
            <a:ext cx="343800" cy="8010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4" name=""/>
          <p:cNvCxnSpPr/>
          <p:nvPr/>
        </p:nvCxnSpPr>
        <p:spPr>
          <a:xfrm flipH="1" flipV="1" rot="5400000">
            <a:off x="4266720" y="608760"/>
            <a:ext cx="229320" cy="2972520"/>
          </a:xfrm>
          <a:prstGeom prst="curvedConnector5">
            <a:avLst>
              <a:gd name="adj1" fmla="val 200000"/>
              <a:gd name="adj2" fmla="val 50000"/>
              <a:gd name="adj3" fmla="val 20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/>
          <p:nvPr/>
        </p:nvCxnSpPr>
        <p:spPr>
          <a:xfrm flipV="1" rot="16200000">
            <a:off x="4456440" y="4381560"/>
            <a:ext cx="315000" cy="2218320"/>
          </a:xfrm>
          <a:prstGeom prst="curvedConnector5">
            <a:avLst>
              <a:gd name="adj1" fmla="val -161556"/>
              <a:gd name="adj2" fmla="val 49991"/>
              <a:gd name="adj3" fmla="val -161556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4D46-2697-4451-8AB1-32901FAC7F5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5AD5E1-77C1-4712-83E8-91BB85DFF04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838080" y="2286000"/>
            <a:ext cx="57913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2649600"/>
            <a:ext cx="5791320" cy="3207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3429000"/>
            <a:ext cx="5791320" cy="304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3048120"/>
            <a:ext cx="5791320" cy="304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3886200"/>
            <a:ext cx="57913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4267080"/>
            <a:ext cx="5791320" cy="10670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5410080"/>
            <a:ext cx="5791320" cy="304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: Building the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buildObject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odSpace = [FoodSpace createBegin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oodSpace setSizeX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odSpace = [foodSpac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oodSpace seedFoodWithProb: seedProb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g = [Bug createBegin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WorldSizeX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FoodSpace: foodSpac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X: xPos Y: yPo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g = [aBug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self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8C14-CE18-4ED6-9548-2C98C822C06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47DDF7-728D-43D1-B52A-A23EB768071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on the buildObjects 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urpose of this method is to create each instance of objects needed at the start of simulation, and then to pass parameters to th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good OOP protocol to provide setX: methods for each parameter X we want to set, as in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aBug setFoodSpace: foodSpac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7CC0-61F2-4798-AB8A-788228E2202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A32051-D1F9-4AA9-9770-7DEAFF4CC09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torial: Simpl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: From C to Objective-C to 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GUI: Probes, raster image,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ng and controlling full experiment r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ics cover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ing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s, activity library, probes, GU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1E93-0D03-439B-B5DD-BEEE9698B52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01A19B-D2AF-4E4F-B54D-ED56D7FDD15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createBegin vs. creat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createBegin:, createEnd is appropriate when we want a reminder that the object needs to initialize something, calculate or set (usually this code is put in the createEnd metho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use createBegin with createEnd to avoid messy problems (object returned o.w. not val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create: is perfectly fine if we just want just to create an object without further 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3EBC-A84E-4EF9-9FBA-C338A1CD13A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A8F7D0-42F8-49C6-BEE5-7321C55AD68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09480" y="3505320"/>
            <a:ext cx="6934320" cy="304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3124080"/>
            <a:ext cx="693432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2743200"/>
            <a:ext cx="693432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I: Building schedul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buildAction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chedule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setRepeatInterval: 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chedule = [modelSchedul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t: 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ctionTo: aBug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ssage: M(step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D93B-A7CC-49BD-BDEA-80BFBFBD4F8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419A31-B14B-4C77-AB5A-282150B4A13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1981080"/>
            <a:ext cx="40384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 define event in term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of first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to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interv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86280" y="2239920"/>
            <a:ext cx="337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27640" y="2133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209000" y="212724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49080" y="15652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77520" y="157644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76160" y="16066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48120" y="22194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97520" y="22114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971960" y="3394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93160" y="3429000"/>
            <a:ext cx="37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    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ActionTo: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:            M(method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729480" y="339552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427880" y="37609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153280" y="41148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71560" y="333864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71560" y="28908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71560" y="423216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71560" y="378468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9E4A-7CDC-40F1-8E0F-C945F707606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15CE3C-EF87-47E6-970D-5A761845ED3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y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1981080"/>
            <a:ext cx="36162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Groups group together events at same tim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then “executes”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69000" y="2509920"/>
            <a:ext cx="336996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10360" y="240336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91360" y="239724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284880" y="239076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07280" y="2476440"/>
            <a:ext cx="0" cy="811440"/>
          </a:xfrm>
          <a:prstGeom prst="line">
            <a:avLst/>
          </a:prstGeom>
          <a:ln w="50760">
            <a:solidFill>
              <a:srgbClr val="99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00800" y="3317760"/>
            <a:ext cx="0" cy="669960"/>
          </a:xfrm>
          <a:prstGeom prst="line">
            <a:avLst/>
          </a:prstGeom>
          <a:ln w="50760">
            <a:solidFill>
              <a:srgbClr val="99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82200" y="19051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11000" y="19162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109640" y="194616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30840" y="248904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80240" y="248112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48320" y="299412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sleep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78200" y="365760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ood grow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72080" y="3911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65C4-F6A6-469B-81E3-EA37AEFFF9A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7F880B-7808-45F8-AAF5-D76533AA587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1592280"/>
            <a:ext cx="7772400" cy="43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1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1 setRepeatInterval: 2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1=[schedule1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1 at: 1 createActionTo: bug message: M(eat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Group=[ActionGroup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ActionTo: bug message: M(sleep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ActionTo: food message: M(grow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2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2=[schedule2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2 at: 2 createAction: actionGroup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7961400" y="1816200"/>
            <a:ext cx="1440" cy="4608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5373600">
            <a:off x="7841880" y="26575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5373600">
            <a:off x="7846560" y="55944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5373600">
            <a:off x="7846560" y="379080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090640" y="20923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136720" y="36370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128800" y="54151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3352680"/>
            <a:ext cx="6019920" cy="2743200"/>
          </a:xfrm>
          <a:prstGeom prst="rect">
            <a:avLst/>
          </a:prstGeom>
          <a:noFill/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1600200"/>
            <a:ext cx="6019920" cy="160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3"/>
            <a:endCxn id="222" idx="4"/>
          </p:cNvCxnSpPr>
          <p:nvPr/>
        </p:nvCxnSpPr>
        <p:spPr>
          <a:xfrm>
            <a:off x="6638400" y="2400120"/>
            <a:ext cx="1204200" cy="371880"/>
          </a:xfrm>
          <a:prstGeom prst="bentConnector3">
            <a:avLst>
              <a:gd name="adj1" fmla="val 49461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231" name=""/>
          <p:cNvCxnSpPr>
            <a:stCxn id="229" idx="3"/>
            <a:endCxn id="223" idx="4"/>
          </p:cNvCxnSpPr>
          <p:nvPr/>
        </p:nvCxnSpPr>
        <p:spPr>
          <a:xfrm>
            <a:off x="6638760" y="2400120"/>
            <a:ext cx="1208880" cy="3308760"/>
          </a:xfrm>
          <a:prstGeom prst="bentConnector3">
            <a:avLst>
              <a:gd name="adj1" fmla="val 14566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232" name=""/>
          <p:cNvCxnSpPr>
            <a:stCxn id="228" idx="3"/>
            <a:endCxn id="224" idx="4"/>
          </p:cNvCxnSpPr>
          <p:nvPr/>
        </p:nvCxnSpPr>
        <p:spPr>
          <a:xfrm flipV="1">
            <a:off x="6638760" y="3904560"/>
            <a:ext cx="1208880" cy="819720"/>
          </a:xfrm>
          <a:prstGeom prst="bentConnector3">
            <a:avLst>
              <a:gd name="adj1" fmla="val 49538"/>
            </a:avLst>
          </a:prstGeom>
          <a:ln w="50760">
            <a:solidFill>
              <a:srgbClr val="99cc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EDFE-2E20-4369-9F27-338B110BCA5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818AA7-8B7A-467C-B875-4A308096223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V: Activating the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[self getActivity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0C65-A998-4C78-A307-81D74E2FB00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4CB3E2-0DD4-4B6C-8D33-AAD442C109C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819520" y="4800600"/>
            <a:ext cx="5562360" cy="9144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3429000"/>
            <a:ext cx="533376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ation of schedule(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2286000"/>
            <a:ext cx="601992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563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main.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modelSwarm activateIn: nil]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11680" y="37339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125880" y="5029200"/>
            <a:ext cx="50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"/>
          <p:cNvCxnSpPr/>
          <p:nvPr/>
        </p:nvCxnSpPr>
        <p:spPr>
          <a:xfrm>
            <a:off x="6171840" y="2971800"/>
            <a:ext cx="762840" cy="8388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3" name=""/>
          <p:cNvCxnSpPr/>
          <p:nvPr/>
        </p:nvCxnSpPr>
        <p:spPr>
          <a:xfrm flipH="1" rot="16200000">
            <a:off x="6742800" y="4305240"/>
            <a:ext cx="991440" cy="610200"/>
          </a:xfrm>
          <a:prstGeom prst="curvedConnector5">
            <a:avLst>
              <a:gd name="adj1" fmla="val 49981"/>
              <a:gd name="adj2" fmla="val 50000"/>
              <a:gd name="adj3" fmla="val 49981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410080" y="1523880"/>
            <a:ext cx="3353040" cy="144792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only 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so we activ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n 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276720"/>
            <a:ext cx="3733560" cy="198108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one line could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otion complex sche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merging and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1985-B6BE-48F0-AA21-F699A724C62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F911C6-AB32-4BB7-B195-7F999DF6DDE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4876920" y="4191120"/>
            <a:ext cx="1371600" cy="137160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 II: More bu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anage more than one bug ad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, a Grid2d instance that enforces one bug per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, to keep track of bugs as a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86400" y="1981080"/>
            <a:ext cx="1219320" cy="53352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00800" y="4114800"/>
            <a:ext cx="1371600" cy="1371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832280" y="2562120"/>
            <a:ext cx="227016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 rot="10777800">
            <a:off x="6857280" y="37339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19920" y="236232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251460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934320" y="259092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17683800">
            <a:off x="3026160" y="4440960"/>
            <a:ext cx="2486160" cy="4622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0" y="380988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1500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4267080"/>
            <a:ext cx="343080" cy="344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38480" y="46483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9880" y="51055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10762200">
            <a:off x="4572000" y="33523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38840" y="55627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AC95-883D-41B7-9A6F-20E3C25B33C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4AACFF-7FBD-4F48-89E6-5BE97DBD93F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495680" y="3733920"/>
            <a:ext cx="4040280" cy="609480"/>
          </a:xfrm>
          <a:prstGeom prst="rect">
            <a:avLst/>
          </a:prstGeom>
          <a:solidFill>
            <a:srgbClr val="99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95680" y="4419720"/>
            <a:ext cx="404028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population of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00720" y="1827360"/>
            <a:ext cx="4038480" cy="582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98920" y="5519880"/>
            <a:ext cx="4040280" cy="582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498920" y="3352680"/>
            <a:ext cx="4040280" cy="3049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981080"/>
            <a:ext cx="3244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collection objects (Grid2d, List) to keep track of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for loop create each instance &amp; initi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put each agent on list,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224240" y="1981080"/>
            <a:ext cx="4233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(create world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bugList=[List create: [self getZone]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y=0;y&lt;worldYSize;y++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x=0;x&lt;worldXSize;x++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([uniformDblRand .] &lt;=bugDensity)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Bug = [Bug createBegin: self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aBug setWorld: world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Food: foodSpace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aBug setX: x Y: y];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Bug = [aBug createEnd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world putObject: aBug atX: x Y: y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bugList addLast: aBug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14800" y="3276720"/>
            <a:ext cx="304920" cy="1981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57640" y="5442120"/>
            <a:ext cx="262080" cy="669600"/>
          </a:xfrm>
          <a:custGeom>
            <a:avLst/>
            <a:gdLst>
              <a:gd name="textAreaLeft" fmla="*/ 167400 w 262080"/>
              <a:gd name="textAreaRight" fmla="*/ 262440 w 262080"/>
              <a:gd name="textAreaTop" fmla="*/ 17280 h 669600"/>
              <a:gd name="textAreaBottom" fmla="*/ 652320 h 66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157640" y="1785960"/>
            <a:ext cx="262080" cy="669960"/>
          </a:xfrm>
          <a:custGeom>
            <a:avLst/>
            <a:gdLst>
              <a:gd name="textAreaLeft" fmla="*/ 167400 w 262080"/>
              <a:gd name="textAreaRight" fmla="*/ 262440 w 262080"/>
              <a:gd name="textAreaTop" fmla="*/ 17280 h 669960"/>
              <a:gd name="textAreaBottom" fmla="*/ 652680 h 669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41760" y="188604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657600" y="403848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643200" y="5541840"/>
            <a:ext cx="370080" cy="44316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5162-F934-4CDC-BFA5-6588713FBDA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4667F7-04A4-496D-AE21-3F50D82B0C1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y and coll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now have a collection of agents - b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now takes as target the collection object - a List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llection object passes on the message to each 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4956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buildActions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Actions = [ActionGroup create: self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Actions createActionForEach: bugList                                                    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message: M(step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Actions createActionTo:  reportBug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message: M(report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Schedule = [Schedule createBegin: self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Schedule setRepeatInterval: 1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Schedule = [modelSchedule createEnd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Schedule at: 0 createAction: modelActions]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 self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A722-84F2-4403-B828-298D6B5475BA}" type="slidenum">
              <a:t>2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9B3678-F313-4E27-8837-B2343AF1FE7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s in Simplebug 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C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C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jC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 is now Objective-C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jC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grid holding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a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bug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parameter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server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ObserverSwarm &amp;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server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more sophisticated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Exper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multiple experi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B49C-26CE-4A57-A806-C25F0A5BC94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88A4EE-0788-48BB-8534-8477234FE74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5029200" y="2895480"/>
            <a:ext cx="2514600" cy="1371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029200" y="2451240"/>
            <a:ext cx="251460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029200" y="4295880"/>
            <a:ext cx="2514600" cy="352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del.setup 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ldXSize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ldYSize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edProb 0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gDensity 0.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rget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of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 III: Loading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values of ivar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av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s values of ivars to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instance vars not mentioned in infile unchan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238880" y="4038480"/>
            <a:ext cx="1067040" cy="381240"/>
          </a:xfrm>
          <a:prstGeom prst="wedgeRectCallout">
            <a:avLst>
              <a:gd name="adj1" fmla="val -76787"/>
              <a:gd name="adj2" fmla="val 85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238880" y="2438280"/>
            <a:ext cx="1067040" cy="381240"/>
          </a:xfrm>
          <a:prstGeom prst="wedgeRectCallout">
            <a:avLst>
              <a:gd name="adj1" fmla="val -89287"/>
              <a:gd name="adj2" fmla="val 10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6BCD-DC5C-4464-A428-82FD2AB8BD6C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299455-4B3B-4C91-9890-09AB96AB909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480060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2057400"/>
            <a:ext cx="38862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15000" y="4114800"/>
            <a:ext cx="11113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with Observer: Adding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800600" y="1752480"/>
            <a:ext cx="1219320" cy="533520"/>
          </a:xfrm>
          <a:prstGeom prst="flowChartDocumen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05320" y="4495680"/>
            <a:ext cx="1110960" cy="1114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438280" y="2743200"/>
            <a:ext cx="167652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909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8195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373760" y="3898800"/>
            <a:ext cx="1094760" cy="1838880"/>
            <a:chOff x="1373760" y="3898800"/>
            <a:chExt cx="1094760" cy="1838880"/>
          </a:xfrm>
        </p:grpSpPr>
        <p:sp>
          <p:nvSpPr>
            <p:cNvPr id="299" name=""/>
            <p:cNvSpPr/>
            <p:nvPr/>
          </p:nvSpPr>
          <p:spPr>
            <a:xfrm rot="17683800">
              <a:off x="988560" y="4645080"/>
              <a:ext cx="1865160" cy="3463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148120" y="417168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919160" y="4514760"/>
              <a:ext cx="257040" cy="2581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747800" y="480096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600200" y="512208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2134080" y="4952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2666880"/>
            <a:ext cx="1676520" cy="1219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362320" y="4267080"/>
            <a:ext cx="1110960" cy="111456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12408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10762200">
            <a:off x="2286000" y="3657600"/>
            <a:ext cx="457200" cy="38088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 rot="10777800">
            <a:off x="6095160" y="37339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7913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0199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334120" y="36576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181480" y="4267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629400" y="3048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553080" y="4724280"/>
            <a:ext cx="5335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952880" y="54100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2d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552720" y="373392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2d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010280" y="51814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16" idx="0"/>
            <a:endCxn id="313" idx="4"/>
          </p:cNvCxnSpPr>
          <p:nvPr/>
        </p:nvCxnSpPr>
        <p:spPr>
          <a:xfrm flipV="1" rot="16200000">
            <a:off x="5436720" y="4810680"/>
            <a:ext cx="610200" cy="588240"/>
          </a:xfrm>
          <a:prstGeom prst="curvedConnector5">
            <a:avLst>
              <a:gd name="adj1" fmla="val 50000"/>
              <a:gd name="adj2" fmla="val 49969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</p:cxnSp>
      <p:cxnSp>
        <p:nvCxnSpPr>
          <p:cNvPr id="320" name=""/>
          <p:cNvCxnSpPr>
            <a:stCxn id="317" idx="0"/>
            <a:endCxn id="314" idx="5"/>
          </p:cNvCxnSpPr>
          <p:nvPr/>
        </p:nvCxnSpPr>
        <p:spPr>
          <a:xfrm flipV="1" rot="16200000">
            <a:off x="7265520" y="3322080"/>
            <a:ext cx="231120" cy="592560"/>
          </a:xfrm>
          <a:prstGeom prst="curvedConnector5">
            <a:avLst>
              <a:gd name="adj1" fmla="val 33073"/>
              <a:gd name="adj2" fmla="val 49969"/>
              <a:gd name="adj3" fmla="val 33073"/>
            </a:avLst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</p:cxnSp>
      <p:cxnSp>
        <p:nvCxnSpPr>
          <p:cNvPr id="321" name=""/>
          <p:cNvCxnSpPr>
            <a:stCxn id="318" idx="0"/>
            <a:endCxn id="315" idx="6"/>
          </p:cNvCxnSpPr>
          <p:nvPr/>
        </p:nvCxnSpPr>
        <p:spPr>
          <a:xfrm flipV="1" rot="16200000">
            <a:off x="7303320" y="4772880"/>
            <a:ext cx="191160" cy="6260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 rot="16200000">
            <a:off x="6422040" y="28738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 rot="5400000">
            <a:off x="4152960" y="2552760"/>
            <a:ext cx="380880" cy="914400"/>
          </a:xfrm>
          <a:prstGeom prst="downArrow">
            <a:avLst>
              <a:gd name="adj1" fmla="val 50000"/>
              <a:gd name="adj2" fmla="val 6001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2133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A923-BD0A-478A-9949-3C04E18F227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77911D-AAE7-41A0-8F3A-72213E9934A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Observer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Begin,create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memory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graphs, rasters and 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rder and timing of GUI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3AF9-C1F6-45BB-A74A-B77DF3E4344F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757DA7-BDA0-4770-8168-9010785FF52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: Initia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 createBegin: aZon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serverSwarm *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 = [super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displayFrequency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CAA4-3063-434F-AE7B-8DBDBD515F8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611065-0B3E-44B3-AB49-66D47ADDF8B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: Creating o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 buildObject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buildObjects]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warm = [ModelSwarm create: self]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controlPanel setStateStoppe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buildObject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Colorma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Ras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foodDisp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bugDisp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267080" y="4114800"/>
            <a:ext cx="2971800" cy="7621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ldfaced item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placehol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B28C-1003-4344-9FFC-616A5680C54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F9CBB3-1D05-433C-B770-1E3FBF6F265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838080" y="3505320"/>
            <a:ext cx="7467840" cy="137160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38080" y="3124080"/>
            <a:ext cx="746784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I: Building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38080" y="5486400"/>
            <a:ext cx="746784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38080" y="5105520"/>
            <a:ext cx="7467840" cy="304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buildAction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buildAction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buildAction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Action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foodDisplay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bugDisplay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worldRaster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GUI update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Schedu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action to Action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1D94-3DC6-41E7-B40D-5C6F6E4F94D8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A2C473-4A28-4901-8C10-89B6CB196C5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V: Activating the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 activateIn: swarmContex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displaySchedule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0CCB-30BE-471E-8134-275AD1559A2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5ECAA7-5C4E-4EEA-85F0-5747DA22CDC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828800" y="4343400"/>
            <a:ext cx="3886200" cy="1295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962520" y="4267080"/>
            <a:ext cx="38088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200400" y="3581280"/>
            <a:ext cx="2819520" cy="9907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952880" y="3352680"/>
            <a:ext cx="38124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gration of Swarm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609480" y="1905120"/>
            <a:ext cx="2063880" cy="2347560"/>
            <a:chOff x="609480" y="1905120"/>
            <a:chExt cx="2063880" cy="2347560"/>
          </a:xfrm>
        </p:grpSpPr>
        <p:sp>
          <p:nvSpPr>
            <p:cNvPr id="346" name=""/>
            <p:cNvSpPr/>
            <p:nvPr/>
          </p:nvSpPr>
          <p:spPr>
            <a:xfrm>
              <a:off x="1676520" y="1954800"/>
              <a:ext cx="928800" cy="6840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70320" y="3306960"/>
              <a:ext cx="1927440" cy="4572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70320" y="2740680"/>
              <a:ext cx="1927440" cy="457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68520" y="1954800"/>
              <a:ext cx="929880" cy="6840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03880" y="3422880"/>
              <a:ext cx="1492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perating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988560" y="2863800"/>
              <a:ext cx="1180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warm ker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963000" y="2369880"/>
              <a:ext cx="4564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875960" y="2352960"/>
              <a:ext cx="625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9480" y="1905120"/>
              <a:ext cx="2063880" cy="13294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42240" y="2201400"/>
              <a:ext cx="242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564560" y="2399760"/>
              <a:ext cx="2566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71120" y="1994400"/>
              <a:ext cx="543960" cy="3866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34120" y="2025360"/>
              <a:ext cx="41760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75520" y="2098800"/>
              <a:ext cx="355320" cy="198360"/>
            </a:xfrm>
            <a:custGeom>
              <a:avLst/>
              <a:gdLst/>
              <a:ahLst/>
              <a:rect l="l" t="t" r="r" b="b"/>
              <a:pathLst>
                <a:path w="378" h="211">
                  <a:moveTo>
                    <a:pt x="0" y="211"/>
                  </a:moveTo>
                  <a:cubicBezTo>
                    <a:pt x="22" y="179"/>
                    <a:pt x="28" y="149"/>
                    <a:pt x="56" y="122"/>
                  </a:cubicBezTo>
                  <a:cubicBezTo>
                    <a:pt x="57" y="119"/>
                    <a:pt x="73" y="47"/>
                    <a:pt x="100" y="67"/>
                  </a:cubicBezTo>
                  <a:cubicBezTo>
                    <a:pt x="115" y="78"/>
                    <a:pt x="105" y="104"/>
                    <a:pt x="111" y="122"/>
                  </a:cubicBezTo>
                  <a:cubicBezTo>
                    <a:pt x="116" y="135"/>
                    <a:pt x="127" y="144"/>
                    <a:pt x="133" y="156"/>
                  </a:cubicBezTo>
                  <a:cubicBezTo>
                    <a:pt x="138" y="166"/>
                    <a:pt x="141" y="178"/>
                    <a:pt x="145" y="189"/>
                  </a:cubicBezTo>
                  <a:cubicBezTo>
                    <a:pt x="202" y="151"/>
                    <a:pt x="211" y="89"/>
                    <a:pt x="278" y="67"/>
                  </a:cubicBezTo>
                  <a:cubicBezTo>
                    <a:pt x="295" y="13"/>
                    <a:pt x="307" y="36"/>
                    <a:pt x="345" y="0"/>
                  </a:cubicBezTo>
                  <a:cubicBezTo>
                    <a:pt x="356" y="4"/>
                    <a:pt x="378" y="11"/>
                    <a:pt x="378" y="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837440" y="2182680"/>
              <a:ext cx="145800" cy="145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242080" y="2012040"/>
              <a:ext cx="145800" cy="14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092680" y="2217240"/>
              <a:ext cx="145800" cy="145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3" name=""/>
            <p:cNvCxnSpPr>
              <a:stCxn id="362" idx="1"/>
              <a:endCxn id="360" idx="5"/>
            </p:cNvCxnSpPr>
            <p:nvPr/>
          </p:nvCxnSpPr>
          <p:spPr>
            <a:xfrm flipH="1">
              <a:off x="1960920" y="2238840"/>
              <a:ext cx="153000" cy="6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4" name=""/>
            <p:cNvCxnSpPr>
              <a:stCxn id="360" idx="7"/>
              <a:endCxn id="361" idx="2"/>
            </p:cNvCxnSpPr>
            <p:nvPr/>
          </p:nvCxnSpPr>
          <p:spPr>
            <a:xfrm flipH="1" flipV="1" rot="5400000">
              <a:off x="2041920" y="2004120"/>
              <a:ext cx="11916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65" name=""/>
            <p:cNvCxnSpPr>
              <a:stCxn id="362" idx="6"/>
              <a:endCxn id="361" idx="5"/>
            </p:cNvCxnSpPr>
            <p:nvPr/>
          </p:nvCxnSpPr>
          <p:spPr>
            <a:xfrm flipV="1">
              <a:off x="2238120" y="2135520"/>
              <a:ext cx="128520" cy="155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366" name=""/>
            <p:cNvSpPr/>
            <p:nvPr/>
          </p:nvSpPr>
          <p:spPr>
            <a:xfrm>
              <a:off x="666720" y="3795480"/>
              <a:ext cx="1927440" cy="45720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383480" y="3868920"/>
              <a:ext cx="506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2368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9316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445040" y="314604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416600" y="3641400"/>
              <a:ext cx="126000" cy="250920"/>
            </a:xfrm>
            <a:prstGeom prst="downArrow">
              <a:avLst>
                <a:gd name="adj1" fmla="val 50000"/>
                <a:gd name="adj2" fmla="val 4978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121824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224028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1748160" y="314604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1754640" y="3640680"/>
              <a:ext cx="126000" cy="250920"/>
            </a:xfrm>
            <a:prstGeom prst="downArrow">
              <a:avLst>
                <a:gd name="adj1" fmla="val 50000"/>
                <a:gd name="adj2" fmla="val 4978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4114800" y="2666880"/>
            <a:ext cx="2819520" cy="99072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867280" y="2438280"/>
            <a:ext cx="38124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334120" y="1828800"/>
            <a:ext cx="2819160" cy="990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783120" y="29718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325200" y="373392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63440" y="45720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334120" y="541008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F3C3-1584-40AA-9B04-34E5EE338B47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A8689B-E1B9-4646-BEB1-9B2C6878D0C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809880" y="3352680"/>
            <a:ext cx="4800600" cy="12956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200400" y="2590920"/>
            <a:ext cx="5334120" cy="99036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0880" y="1752480"/>
            <a:ext cx="601992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735360" y="289548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040280" y="3657600"/>
            <a:ext cx="444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bSwarm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"/>
          <p:cNvCxnSpPr/>
          <p:nvPr/>
        </p:nvCxnSpPr>
        <p:spPr>
          <a:xfrm>
            <a:off x="4723920" y="2361960"/>
            <a:ext cx="305640" cy="6865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0" name=""/>
          <p:cNvSpPr/>
          <p:nvPr/>
        </p:nvSpPr>
        <p:spPr>
          <a:xfrm>
            <a:off x="609480" y="20574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 main.m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topSwarm activateIn: nil];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28600" y="5029200"/>
            <a:ext cx="5334120" cy="99072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914400" y="4495680"/>
            <a:ext cx="5334120" cy="60984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144800" y="46483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39880" y="5334120"/>
            <a:ext cx="42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5" name=""/>
          <p:cNvCxnSpPr/>
          <p:nvPr/>
        </p:nvCxnSpPr>
        <p:spPr>
          <a:xfrm flipV="1" rot="10800000">
            <a:off x="4571280" y="4343040"/>
            <a:ext cx="956520" cy="4579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6" name=""/>
          <p:cNvCxnSpPr>
            <a:endCxn id="388" idx="0"/>
          </p:cNvCxnSpPr>
          <p:nvPr/>
        </p:nvCxnSpPr>
        <p:spPr>
          <a:xfrm>
            <a:off x="5334120" y="3276720"/>
            <a:ext cx="93096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7" name=""/>
          <p:cNvCxnSpPr/>
          <p:nvPr/>
        </p:nvCxnSpPr>
        <p:spPr>
          <a:xfrm flipV="1" rot="10800000">
            <a:off x="2742480" y="5105160"/>
            <a:ext cx="74700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17BE-B68F-4A07-9343-FD85C98A90E7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F99BFD-9F28-4DE0-BD2C-0DAD46F8F85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 two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( ) creates Observer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erverSwarm creates ModelSwarm as a subswarm in own memory z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warm creates agents and activates self in Observer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886200" y="1752480"/>
            <a:ext cx="4800600" cy="25146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800600" y="4343400"/>
            <a:ext cx="3581280" cy="182880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297680" y="2217600"/>
            <a:ext cx="32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create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buildObject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buildAction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[modelSwarm activateIn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"/>
          <p:cNvCxnSpPr/>
          <p:nvPr/>
        </p:nvCxnSpPr>
        <p:spPr>
          <a:xfrm flipH="1" rot="16200000">
            <a:off x="6048360" y="3120840"/>
            <a:ext cx="853200" cy="1977120"/>
          </a:xfrm>
          <a:prstGeom prst="bentConnector3">
            <a:avLst>
              <a:gd name="adj1" fmla="val 34233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4" name=""/>
          <p:cNvSpPr/>
          <p:nvPr/>
        </p:nvSpPr>
        <p:spPr>
          <a:xfrm>
            <a:off x="5259240" y="4495680"/>
            <a:ext cx="2879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: aZon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uildObjec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uildAction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activateIn: swarm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621920" y="396252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344840" y="57913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D43F-C353-4E5C-961B-6B14E3BEB879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5BD43D-B01B-4344-81F7-7EB8C66C399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057400" y="198108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57400" y="167652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320040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4191120"/>
            <a:ext cx="5791320" cy="53316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59200" y="1494000"/>
            <a:ext cx="5819400" cy="55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import &lt;simtools.h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oid main (int argc, const char **argv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worldXSize = 8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Maximum X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worldYSize = 8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Maximum Y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xPos = 4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Bug's starting po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yPos = 4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itSwarm(argc,argv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intf("I started at X = %d Y = %d \n\n", xPos, yPo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or(i = 0; i &lt; 100; i++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Random movement in X and Y (possibly 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Pos = xPos + [uniformIntRand getIntegerWithMin: -1 withMax: 1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Pos = yPos + [uniformIntRand getIntegerWithMin: -1 withMax: 1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Take move modulo maximum coordinate val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Pos = (xPos+ worldXSize) % worldXSiz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Pos = (yPos + worldYSize) % worldYSiz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intf( "I moved to X = %d Y = %d \n", xPos, yPo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38360" y="15238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38360" y="190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38360" y="31240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38360" y="4191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296B-C3B2-4544-9997-494E1265E65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F2BB42-ADDF-4C93-B71A-DF138517ADA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ing the Raster dis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Raster displays data from lat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display the food distribution from FoodSpace and ask bugs to draw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ddition to ZoomRaster need the 3 classes to the r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Map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es a number with a color in pal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2dDispl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s array of x,y int data to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2dDisplay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ds data from agents &amp; captures mousecl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BC7F-7167-48FB-B616-F916673A47BE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3CAE35-09E0-4ACC-83BA-879AFA6EAE1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these new object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876920" y="1828800"/>
            <a:ext cx="35812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3886200"/>
            <a:ext cx="167652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334120" y="4114800"/>
            <a:ext cx="1143000" cy="106668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410080" y="2133720"/>
            <a:ext cx="2895840" cy="3808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087320" y="17524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410080" y="2666880"/>
            <a:ext cx="1067040" cy="10670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981080" y="464832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3962520"/>
            <a:ext cx="304920" cy="304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9" name=""/>
          <p:cNvCxnSpPr>
            <a:stCxn id="416" idx="1"/>
            <a:endCxn id="420" idx="6"/>
          </p:cNvCxnSpPr>
          <p:nvPr/>
        </p:nvCxnSpPr>
        <p:spPr>
          <a:xfrm rot="10800000">
            <a:off x="4494960" y="2780640"/>
            <a:ext cx="915120" cy="41976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1" name=""/>
          <p:cNvCxnSpPr/>
          <p:nvPr/>
        </p:nvCxnSpPr>
        <p:spPr>
          <a:xfrm flipV="1" rot="10800000">
            <a:off x="4494960" y="2209320"/>
            <a:ext cx="915120" cy="49608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2" name=""/>
          <p:cNvCxnSpPr>
            <a:stCxn id="413" idx="1"/>
            <a:endCxn id="423" idx="6"/>
          </p:cNvCxnSpPr>
          <p:nvPr/>
        </p:nvCxnSpPr>
        <p:spPr>
          <a:xfrm rot="10800000">
            <a:off x="4494960" y="4569840"/>
            <a:ext cx="839160" cy="78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993960" y="563724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934320" y="4495680"/>
            <a:ext cx="1671480" cy="1557000"/>
          </a:xfrm>
          <a:prstGeom prst="borderCallout1">
            <a:avLst>
              <a:gd name="adj1" fmla="val 18750"/>
              <a:gd name="adj2" fmla="val -8333"/>
              <a:gd name="adj3" fmla="val 10513"/>
              <a:gd name="adj4" fmla="val -4271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 of food as array of 0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934320" y="2819520"/>
            <a:ext cx="1671480" cy="1557000"/>
          </a:xfrm>
          <a:prstGeom prst="borderCallout1">
            <a:avLst>
              <a:gd name="adj1" fmla="val 18750"/>
              <a:gd name="adj2" fmla="val -8333"/>
              <a:gd name="adj3" fmla="val 8250"/>
              <a:gd name="adj4" fmla="val -41384"/>
            </a:avLst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 of bugs as array of 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743200" y="1905120"/>
            <a:ext cx="1752480" cy="1752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3733920"/>
            <a:ext cx="1752480" cy="1673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ue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23" idx="2"/>
            <a:endCxn id="412" idx="3"/>
          </p:cNvCxnSpPr>
          <p:nvPr/>
        </p:nvCxnSpPr>
        <p:spPr>
          <a:xfrm flipV="1" rot="10800000">
            <a:off x="2361600" y="4569480"/>
            <a:ext cx="381600" cy="19260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20" idx="3"/>
            <a:endCxn id="412" idx="0"/>
          </p:cNvCxnSpPr>
          <p:nvPr/>
        </p:nvCxnSpPr>
        <p:spPr>
          <a:xfrm rot="5400000">
            <a:off x="2018520" y="2904840"/>
            <a:ext cx="486360" cy="1477080"/>
          </a:xfrm>
          <a:prstGeom prst="bentConnector3">
            <a:avLst>
              <a:gd name="adj1" fmla="val 7644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762120" y="1905120"/>
            <a:ext cx="13716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0" name=""/>
          <p:cNvCxnSpPr>
            <a:stCxn id="429" idx="4"/>
            <a:endCxn id="418" idx="0"/>
          </p:cNvCxnSpPr>
          <p:nvPr/>
        </p:nvCxnSpPr>
        <p:spPr>
          <a:xfrm>
            <a:off x="1447560" y="327636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1" name=""/>
          <p:cNvSpPr/>
          <p:nvPr/>
        </p:nvSpPr>
        <p:spPr>
          <a:xfrm>
            <a:off x="457200" y="1828800"/>
            <a:ext cx="42670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029920" y="54864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515320" y="54864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715000" y="175248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172200" y="182880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629400" y="19051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086600" y="205740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543800" y="21337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C4F5-0C94-4D17-A576-E7B2288C66E3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50CCA4-1E53-48FA-834D-282FAA86CBF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685800" y="2057400"/>
            <a:ext cx="38862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505320" y="4495680"/>
            <a:ext cx="1110960" cy="111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438280" y="2743200"/>
            <a:ext cx="167652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1373760" y="3898800"/>
            <a:ext cx="1094760" cy="1838880"/>
            <a:chOff x="1373760" y="3898800"/>
            <a:chExt cx="1094760" cy="1838880"/>
          </a:xfrm>
        </p:grpSpPr>
        <p:sp>
          <p:nvSpPr>
            <p:cNvPr id="444" name=""/>
            <p:cNvSpPr/>
            <p:nvPr/>
          </p:nvSpPr>
          <p:spPr>
            <a:xfrm rot="17683800">
              <a:off x="988560" y="4645080"/>
              <a:ext cx="1865160" cy="3463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148120" y="417168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19160" y="4514760"/>
              <a:ext cx="257040" cy="25812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747800" y="480096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600200" y="512208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2134080" y="4952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362320" y="4267080"/>
            <a:ext cx="1110960" cy="111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12408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0762200">
            <a:off x="2286000" y="3657600"/>
            <a:ext cx="457200" cy="38088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257800" y="2133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with Observer II: Add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80060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3886200"/>
            <a:ext cx="111132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724280" y="2438280"/>
            <a:ext cx="1676520" cy="1219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10777800">
            <a:off x="6095160" y="35053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791320" y="22860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19920" y="23623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334120" y="34290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181480" y="403848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629400" y="2819520"/>
            <a:ext cx="53352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553080" y="449568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rot="16200000">
            <a:off x="6422040" y="26452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600200" y="1676520"/>
            <a:ext cx="838080" cy="1371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467480" y="1828800"/>
            <a:ext cx="838440" cy="1371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"/>
          <p:cNvCxnSpPr>
            <a:stCxn id="466" idx="3"/>
          </p:cNvCxnSpPr>
          <p:nvPr/>
        </p:nvCxnSpPr>
        <p:spPr>
          <a:xfrm>
            <a:off x="2438280" y="2362320"/>
            <a:ext cx="457920" cy="381600"/>
          </a:xfrm>
          <a:prstGeom prst="curvedConnector5">
            <a:avLst>
              <a:gd name="adj1" fmla="val 49960"/>
              <a:gd name="adj2" fmla="val 49952"/>
              <a:gd name="adj3" fmla="val 49960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69" name=""/>
          <p:cNvCxnSpPr>
            <a:stCxn id="467" idx="1"/>
            <a:endCxn id="457" idx="0"/>
          </p:cNvCxnSpPr>
          <p:nvPr/>
        </p:nvCxnSpPr>
        <p:spPr>
          <a:xfrm rot="10800000">
            <a:off x="5562000" y="2438280"/>
            <a:ext cx="1905480" cy="76680"/>
          </a:xfrm>
          <a:prstGeom prst="curvedConnector5">
            <a:avLst>
              <a:gd name="adj1" fmla="val 27985"/>
              <a:gd name="adj2" fmla="val 200471"/>
              <a:gd name="adj3" fmla="val 27985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470" name=""/>
          <p:cNvSpPr/>
          <p:nvPr/>
        </p:nvSpPr>
        <p:spPr>
          <a:xfrm>
            <a:off x="4800600" y="1600200"/>
            <a:ext cx="1219320" cy="533520"/>
          </a:xfrm>
          <a:prstGeom prst="flowChartDocumen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410080" y="198108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 rot="5400000">
            <a:off x="4174200" y="2378520"/>
            <a:ext cx="228600" cy="1109520"/>
          </a:xfrm>
          <a:prstGeom prst="downArrow">
            <a:avLst>
              <a:gd name="adj1" fmla="val 50000"/>
              <a:gd name="adj2" fmla="val 12133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8195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4E0D-29E3-4080-989A-FCCBEE457996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2B9F75-0087-4647-BFBC-9B751216855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4800600" y="2057400"/>
            <a:ext cx="36576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6212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52880" y="2819520"/>
            <a:ext cx="1676520" cy="12189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he probes come in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819520" y="2743200"/>
            <a:ext cx="167616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/>
          <p:nvPr/>
        </p:nvCxnSpPr>
        <p:spPr>
          <a:xfrm flipH="1" rot="16200000">
            <a:off x="2837520" y="2952360"/>
            <a:ext cx="362520" cy="1467720"/>
          </a:xfrm>
          <a:prstGeom prst="bentConnector3">
            <a:avLst>
              <a:gd name="adj1" fmla="val 163121"/>
            </a:avLst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0" name="modelprobe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1791000" cy="1466640"/>
          </a:xfrm>
          <a:prstGeom prst="rect">
            <a:avLst/>
          </a:prstGeom>
          <a:ln w="0">
            <a:noFill/>
          </a:ln>
        </p:spPr>
      </p:pic>
      <p:cxnSp>
        <p:nvCxnSpPr>
          <p:cNvPr id="481" name=""/>
          <p:cNvCxnSpPr/>
          <p:nvPr/>
        </p:nvCxnSpPr>
        <p:spPr>
          <a:xfrm flipH="1" flipV="1" rot="5400000">
            <a:off x="6106680" y="3111840"/>
            <a:ext cx="743760" cy="1377000"/>
          </a:xfrm>
          <a:prstGeom prst="bentConnector3">
            <a:avLst>
              <a:gd name="adj1" fmla="val -30750"/>
            </a:avLst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2" name="observerprobe" descr=""/>
          <p:cNvPicPr/>
          <p:nvPr/>
        </p:nvPicPr>
        <p:blipFill>
          <a:blip r:embed="rId2"/>
          <a:stretch/>
        </p:blipFill>
        <p:spPr>
          <a:xfrm>
            <a:off x="6400800" y="2971800"/>
            <a:ext cx="2143080" cy="781200"/>
          </a:xfrm>
          <a:prstGeom prst="rect">
            <a:avLst/>
          </a:prstGeom>
          <a:ln w="0">
            <a:noFill/>
          </a:ln>
        </p:spPr>
      </p:pic>
      <p:cxnSp>
        <p:nvCxnSpPr>
          <p:cNvPr id="483" name=""/>
          <p:cNvCxnSpPr/>
          <p:nvPr/>
        </p:nvCxnSpPr>
        <p:spPr>
          <a:xfrm flipH="1" rot="16200000">
            <a:off x="6221160" y="3454920"/>
            <a:ext cx="910440" cy="2229480"/>
          </a:xfrm>
          <a:prstGeom prst="bentConnector2">
            <a:avLst/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4" name="controlpanel" descr=""/>
          <p:cNvPicPr/>
          <p:nvPr/>
        </p:nvPicPr>
        <p:blipFill>
          <a:blip r:embed="rId3"/>
          <a:stretch/>
        </p:blipFill>
        <p:spPr>
          <a:xfrm>
            <a:off x="7315200" y="3809880"/>
            <a:ext cx="1123920" cy="197172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1143000" y="4419720"/>
            <a:ext cx="2895480" cy="838080"/>
          </a:xfrm>
          <a:prstGeom prst="wedgeRectCallout">
            <a:avLst>
              <a:gd name="adj1" fmla="val -34046"/>
              <a:gd name="adj2" fmla="val -161365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stom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4 Variabl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828800"/>
            <a:ext cx="2895480" cy="838080"/>
          </a:xfrm>
          <a:prstGeom prst="wedgeRectCallout">
            <a:avLst>
              <a:gd name="adj1" fmla="val 46217"/>
              <a:gd name="adj2" fmla="val 113634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stom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1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648320" y="4876920"/>
            <a:ext cx="2895480" cy="761760"/>
          </a:xfrm>
          <a:prstGeom prst="wedgeRectCallout">
            <a:avLst>
              <a:gd name="adj1" fmla="val 57402"/>
              <a:gd name="adj2" fmla="val -140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Panel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d by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722E-3256-4C6D-A737-33302B39E8EA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01B9D7-F08D-4770-8930-A2F6B7468C5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ief overview of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jor uses for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terface with an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 GUI to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with an object of two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bes an 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:    Probes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 ut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llection of Var and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24DB-CBF2-4A40-A5E9-C5687C514995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A9E68E-FD27-412D-866F-F56AA2F2DAE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graphic probe to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instance of EmtpyProbe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 VarProbe or MessageProbe to each variable or message to appear on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each probe on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k probeDisplayManager  to create actual 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5105520"/>
            <a:ext cx="2895480" cy="99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1055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724280" y="3581280"/>
            <a:ext cx="99072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1055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09588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715000" y="3352680"/>
            <a:ext cx="99072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10080" y="2895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735360" y="457200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1629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781680" y="3276720"/>
            <a:ext cx="990720" cy="990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94360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876920" y="2209680"/>
            <a:ext cx="190476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029200" y="24382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952880" y="3124080"/>
            <a:ext cx="1676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867280" y="228600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0292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867280" y="266688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858360" y="2133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0" name=""/>
          <p:cNvCxnSpPr>
            <a:stCxn id="499" idx="0"/>
            <a:endCxn id="494" idx="2"/>
          </p:cNvCxnSpPr>
          <p:nvPr/>
        </p:nvCxnSpPr>
        <p:spPr>
          <a:xfrm flipH="1" flipV="1" rot="5400000">
            <a:off x="4349160" y="4196880"/>
            <a:ext cx="496080" cy="254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1" name=""/>
          <p:cNvCxnSpPr>
            <a:stCxn id="499" idx="2"/>
            <a:endCxn id="497" idx="4"/>
          </p:cNvCxnSpPr>
          <p:nvPr/>
        </p:nvCxnSpPr>
        <p:spPr>
          <a:xfrm flipH="1" flipV="1" rot="5400000">
            <a:off x="4996440" y="3815640"/>
            <a:ext cx="686520" cy="1740600"/>
          </a:xfrm>
          <a:prstGeom prst="curvedConnector5">
            <a:avLst>
              <a:gd name="adj1" fmla="val -33315"/>
              <a:gd name="adj2" fmla="val 50000"/>
              <a:gd name="adj3" fmla="val -333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2" name=""/>
          <p:cNvCxnSpPr>
            <a:stCxn id="509" idx="2"/>
            <a:endCxn id="501" idx="7"/>
          </p:cNvCxnSpPr>
          <p:nvPr/>
        </p:nvCxnSpPr>
        <p:spPr>
          <a:xfrm rot="5400000">
            <a:off x="7317720" y="2900520"/>
            <a:ext cx="830880" cy="211680"/>
          </a:xfrm>
          <a:prstGeom prst="curvedConnector5">
            <a:avLst>
              <a:gd name="adj1" fmla="val 41265"/>
              <a:gd name="adj2" fmla="val 49914"/>
              <a:gd name="adj3" fmla="val 412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3" name=""/>
          <p:cNvSpPr/>
          <p:nvPr/>
        </p:nvSpPr>
        <p:spPr>
          <a:xfrm>
            <a:off x="4345200" y="1905120"/>
            <a:ext cx="17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9480" y="2057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9480" y="28195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09480" y="4343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09480" y="51055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7F16-3A0C-47D0-8EE6-D9064F4E54D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F3D4BA-D1B8-4531-9685-12FE5AB8626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990360" y="198108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 = [EmptyProbeMap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setProbedClass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 = [probeMa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ProbeForVariable: "worldXSize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ass: [self class]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Library setProbeMap: probe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then call [probeDisplayManager createProbeDisplayFor: modelSwarm] in Observ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ModelSwarm’s prob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85800" y="19810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33526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400800" y="33526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47242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E105-B6A4-460B-A138-544F3DBFCD5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BE8EA3-5B50-4E15-958F-119C5DFBEEB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7238880" y="2057400"/>
            <a:ext cx="838440" cy="1371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752480" y="3124080"/>
            <a:ext cx="3657600" cy="29718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frontier: Experiment Bu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867280" y="3886200"/>
            <a:ext cx="76212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562720" y="1676520"/>
            <a:ext cx="1218960" cy="533160"/>
          </a:xfrm>
          <a:prstGeom prst="flowChartDocument">
            <a:avLst/>
          </a:prstGeom>
          <a:solidFill>
            <a:srgbClr val="ff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410080" y="2382840"/>
            <a:ext cx="1752840" cy="12747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978360" y="4713120"/>
            <a:ext cx="720720" cy="722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286080" y="3576600"/>
            <a:ext cx="1087560" cy="790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386160" y="3429000"/>
            <a:ext cx="295200" cy="297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33760" y="3478320"/>
            <a:ext cx="139680" cy="1238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2596320" y="4325760"/>
            <a:ext cx="710280" cy="1193040"/>
            <a:chOff x="2596320" y="4325760"/>
            <a:chExt cx="710280" cy="1193040"/>
          </a:xfrm>
        </p:grpSpPr>
        <p:sp>
          <p:nvSpPr>
            <p:cNvPr id="535" name=""/>
            <p:cNvSpPr/>
            <p:nvPr/>
          </p:nvSpPr>
          <p:spPr>
            <a:xfrm rot="17683800">
              <a:off x="2346120" y="4809960"/>
              <a:ext cx="1209960" cy="2246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098520" y="4502880"/>
              <a:ext cx="16668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950200" y="4725720"/>
              <a:ext cx="167040" cy="1674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838960" y="4911120"/>
              <a:ext cx="16704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743200" y="5119560"/>
              <a:ext cx="16704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3236760" y="4565520"/>
            <a:ext cx="720720" cy="72252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730680" y="4317840"/>
            <a:ext cx="149040" cy="374760"/>
          </a:xfrm>
          <a:prstGeom prst="downArrow">
            <a:avLst>
              <a:gd name="adj1" fmla="val 50000"/>
              <a:gd name="adj2" fmla="val 6286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rot="10762200">
            <a:off x="3187800" y="4169880"/>
            <a:ext cx="296640" cy="246240"/>
          </a:xfrm>
          <a:custGeom>
            <a:avLst/>
            <a:gdLst>
              <a:gd name="textAreaLeft" fmla="*/ 99000 w 296640"/>
              <a:gd name="textAreaRight" fmla="*/ 254160 w 296640"/>
              <a:gd name="textAreaTop" fmla="*/ 141840 h 246240"/>
              <a:gd name="textAreaBottom" fmla="*/ 210960 h 246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477120" y="22860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705720" y="23623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334120" y="3733920"/>
            <a:ext cx="53316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315200" y="2819520"/>
            <a:ext cx="53352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172200" y="434340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rot="16200000">
            <a:off x="7107840" y="26452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352680" y="2119320"/>
            <a:ext cx="1905120" cy="13860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505320" y="190512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733920" y="1981080"/>
            <a:ext cx="215640" cy="19080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 rot="10837800">
            <a:off x="4114440" y="4343040"/>
            <a:ext cx="297000" cy="246240"/>
          </a:xfrm>
          <a:custGeom>
            <a:avLst/>
            <a:gdLst>
              <a:gd name="textAreaLeft" fmla="*/ 98640 w 297000"/>
              <a:gd name="textAreaRight" fmla="*/ 254160 w 297000"/>
              <a:gd name="textAreaTop" fmla="*/ 141840 h 246240"/>
              <a:gd name="textAreaBottom" fmla="*/ 210960 h 246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172200" y="20574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 rot="5400000">
            <a:off x="5202360" y="287388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590920" y="1752480"/>
            <a:ext cx="838080" cy="9144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068480" y="35053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248520" y="35053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 rot="10777800">
            <a:off x="6780960" y="342900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295280" y="2438280"/>
            <a:ext cx="1111320" cy="1143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447920" y="2514600"/>
            <a:ext cx="838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1523880" y="2819520"/>
            <a:ext cx="685800" cy="304560"/>
          </a:xfrm>
          <a:custGeom>
            <a:avLst/>
            <a:gdLst/>
            <a:ahLst/>
            <a:rect l="l" t="t" r="r" b="b"/>
            <a:pathLst>
              <a:path w="384" h="248">
                <a:moveTo>
                  <a:pt x="0" y="152"/>
                </a:moveTo>
                <a:cubicBezTo>
                  <a:pt x="60" y="76"/>
                  <a:pt x="120" y="0"/>
                  <a:pt x="144" y="8"/>
                </a:cubicBezTo>
                <a:cubicBezTo>
                  <a:pt x="168" y="16"/>
                  <a:pt x="112" y="200"/>
                  <a:pt x="144" y="200"/>
                </a:cubicBezTo>
                <a:cubicBezTo>
                  <a:pt x="176" y="200"/>
                  <a:pt x="296" y="0"/>
                  <a:pt x="336" y="8"/>
                </a:cubicBezTo>
                <a:cubicBezTo>
                  <a:pt x="376" y="16"/>
                  <a:pt x="376" y="208"/>
                  <a:pt x="384" y="248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 rot="5400000">
            <a:off x="2666160" y="2438280"/>
            <a:ext cx="304560" cy="1066680"/>
          </a:xfrm>
          <a:prstGeom prst="downArrow">
            <a:avLst>
              <a:gd name="adj1" fmla="val 50000"/>
              <a:gd name="adj2" fmla="val 875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715000" y="3276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62520" y="32004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F60B-F441-439F-9A01-2288D3C20C0B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C2A360-3694-4235-98F2-A9356D1E756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2514600" y="4572000"/>
            <a:ext cx="5410080" cy="137160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352680" y="2666880"/>
            <a:ext cx="5029200" cy="99072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743200" y="2133720"/>
            <a:ext cx="4267080" cy="83808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80880" y="1752480"/>
            <a:ext cx="5486400" cy="6098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054600" y="243828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817080" y="2819520"/>
            <a:ext cx="444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experimentSwarm activateIn: self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2" name=""/>
          <p:cNvCxnSpPr/>
          <p:nvPr/>
        </p:nvCxnSpPr>
        <p:spPr>
          <a:xfrm>
            <a:off x="4952520" y="2209320"/>
            <a:ext cx="381960" cy="38196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3" name=""/>
          <p:cNvSpPr/>
          <p:nvPr/>
        </p:nvSpPr>
        <p:spPr>
          <a:xfrm>
            <a:off x="380880" y="18288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 main.m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observerSwarm activateIn: nil]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33520" y="3962520"/>
            <a:ext cx="4190760" cy="99036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838080" y="3505320"/>
            <a:ext cx="4496040" cy="6858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997200" y="36576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7" name=""/>
          <p:cNvCxnSpPr/>
          <p:nvPr/>
        </p:nvCxnSpPr>
        <p:spPr>
          <a:xfrm rot="5400000">
            <a:off x="3428280" y="3352680"/>
            <a:ext cx="381960" cy="381600"/>
          </a:xfrm>
          <a:prstGeom prst="curvedConnector5">
            <a:avLst>
              <a:gd name="adj1" fmla="val 50000"/>
              <a:gd name="adj2" fmla="val 49952"/>
              <a:gd name="adj3" fmla="val 5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8" name=""/>
          <p:cNvCxnSpPr/>
          <p:nvPr/>
        </p:nvCxnSpPr>
        <p:spPr>
          <a:xfrm>
            <a:off x="5257440" y="2666520"/>
            <a:ext cx="305640" cy="229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9" name=""/>
          <p:cNvCxnSpPr/>
          <p:nvPr/>
        </p:nvCxnSpPr>
        <p:spPr>
          <a:xfrm rot="5400000">
            <a:off x="3340440" y="3821760"/>
            <a:ext cx="273240" cy="55476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0" name=""/>
          <p:cNvSpPr/>
          <p:nvPr/>
        </p:nvSpPr>
        <p:spPr>
          <a:xfrm>
            <a:off x="2971800" y="5181480"/>
            <a:ext cx="3886200" cy="6098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76720" y="4691160"/>
            <a:ext cx="4495680" cy="6858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587760" y="48006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282480" y="5334120"/>
            <a:ext cx="347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4" name=""/>
          <p:cNvCxnSpPr/>
          <p:nvPr/>
        </p:nvCxnSpPr>
        <p:spPr>
          <a:xfrm>
            <a:off x="4572000" y="4495320"/>
            <a:ext cx="397440" cy="305640"/>
          </a:xfrm>
          <a:prstGeom prst="curvedConnector5">
            <a:avLst>
              <a:gd name="adj1" fmla="val 49954"/>
              <a:gd name="adj2" fmla="val 50000"/>
              <a:gd name="adj3" fmla="val 49954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5" name=""/>
          <p:cNvCxnSpPr/>
          <p:nvPr/>
        </p:nvCxnSpPr>
        <p:spPr>
          <a:xfrm>
            <a:off x="5715000" y="5105520"/>
            <a:ext cx="38160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6" name=""/>
          <p:cNvSpPr/>
          <p:nvPr/>
        </p:nvSpPr>
        <p:spPr>
          <a:xfrm>
            <a:off x="844560" y="4191120"/>
            <a:ext cx="38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143720" y="26668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029920" y="388620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219680" y="52578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032F-EE8E-4D73-9326-5335385D40D6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AA1C4E-90E0-4A38-8335-8479CE06162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xternal program to execute Sw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990720" y="3619440"/>
            <a:ext cx="1830240" cy="14875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316320" y="4002120"/>
            <a:ext cx="557280" cy="5713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820960" y="3249720"/>
            <a:ext cx="878040" cy="6364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104920" y="4414680"/>
            <a:ext cx="360360" cy="362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757520" y="3846600"/>
            <a:ext cx="544320" cy="395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808280" y="3772080"/>
            <a:ext cx="147600" cy="1490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882800" y="3797280"/>
            <a:ext cx="69840" cy="6192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412640" y="4222440"/>
            <a:ext cx="355320" cy="596520"/>
            <a:chOff x="1412640" y="4222440"/>
            <a:chExt cx="355320" cy="596520"/>
          </a:xfrm>
        </p:grpSpPr>
        <p:sp>
          <p:nvSpPr>
            <p:cNvPr id="599" name=""/>
            <p:cNvSpPr/>
            <p:nvPr/>
          </p:nvSpPr>
          <p:spPr>
            <a:xfrm rot="17683800">
              <a:off x="1287720" y="4464360"/>
              <a:ext cx="604800" cy="112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664280" y="431064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589760" y="4421880"/>
              <a:ext cx="83520" cy="835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533960" y="451476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486080" y="461880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1733400" y="4341960"/>
            <a:ext cx="36036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981080" y="4218120"/>
            <a:ext cx="74880" cy="187200"/>
          </a:xfrm>
          <a:prstGeom prst="downArrow">
            <a:avLst>
              <a:gd name="adj1" fmla="val 50000"/>
              <a:gd name="adj2" fmla="val 625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rot="10762200">
            <a:off x="1708200" y="4143240"/>
            <a:ext cx="149040" cy="123840"/>
          </a:xfrm>
          <a:custGeom>
            <a:avLst/>
            <a:gdLst>
              <a:gd name="textAreaLeft" fmla="*/ 49680 w 149040"/>
              <a:gd name="textAreaRight" fmla="*/ 127800 w 149040"/>
              <a:gd name="textAreaTop" fmla="*/ 71280 h 123840"/>
              <a:gd name="textAreaBottom" fmla="*/ 106200 h 1238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 rot="10777800">
            <a:off x="3506040" y="3809520"/>
            <a:ext cx="230040" cy="192240"/>
          </a:xfrm>
          <a:custGeom>
            <a:avLst/>
            <a:gdLst>
              <a:gd name="textAreaLeft" fmla="*/ 76680 w 230040"/>
              <a:gd name="textAreaRight" fmla="*/ 197280 w 230040"/>
              <a:gd name="textAreaTop" fmla="*/ 110880 h 192240"/>
              <a:gd name="textAreaBottom" fmla="*/ 164880 h 192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354480" y="3200400"/>
            <a:ext cx="228600" cy="2286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468600" y="3238560"/>
            <a:ext cx="108000" cy="950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125880" y="3772080"/>
            <a:ext cx="114120" cy="288720"/>
          </a:xfrm>
          <a:prstGeom prst="downArrow">
            <a:avLst>
              <a:gd name="adj1" fmla="val 50000"/>
              <a:gd name="adj2" fmla="val 632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049560" y="4078440"/>
            <a:ext cx="266760" cy="266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774960" y="3467160"/>
            <a:ext cx="266760" cy="2667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736800" y="4307040"/>
            <a:ext cx="266760" cy="266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rot="16200000">
            <a:off x="3670200" y="3379320"/>
            <a:ext cx="114120" cy="288720"/>
          </a:xfrm>
          <a:prstGeom prst="downArrow">
            <a:avLst>
              <a:gd name="adj1" fmla="val 50000"/>
              <a:gd name="adj2" fmla="val 632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790640" y="3117960"/>
            <a:ext cx="954000" cy="691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866960" y="3009960"/>
            <a:ext cx="230040" cy="2286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982880" y="3048120"/>
            <a:ext cx="108000" cy="950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 rot="10837800">
            <a:off x="2172960" y="4230360"/>
            <a:ext cx="147600" cy="122040"/>
          </a:xfrm>
          <a:custGeom>
            <a:avLst/>
            <a:gdLst>
              <a:gd name="textAreaLeft" fmla="*/ 49680 w 147600"/>
              <a:gd name="textAreaRight" fmla="*/ 127080 w 147600"/>
              <a:gd name="textAreaTop" fmla="*/ 70200 h 122040"/>
              <a:gd name="textAreaBottom" fmla="*/ 104760 h 1220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rot="10822200">
            <a:off x="1561320" y="3466440"/>
            <a:ext cx="228600" cy="190440"/>
          </a:xfrm>
          <a:custGeom>
            <a:avLst/>
            <a:gdLst>
              <a:gd name="textAreaLeft" fmla="*/ 76320 w 228600"/>
              <a:gd name="textAreaRight" fmla="*/ 195840 w 228600"/>
              <a:gd name="textAreaTop" fmla="*/ 109800 h 190440"/>
              <a:gd name="textAreaBottom" fmla="*/ 163080 h 190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01840" y="3086280"/>
            <a:ext cx="114480" cy="288720"/>
          </a:xfrm>
          <a:prstGeom prst="downArrow">
            <a:avLst>
              <a:gd name="adj1" fmla="val 50000"/>
              <a:gd name="adj2" fmla="val 63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 rot="5400000">
            <a:off x="2717640" y="3494160"/>
            <a:ext cx="114480" cy="288720"/>
          </a:xfrm>
          <a:prstGeom prst="downArrow">
            <a:avLst>
              <a:gd name="adj1" fmla="val 50000"/>
              <a:gd name="adj2" fmla="val 63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118040" y="3238560"/>
            <a:ext cx="41904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257480" y="2895480"/>
            <a:ext cx="41904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4800600" y="3809880"/>
            <a:ext cx="1773360" cy="1104840"/>
            <a:chOff x="4800600" y="3809880"/>
            <a:chExt cx="1773360" cy="1104840"/>
          </a:xfrm>
        </p:grpSpPr>
        <p:sp>
          <p:nvSpPr>
            <p:cNvPr id="625" name=""/>
            <p:cNvSpPr/>
            <p:nvPr/>
          </p:nvSpPr>
          <p:spPr>
            <a:xfrm>
              <a:off x="4800600" y="4171680"/>
              <a:ext cx="915120" cy="7430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963760" y="4362480"/>
              <a:ext cx="277920" cy="285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753880" y="3809880"/>
              <a:ext cx="304920" cy="133200"/>
            </a:xfrm>
            <a:prstGeom prst="flowChartDocumen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715720" y="3986280"/>
              <a:ext cx="438480" cy="318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357520" y="456912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184360" y="4285080"/>
              <a:ext cx="272160" cy="197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209200" y="4248000"/>
              <a:ext cx="73800" cy="74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246280" y="4260240"/>
              <a:ext cx="34920" cy="3096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3" name=""/>
            <p:cNvGrpSpPr/>
            <p:nvPr/>
          </p:nvGrpSpPr>
          <p:grpSpPr>
            <a:xfrm>
              <a:off x="5011200" y="4472640"/>
              <a:ext cx="177480" cy="298080"/>
              <a:chOff x="5011200" y="4472640"/>
              <a:chExt cx="177480" cy="298080"/>
            </a:xfrm>
          </p:grpSpPr>
          <p:sp>
            <p:nvSpPr>
              <p:cNvPr id="634" name=""/>
              <p:cNvSpPr/>
              <p:nvPr/>
            </p:nvSpPr>
            <p:spPr>
              <a:xfrm rot="17683800">
                <a:off x="4948560" y="4593600"/>
                <a:ext cx="302400" cy="56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137200" y="45165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100120" y="45723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072040" y="4618800"/>
                <a:ext cx="41760" cy="41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048280" y="467100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9" name=""/>
            <p:cNvSpPr/>
            <p:nvPr/>
          </p:nvSpPr>
          <p:spPr>
            <a:xfrm>
              <a:off x="5171760" y="453240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295600" y="4470480"/>
              <a:ext cx="37080" cy="93600"/>
            </a:xfrm>
            <a:prstGeom prst="downArrow">
              <a:avLst>
                <a:gd name="adj1" fmla="val 50000"/>
                <a:gd name="adj2" fmla="val 6310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10762200">
              <a:off x="5159520" y="443304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 rot="10777800">
              <a:off x="6057720" y="4267080"/>
              <a:ext cx="114120" cy="95040"/>
            </a:xfrm>
            <a:custGeom>
              <a:avLst/>
              <a:gdLst>
                <a:gd name="textAreaLeft" fmla="*/ 37800 w 114120"/>
                <a:gd name="textAreaRight" fmla="*/ 9756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982840" y="39621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040080" y="39812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68360" y="42480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30200" y="440064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192720" y="409572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173640" y="451476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16200000">
              <a:off x="6140880" y="405216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200920" y="3920400"/>
              <a:ext cx="476640" cy="346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239080" y="38667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296320" y="38858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 rot="10837800">
              <a:off x="5391720" y="447660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10822200">
              <a:off x="5085720" y="4095360"/>
              <a:ext cx="114120" cy="95040"/>
            </a:xfrm>
            <a:custGeom>
              <a:avLst/>
              <a:gdLst>
                <a:gd name="textAreaLeft" fmla="*/ 38160 w 114120"/>
                <a:gd name="textAreaRight" fmla="*/ 9792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906520" y="390492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 rot="5400000">
              <a:off x="5664240" y="41094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364440" y="3981240"/>
              <a:ext cx="209520" cy="343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933800" y="3809880"/>
              <a:ext cx="20952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6781680" y="3809880"/>
            <a:ext cx="1773360" cy="1104840"/>
            <a:chOff x="6781680" y="3809880"/>
            <a:chExt cx="1773360" cy="1104840"/>
          </a:xfrm>
        </p:grpSpPr>
        <p:sp>
          <p:nvSpPr>
            <p:cNvPr id="660" name=""/>
            <p:cNvSpPr/>
            <p:nvPr/>
          </p:nvSpPr>
          <p:spPr>
            <a:xfrm>
              <a:off x="6781680" y="4171680"/>
              <a:ext cx="915120" cy="7430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944840" y="4362480"/>
              <a:ext cx="277920" cy="285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734960" y="3809880"/>
              <a:ext cx="304920" cy="133200"/>
            </a:xfrm>
            <a:prstGeom prst="flowChartDocumen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696800" y="3986280"/>
              <a:ext cx="438480" cy="318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338600" y="456912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165440" y="4285080"/>
              <a:ext cx="272160" cy="197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190280" y="4248000"/>
              <a:ext cx="73800" cy="74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227360" y="4260240"/>
              <a:ext cx="34920" cy="3096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8" name=""/>
            <p:cNvGrpSpPr/>
            <p:nvPr/>
          </p:nvGrpSpPr>
          <p:grpSpPr>
            <a:xfrm>
              <a:off x="6992280" y="4472640"/>
              <a:ext cx="177480" cy="298080"/>
              <a:chOff x="6992280" y="4472640"/>
              <a:chExt cx="177480" cy="298080"/>
            </a:xfrm>
          </p:grpSpPr>
          <p:sp>
            <p:nvSpPr>
              <p:cNvPr id="669" name=""/>
              <p:cNvSpPr/>
              <p:nvPr/>
            </p:nvSpPr>
            <p:spPr>
              <a:xfrm rot="17683800">
                <a:off x="6929640" y="4593600"/>
                <a:ext cx="302400" cy="56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118280" y="45165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081200" y="45723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053120" y="4618800"/>
                <a:ext cx="41760" cy="41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029360" y="467100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4" name=""/>
            <p:cNvSpPr/>
            <p:nvPr/>
          </p:nvSpPr>
          <p:spPr>
            <a:xfrm>
              <a:off x="7152840" y="453240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276680" y="4470480"/>
              <a:ext cx="37080" cy="93600"/>
            </a:xfrm>
            <a:prstGeom prst="downArrow">
              <a:avLst>
                <a:gd name="adj1" fmla="val 50000"/>
                <a:gd name="adj2" fmla="val 6310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10762200">
              <a:off x="7140600" y="443304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10777800">
              <a:off x="8038800" y="4267080"/>
              <a:ext cx="114120" cy="95040"/>
            </a:xfrm>
            <a:custGeom>
              <a:avLst/>
              <a:gdLst>
                <a:gd name="textAreaLeft" fmla="*/ 37800 w 114120"/>
                <a:gd name="textAreaRight" fmla="*/ 9756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963920" y="39621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021160" y="39812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49440" y="42480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811280" y="440064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173800" y="409572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154720" y="451476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rot="16200000">
              <a:off x="8121960" y="405216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182000" y="3920400"/>
              <a:ext cx="476640" cy="346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220160" y="38667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277400" y="38858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 rot="10837800">
              <a:off x="7372800" y="447660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10822200">
              <a:off x="7066800" y="4095360"/>
              <a:ext cx="114120" cy="95040"/>
            </a:xfrm>
            <a:custGeom>
              <a:avLst/>
              <a:gdLst>
                <a:gd name="textAreaLeft" fmla="*/ 38160 w 114120"/>
                <a:gd name="textAreaRight" fmla="*/ 9792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887600" y="390492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 rot="5400000">
              <a:off x="7645320" y="41094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45520" y="3981240"/>
              <a:ext cx="209520" cy="343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914880" y="3809880"/>
              <a:ext cx="20952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approaches to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warm to control experimen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181480" y="2895480"/>
            <a:ext cx="3048120" cy="60984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5867280" y="3505320"/>
            <a:ext cx="914400" cy="38088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781680" y="3505320"/>
            <a:ext cx="914400" cy="38088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73D1-99AE-412C-AA76-381A4BF70C3D}" type="slidenum">
              <a:t>4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A81304-B711-4F7B-9D9F-45E16E2366C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ing header file gives us access to random number ob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C program must have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, which can take 2 arg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c : # of command line 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v: value of command line 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Swarm() function checks command line args and revs up Swarm eng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 uses default random number distributions to choose new location for 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34290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37339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C - explan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B308-4A12-4703-A4CE-DFA1D377F2E7}" type="slidenum">
              <a:t>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FC0716-D51F-4D08-BCE5-8AC44F0EF23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approaches: 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warm to control experimen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processing is done within Swarm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use GUI interac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quential - can’t parallelize in present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xternal program to execute Sw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do “poor mans” paralellization on multiprocessor mach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knowledge of tools outside Swarm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B4BF-345C-4372-9AA9-BBA878D5E882}" type="slidenum">
              <a:t>5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D3CBC9-3829-4297-A622-2692B7DD63E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implest version of an Objective-C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main( )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class, one instance: 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 ) imports base library of Swarm and fires up initSwarm( ) which gives us libraries for memory allocation 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952880" y="2743200"/>
            <a:ext cx="3657600" cy="3429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4267080"/>
            <a:ext cx="3276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92760" y="3276720"/>
            <a:ext cx="185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Pos,y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ldXSiz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ldY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560" y="4495680"/>
            <a:ext cx="2923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X: 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setWorldSizeX: 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st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543800" y="2590920"/>
            <a:ext cx="119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39200" y="556272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/>
          <p:nvPr/>
        </p:nvCxnSpPr>
        <p:spPr>
          <a:xfrm flipH="1" flipV="1" rot="5400000">
            <a:off x="7162560" y="2666520"/>
            <a:ext cx="30564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</p:cxnSp>
      <p:cxnSp>
        <p:nvCxnSpPr>
          <p:cNvPr id="73" name=""/>
          <p:cNvCxnSpPr/>
          <p:nvPr/>
        </p:nvCxnSpPr>
        <p:spPr>
          <a:xfrm flipH="1" flipV="1" rot="5400000">
            <a:off x="4639680" y="5036760"/>
            <a:ext cx="457920" cy="594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4" name=""/>
          <p:cNvSpPr/>
          <p:nvPr/>
        </p:nvSpPr>
        <p:spPr>
          <a:xfrm>
            <a:off x="5943600" y="1981080"/>
            <a:ext cx="133020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56240" y="271620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F1EC-12B0-4750-8770-4AFEFAB05CF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1B929A-D45B-4774-A0AC-5E8E1333A89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: The bug as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eriting from the ObjectBase class Bug knows these trick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: Allocate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op: Deallocate and 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6252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instruct class to create instance of itself. Associate instance with a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Bug=[Bug create: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set parameters in the instance, a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Bug setX: xPos Y: yPo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Bug setWorldXSize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875D-8BB2-4184-B772-A4F941B8630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CB7D28-3985-4FD5-8DF0-C4713C444F2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1280" y="2057400"/>
            <a:ext cx="495324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g = [Bug createBegin: globalZon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2666880"/>
            <a:ext cx="4953240" cy="1447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4191120"/>
            <a:ext cx="4953240" cy="1295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g = [aBug createEnd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create 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580920" y="2666520"/>
            <a:ext cx="49532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WorldSizeX: xsize Y: ysiz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FoodSpace: foodSpac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X: xPos Y: yPos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2057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cate memory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25909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all necessary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41911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 init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return pr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of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BF70-7A35-453B-9174-FBC714BDECF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0C557C-1151-447D-9B64-05C1DC035AF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 II: The Food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 create a world for the bug to roam around in and 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orld is defined in FoodSpace, a subclass of Discrete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 manages a lattice of integer valu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43400" y="4952880"/>
            <a:ext cx="4057560" cy="1146240"/>
          </a:xfrm>
          <a:prstGeom prst="wedgeRectCallout">
            <a:avLst>
              <a:gd name="adj1" fmla="val -1291"/>
              <a:gd name="adj2" fmla="val -16205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passing the Bug a poin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FoodSpace it can “talk”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forage in) the other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867280" y="1981080"/>
            <a:ext cx="133056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95680" y="2666880"/>
            <a:ext cx="160020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29400" y="2971800"/>
            <a:ext cx="1676520" cy="16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/>
          <p:nvPr/>
        </p:nvCxnSpPr>
        <p:spPr>
          <a:xfrm>
            <a:off x="6095520" y="3504960"/>
            <a:ext cx="686520" cy="105480"/>
          </a:xfrm>
          <a:prstGeom prst="straightConnector1">
            <a:avLst/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 rot="10762200">
            <a:off x="5486400" y="24379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rot="10777800">
            <a:off x="7162200" y="2666520"/>
            <a:ext cx="457200" cy="38124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DFAC-A83D-4FDC-AF23-9DDD5A8D5ED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179895-341D-413B-BA5E-E37D1A222DD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04:23:39Z</dcterms:created>
  <dc:creator>Benedikt Stefansson</dc:creator>
  <dc:description/>
  <dc:language>en-US</dc:language>
  <cp:lastModifiedBy>Office</cp:lastModifiedBy>
  <cp:lastPrinted>1998-03-18T02:24:41Z</cp:lastPrinted>
  <dcterms:modified xsi:type="dcterms:W3CDTF">1999-04-02T03:43:43Z</dcterms:modified>
  <cp:revision>40</cp:revision>
  <dc:subject/>
  <dc:title>Swarmfest ‘98 Tutori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swarmfest99\tutorial99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