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32600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D3F-0374-4735-86A3-AE05C4E2F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667A-07B5-47AC-8C2B-0F1DE81E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DBCD-B603-431B-A964-49AF346A7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D0E-0ABD-4226-B946-2CE388F0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D73-2E0B-4397-ABED-7C35E209A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8320-397D-43CA-A3A1-8DB4F576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2657-7BF4-4249-BBFE-4E287F50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6C5E-AF04-4F70-9105-48E93C4F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DE1-BBA5-4009-9B7C-440B6DC2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29D-8A1A-41DA-9936-C120AA689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5F9C-49C1-422F-B0EF-FD23900E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AC65-8C91-4F35-B999-3AC8ACA1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7F5DB-E1FA-4374-8CC5-10DD585A431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85BF-A251-4394-9DCE-E512B0467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: Simplebug de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oodSpac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subclassing from Discrete2d FoodSpace inherits several Ivars and about 16 methods to store and retrieve values in 2d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nly addition is a method to fill space with “food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77240" y="2154240"/>
            <a:ext cx="432612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seedFoodWithProb:(float)seedPro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x,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y = 0; y &lt; ysize; y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 (x = 0; x &lt; xsize; x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[uniformDblR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DoubleWithMin: 0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ithMax: 1.0]&lt;=seedPr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elf putValue: 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tX: x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Y: y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46720" y="5345280"/>
            <a:ext cx="2343240" cy="439560"/>
          </a:xfrm>
          <a:prstGeom prst="wedgeRectCallout">
            <a:avLst>
              <a:gd name="adj1" fmla="val -49527"/>
              <a:gd name="adj2" fmla="val -173828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666880"/>
            <a:ext cx="2343240" cy="439920"/>
          </a:xfrm>
          <a:prstGeom prst="wedgeRectCallout">
            <a:avLst>
              <a:gd name="adj1" fmla="val -37398"/>
              <a:gd name="adj2" fmla="val 75629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ed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C9DE-CBC3-46B0-B213-8A3BAF45880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9A9F2-99E3-4798-B05F-0C1960E116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 class of Swarm. Memory management, create, drop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support for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 lattice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57760" y="217800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99160" y="2954160"/>
            <a:ext cx="541440" cy="541440"/>
          </a:xfrm>
          <a:prstGeom prst="ellipse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3" idx="4"/>
            <a:endCxn id="104" idx="0"/>
          </p:cNvCxnSpPr>
          <p:nvPr/>
        </p:nvCxnSpPr>
        <p:spPr>
          <a:xfrm flipH="1" rot="16200000">
            <a:off x="6281640" y="2365920"/>
            <a:ext cx="235440" cy="942120"/>
          </a:xfrm>
          <a:prstGeom prst="bentConnector3">
            <a:avLst>
              <a:gd name="adj1" fmla="val 4992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6" name=""/>
          <p:cNvSpPr/>
          <p:nvPr/>
        </p:nvSpPr>
        <p:spPr>
          <a:xfrm>
            <a:off x="6523920" y="21924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30481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284960" y="3639960"/>
            <a:ext cx="541440" cy="541440"/>
          </a:xfrm>
          <a:prstGeom prst="ellipse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9680" y="3639960"/>
            <a:ext cx="541440" cy="541440"/>
          </a:xfrm>
          <a:prstGeom prst="ellipse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4" idx="4"/>
            <a:endCxn id="109" idx="0"/>
          </p:cNvCxnSpPr>
          <p:nvPr/>
        </p:nvCxnSpPr>
        <p:spPr>
          <a:xfrm rot="5400000">
            <a:off x="6492960" y="3262320"/>
            <a:ext cx="144720" cy="61020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" name=""/>
          <p:cNvCxnSpPr>
            <a:stCxn id="104" idx="4"/>
            <a:endCxn id="108" idx="0"/>
          </p:cNvCxnSpPr>
          <p:nvPr/>
        </p:nvCxnSpPr>
        <p:spPr>
          <a:xfrm flipH="1" rot="16200000">
            <a:off x="7140600" y="3224160"/>
            <a:ext cx="144720" cy="686520"/>
          </a:xfrm>
          <a:prstGeom prst="bentConnector3">
            <a:avLst>
              <a:gd name="adj1" fmla="val 4937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4465800" y="37926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67240" y="46306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89680" y="4554360"/>
            <a:ext cx="541440" cy="54144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stCxn id="109" idx="4"/>
            <a:endCxn id="114" idx="0"/>
          </p:cNvCxnSpPr>
          <p:nvPr/>
        </p:nvCxnSpPr>
        <p:spPr>
          <a:xfrm>
            <a:off x="6260760" y="4181400"/>
            <a:ext cx="1080" cy="37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ower of inherit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413E-F706-4A80-A163-6DB693FB34B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38D23-E532-4F81-8F07-DA6F0C8FC5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: The Model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stance of the  Swarm class can manage a model wor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s the creation of agents and interaction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can have many Swarms, often n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388620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29400" y="4114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/>
          <p:nvPr/>
        </p:nvCxnSpPr>
        <p:spPr>
          <a:xfrm>
            <a:off x="6019560" y="472392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442120" y="2867040"/>
            <a:ext cx="226980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10762200">
            <a:off x="5257800" y="3580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rot="10777800">
            <a:off x="7543080" y="3809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162920" y="28195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43800" y="289548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CF2E-8ECE-4AB2-9D99-7CCE0CDF55E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5AECBD-91C7-4CD7-BB30-EA69CBC22A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ll the agents and objects i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I. 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V. 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into top level swarm or start Swarm 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4A2-F2B7-4B33-92D3-47C376ADE1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82DA2-56D4-44B9-93AD-C4340E8B58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52480" y="1905120"/>
            <a:ext cx="21337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48320" y="1905120"/>
            <a:ext cx="106668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52480" y="2362320"/>
            <a:ext cx="304812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752480" y="2971800"/>
            <a:ext cx="548640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3429000"/>
            <a:ext cx="36576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52120" y="190512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createBegin: (id)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*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X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worldYSize = 8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seedProb = 0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x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yPos = 4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18288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6728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228600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9320" y="2895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038480"/>
            <a:ext cx="374400" cy="405000"/>
          </a:xfrm>
          <a:custGeom>
            <a:avLst/>
            <a:gdLst>
              <a:gd name="textAreaLeft" fmla="*/ 85320 w 374400"/>
              <a:gd name="textAreaRight" fmla="*/ 289080 w 37440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FCD-E8BE-4E48-9267-63B44E8997A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BC675-8EF1-4333-BCCD-577D597046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createBegin meth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“+” indicates that this is a class method as opposed to “-” which indicates an instance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* obj” indicates to compiler that obj is statically typ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createBegin method in the super class of obj (Swarm) and returns an instance of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-&gt;varName=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ses OOP paradigm and “pokes” values directly into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44197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4267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BAD2-B9A2-4F5F-959E-9C44EBA5D349}" type="slidenum">
              <a:t>1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63A6E-A180-45C2-B577-6AB7D9E6B3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fobj super class provides facilities to create and drop an object - allocate and de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s created in a memory z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ly this means that the underlying mechanism provides enough memory for the instance, its variables and metho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zone also keeps track of all objects created in it and allows you to reclaim memory simply by dropping a zone. It will signals to all objects in it to destroy themsel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990720"/>
            <a:ext cx="374400" cy="404640"/>
          </a:xfrm>
          <a:custGeom>
            <a:avLst/>
            <a:gdLst>
              <a:gd name="textAreaLeft" fmla="*/ 85320 w 374400"/>
              <a:gd name="textAreaRight" fmla="*/ 289080 w 37440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0979-C0EC-4F06-B812-8141F8AE7AE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F990D-5644-4F50-8469-63C1D38DDE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4648320"/>
            <a:ext cx="556272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3276720"/>
            <a:ext cx="6858000" cy="1143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1828800"/>
            <a:ext cx="4114800" cy="10666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0200" y="3657600"/>
            <a:ext cx="66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elSwarm= [ModelSwarm create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did that zone come fro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4190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ain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initSwarm (argc, argv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2520" y="5029200"/>
            <a:ext cx="37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ModelSwarm.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+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724280" y="1600200"/>
            <a:ext cx="3962520" cy="205740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vari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reate a global memory z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mong other th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4114800"/>
            <a:ext cx="4343400" cy="1905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: method is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uperclass of th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it calls the createBeg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" name=""/>
          <p:cNvCxnSpPr/>
          <p:nvPr/>
        </p:nvCxnSpPr>
        <p:spPr>
          <a:xfrm rot="5400000">
            <a:off x="6912000" y="2688120"/>
            <a:ext cx="716760" cy="12834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/>
          <p:nvPr/>
        </p:nvCxnSpPr>
        <p:spPr>
          <a:xfrm flipH="1" rot="16200000">
            <a:off x="5637600" y="3809520"/>
            <a:ext cx="343800" cy="8010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4" name=""/>
          <p:cNvCxnSpPr/>
          <p:nvPr/>
        </p:nvCxnSpPr>
        <p:spPr>
          <a:xfrm flipH="1" flipV="1" rot="5400000">
            <a:off x="4266720" y="608760"/>
            <a:ext cx="229320" cy="2972520"/>
          </a:xfrm>
          <a:prstGeom prst="curvedConnector5">
            <a:avLst>
              <a:gd name="adj1" fmla="val 200000"/>
              <a:gd name="adj2" fmla="val 50000"/>
              <a:gd name="adj3" fmla="val 20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5" name=""/>
          <p:cNvCxnSpPr/>
          <p:nvPr/>
        </p:nvCxnSpPr>
        <p:spPr>
          <a:xfrm flipV="1" rot="16200000">
            <a:off x="4456440" y="4381560"/>
            <a:ext cx="315000" cy="2218320"/>
          </a:xfrm>
          <a:prstGeom prst="curvedConnector5">
            <a:avLst>
              <a:gd name="adj1" fmla="val -161556"/>
              <a:gd name="adj2" fmla="val 49991"/>
              <a:gd name="adj3" fmla="val -161556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42DE-F1A2-4946-8B9A-C683FCF1B5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5FFEA-63F1-49A5-8638-26E5F9BFA9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38080" y="22860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2649600"/>
            <a:ext cx="5791320" cy="3207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3429000"/>
            <a:ext cx="5791320" cy="304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3048120"/>
            <a:ext cx="5791320" cy="3045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3886200"/>
            <a:ext cx="5791320" cy="304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4267080"/>
            <a:ext cx="5791320" cy="10670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5410080"/>
            <a:ext cx="5791320" cy="304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Building the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t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odSpace = [foodSpac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foodSpace seedFoodWithProb: seedProb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WorldSizeX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 self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0841-A1BC-4E0E-9FD1-9646CB8D222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20726-576E-4FB2-ADD2-6C8415E904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tails on the buildObjects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rpose of this method is to create each instance of objects needed at the start of simulation, and then to pass parameters to th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good OOP protocol to provide setX: methods for each parameter X we want to set, as in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aBug setFoodSpace: foodSpace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B5D6-310E-49AF-B2CD-49F819C2465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353007-A61E-4D5E-BF14-D3741F28C6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con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torial: Simpl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: From C to Objective-C to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GUI: Probes, raster image, 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ing and controlling full experiment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ics cover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ing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s, activity library, probes,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8CFC-E856-475D-A172-D9D80184BB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14E7C-CF9E-4D16-83D0-543418557E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createBegin vs. crea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createBegin:, createEnd is appropriate when we want a reminder that the object needs to initialize something, calculate or set (usually this code is put in the createEnd metho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ways use createBegin with createEnd to avoid messy problems (object returned o.w. not val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create: is perfectly fine if we just want just to create an object without further 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D856-310B-41D1-9038-7EA8E95CAFF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AD3C9-8AEB-4C6C-BC2D-5C41064FD5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3505320"/>
            <a:ext cx="6934320" cy="304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3124080"/>
            <a:ext cx="693432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2743200"/>
            <a:ext cx="693432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setRepeatInterval: 1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chedule = [model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t: 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aBug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st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272F-7ED8-40CF-AEF7-C5A883BBDBF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998BCE-F694-466D-9947-2800AEBF6E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81080"/>
            <a:ext cx="40384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of first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49080" y="1565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77520" y="157644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71960" y="3394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93160" y="3429000"/>
            <a:ext cx="37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    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ActionTo: 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:            M(method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729480" y="339552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27880" y="37609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153280" y="41148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60" y="423216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60" y="378468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92F8-45FA-4E20-88A6-44D13B792A1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E5C55A-8887-41E7-AAFE-273721F42D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1981080"/>
            <a:ext cx="361620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s group together events at same tim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then “executes”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869000" y="2509920"/>
            <a:ext cx="336996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0360" y="240336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91360" y="2397240"/>
            <a:ext cx="228600" cy="22860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284880" y="239076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407280" y="2476440"/>
            <a:ext cx="0" cy="81144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0800" y="3317760"/>
            <a:ext cx="0" cy="669960"/>
          </a:xfrm>
          <a:prstGeom prst="line">
            <a:avLst/>
          </a:prstGeom>
          <a:ln w="50760">
            <a:solidFill>
              <a:srgbClr val="99cc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82200" y="190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11000" y="19162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09640" y="194616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0840" y="248904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80240" y="248112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48320" y="299412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sleep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8200" y="3657600"/>
            <a:ext cx="164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ood grow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72080" y="3911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6BE6-9BFB-4B1C-8083-E991215EB5B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582A2-2B1C-46FC-A3EE-92F830A624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1592280"/>
            <a:ext cx="7772400" cy="43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setRepeatInterval: 2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1=[schedule1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1 at: 1 createActionTo: bug message: M(eat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Group=[ActionGrou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bug message: M(sleep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actionGroup createActionTo: food message: M(grow)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2=[schedule2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[schedule2 at: 2 createAction: actionGroup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7961400" y="1816200"/>
            <a:ext cx="1440" cy="4608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rot="5373600">
            <a:off x="7841880" y="26575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5373600">
            <a:off x="7846560" y="55944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5373600">
            <a:off x="7846560" y="3790800"/>
            <a:ext cx="228600" cy="22860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90640" y="20923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136720" y="36370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128800" y="541512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=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3352680"/>
            <a:ext cx="6019920" cy="2743200"/>
          </a:xfrm>
          <a:prstGeom prst="rect">
            <a:avLst/>
          </a:pr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600200"/>
            <a:ext cx="6019920" cy="1600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3"/>
            <a:endCxn id="222" idx="4"/>
          </p:cNvCxnSpPr>
          <p:nvPr/>
        </p:nvCxnSpPr>
        <p:spPr>
          <a:xfrm>
            <a:off x="6638400" y="2400120"/>
            <a:ext cx="1204200" cy="371880"/>
          </a:xfrm>
          <a:prstGeom prst="bentConnector3">
            <a:avLst>
              <a:gd name="adj1" fmla="val 49461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1" name=""/>
          <p:cNvCxnSpPr>
            <a:stCxn id="229" idx="3"/>
            <a:endCxn id="223" idx="4"/>
          </p:cNvCxnSpPr>
          <p:nvPr/>
        </p:nvCxnSpPr>
        <p:spPr>
          <a:xfrm>
            <a:off x="6638760" y="2400120"/>
            <a:ext cx="1208880" cy="3308760"/>
          </a:xfrm>
          <a:prstGeom prst="bentConnector3">
            <a:avLst>
              <a:gd name="adj1" fmla="val 14566"/>
            </a:avLst>
          </a:prstGeom>
          <a:ln w="38160">
            <a:solidFill>
              <a:srgbClr val="ff0000"/>
            </a:solidFill>
            <a:miter/>
          </a:ln>
        </p:spPr>
      </p:cxnSp>
      <p:cxnSp>
        <p:nvCxnSpPr>
          <p:cNvPr id="232" name=""/>
          <p:cNvCxnSpPr>
            <a:stCxn id="228" idx="3"/>
            <a:endCxn id="224" idx="4"/>
          </p:cNvCxnSpPr>
          <p:nvPr/>
        </p:nvCxnSpPr>
        <p:spPr>
          <a:xfrm flipV="1">
            <a:off x="6638760" y="3904560"/>
            <a:ext cx="1208880" cy="819720"/>
          </a:xfrm>
          <a:prstGeom prst="bentConnector3">
            <a:avLst>
              <a:gd name="adj1" fmla="val 49538"/>
            </a:avLst>
          </a:prstGeom>
          <a:ln w="50760">
            <a:solidFill>
              <a:srgbClr val="99cc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FCFE-EDC1-4075-8F53-03A0698CFDE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FDB4D-E4CA-42D1-8F1F-7C7213E23F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EA2F-C1BE-435D-B7F9-2F956771515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132867-790B-4AB0-8EFA-61BA4B4B35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819520" y="4800600"/>
            <a:ext cx="5562360" cy="9144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76720" y="3429000"/>
            <a:ext cx="533376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on of schedule(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28600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5638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main.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model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11680" y="37339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25880" y="5029200"/>
            <a:ext cx="50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/>
          <p:nvPr/>
        </p:nvCxnSpPr>
        <p:spPr>
          <a:xfrm>
            <a:off x="6171840" y="2971800"/>
            <a:ext cx="762840" cy="8388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3" name=""/>
          <p:cNvCxnSpPr/>
          <p:nvPr/>
        </p:nvCxnSpPr>
        <p:spPr>
          <a:xfrm flipH="1" rot="16200000">
            <a:off x="6742800" y="4305240"/>
            <a:ext cx="991440" cy="610200"/>
          </a:xfrm>
          <a:prstGeom prst="curvedConnector5">
            <a:avLst>
              <a:gd name="adj1" fmla="val 49981"/>
              <a:gd name="adj2" fmla="val 50000"/>
              <a:gd name="adj3" fmla="val 49981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410080" y="1523880"/>
            <a:ext cx="3353040" cy="144792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is only 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so we activ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in n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276720"/>
            <a:ext cx="3733560" cy="1981080"/>
          </a:xfrm>
          <a:prstGeom prst="ellipse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one line could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motion complex sche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merging and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BEBF-1606-4AE4-9059-26783DDFF1D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3C3EE-6BF3-4ADF-BDBC-671AB5AF7E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4876920" y="4191120"/>
            <a:ext cx="1371600" cy="137160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: More bu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manage more than one bug ad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, a Grid2d instance that enforces one bug per 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, to keep track of bugs as a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86400" y="1981080"/>
            <a:ext cx="1219320" cy="53352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00800" y="4114800"/>
            <a:ext cx="13716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832280" y="2562120"/>
            <a:ext cx="227016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 rot="10777800">
            <a:off x="685728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19920" y="236232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2514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25909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7683800">
            <a:off x="3026160" y="4440960"/>
            <a:ext cx="2486160" cy="462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8098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1500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267080"/>
            <a:ext cx="343080" cy="344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038480" y="46483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51055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10762200">
            <a:off x="4572000" y="33523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8840" y="55627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421-9C01-452A-8670-055ECB64018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3C00D-E369-482D-941B-6727D41A34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495680" y="3733920"/>
            <a:ext cx="4040280" cy="609480"/>
          </a:xfrm>
          <a:prstGeom prst="rect">
            <a:avLst/>
          </a:prstGeom>
          <a:solidFill>
            <a:srgbClr val="99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4419720"/>
            <a:ext cx="4040280" cy="228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 population of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1827360"/>
            <a:ext cx="40384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98920" y="5519880"/>
            <a:ext cx="4040280" cy="5824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498920" y="3352680"/>
            <a:ext cx="4040280" cy="30492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981080"/>
            <a:ext cx="3244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collection objects (Grid2d, List) to keep track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for loop create each instance &amp; initial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put each agent on list,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224240" y="1981080"/>
            <a:ext cx="4233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(create world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bugList=[List create: [self getZone]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y=0;y&lt;worldYSize;y++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for(x=0;x&lt;worldXSize;x++)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if([uniformDblRand .] &lt;=bugDensity)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Bug createBegin: self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World: world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Food: foodSpace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aBug setX: x Y: y];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aBug = [aBug createEnd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world putObject: aBug atX: x Y: y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[bugList addLast: aBug]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14800" y="3276720"/>
            <a:ext cx="304920" cy="19810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7640" y="5442120"/>
            <a:ext cx="262080" cy="66960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600"/>
              <a:gd name="textAreaBottom" fmla="*/ 652320 h 66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157640" y="1785960"/>
            <a:ext cx="262080" cy="669960"/>
          </a:xfrm>
          <a:custGeom>
            <a:avLst/>
            <a:gdLst>
              <a:gd name="textAreaLeft" fmla="*/ 167400 w 262080"/>
              <a:gd name="textAreaRight" fmla="*/ 262440 w 262080"/>
              <a:gd name="textAreaTop" fmla="*/ 17280 h 669960"/>
              <a:gd name="textAreaBottom" fmla="*/ 652680 h 66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760"/>
                </a:lnTo>
                <a:cubicBezTo>
                  <a:pt x="10800" y="9660"/>
                  <a:pt x="5400" y="10560"/>
                  <a:pt x="0" y="10560"/>
                </a:cubicBezTo>
                <a:cubicBezTo>
                  <a:pt x="5400" y="10560"/>
                  <a:pt x="10800" y="11460"/>
                  <a:pt x="10800" y="1236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41760" y="188604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4038480"/>
            <a:ext cx="369720" cy="44316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43200" y="5541840"/>
            <a:ext cx="370080" cy="44316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593E-8299-494E-99CE-C08DFD4F9D6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01B9E-0A42-4935-9570-FF52AEE86F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ty and colle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now have a collection of agents - 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 now takes as target the collection object - a List in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llection object passes on the message to each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9568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buildActions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Actions = [ActionGroup create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ForEach: bugList                              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message: M(step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Actions createActionTo:  reportBug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  message: M(report)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Schedule createBegin: self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setRepeatInterval: 1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odelSchedule = [modelSchedule createEnd]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[modelSchedule at: 0 createAction: modelActions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self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BFF-7EB6-4019-A243-CB88DD425C65}" type="slidenum">
              <a:t>2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3671D-74EE-4284-8289-09A6544CDD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s in Simplebug 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C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 is now Objective-C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jC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grid holding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a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bug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SwarmBug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paramete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ObserverSwarm &amp;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ObserverBug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s more sophisticated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ExperBu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multiple experi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25C9-197E-4574-8134-3B14B77C69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692247-B06F-4B76-A101-3ABB817B6A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5029200" y="2895480"/>
            <a:ext cx="2514600" cy="13716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9200" y="2451240"/>
            <a:ext cx="25146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4295880"/>
            <a:ext cx="2514600" cy="3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del.setup 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beg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X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orldYSize 8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edProb 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ugDensity 0.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rget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me of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Swarm III: Loading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values of ivar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a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values of ivars to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instance vars not mentioned in infile unchang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238880" y="4038480"/>
            <a:ext cx="1067040" cy="381240"/>
          </a:xfrm>
          <a:prstGeom prst="wedgeRectCallout">
            <a:avLst>
              <a:gd name="adj1" fmla="val -76787"/>
              <a:gd name="adj2" fmla="val 85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38880" y="2438280"/>
            <a:ext cx="1067040" cy="381240"/>
          </a:xfrm>
          <a:prstGeom prst="wedgeRectCallout">
            <a:avLst>
              <a:gd name="adj1" fmla="val -89287"/>
              <a:gd name="adj2" fmla="val 1083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EDD0-6D7A-477A-9FEC-D3447B321C7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6FEFC-DF35-4266-A001-8A2E98B5A7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5000" y="4114800"/>
            <a:ext cx="1111320" cy="1143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: Adding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800600" y="175248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299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26668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rot="10777800">
            <a:off x="6095160" y="37339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913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0199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34120" y="36576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4267080"/>
            <a:ext cx="533520" cy="5335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3048120"/>
            <a:ext cx="53352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553080" y="4724280"/>
            <a:ext cx="5335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952880" y="54100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552720" y="37339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2dDis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10280" y="51814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6" idx="0"/>
            <a:endCxn id="313" idx="4"/>
          </p:cNvCxnSpPr>
          <p:nvPr/>
        </p:nvCxnSpPr>
        <p:spPr>
          <a:xfrm flipV="1" rot="16200000">
            <a:off x="5436720" y="4810680"/>
            <a:ext cx="610200" cy="588240"/>
          </a:xfrm>
          <a:prstGeom prst="curvedConnector5">
            <a:avLst>
              <a:gd name="adj1" fmla="val 50000"/>
              <a:gd name="adj2" fmla="val 49969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0" name=""/>
          <p:cNvCxnSpPr>
            <a:stCxn id="317" idx="0"/>
            <a:endCxn id="314" idx="5"/>
          </p:cNvCxnSpPr>
          <p:nvPr/>
        </p:nvCxnSpPr>
        <p:spPr>
          <a:xfrm flipV="1" rot="16200000">
            <a:off x="7265520" y="3322080"/>
            <a:ext cx="231120" cy="592560"/>
          </a:xfrm>
          <a:prstGeom prst="curvedConnector5">
            <a:avLst>
              <a:gd name="adj1" fmla="val 33073"/>
              <a:gd name="adj2" fmla="val 49969"/>
              <a:gd name="adj3" fmla="val 33073"/>
            </a:avLst>
          </a:prstGeom>
          <a:ln w="9360">
            <a:solidFill>
              <a:srgbClr val="000000"/>
            </a:solidFill>
            <a:miter/>
            <a:headEnd len="med" type="diamond" w="med"/>
            <a:tailEnd len="med" type="triangle" w="med"/>
          </a:ln>
        </p:spPr>
      </p:cxnSp>
      <p:cxnSp>
        <p:nvCxnSpPr>
          <p:cNvPr id="321" name=""/>
          <p:cNvCxnSpPr>
            <a:stCxn id="318" idx="0"/>
            <a:endCxn id="315" idx="6"/>
          </p:cNvCxnSpPr>
          <p:nvPr/>
        </p:nvCxnSpPr>
        <p:spPr>
          <a:xfrm flipV="1" rot="16200000">
            <a:off x="7303320" y="4772880"/>
            <a:ext cx="191160" cy="6260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 rot="16200000">
            <a:off x="6422040" y="28738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rot="5400000">
            <a:off x="4152960" y="2552760"/>
            <a:ext cx="380880" cy="914400"/>
          </a:xfrm>
          <a:prstGeom prst="downArrow">
            <a:avLst>
              <a:gd name="adj1" fmla="val 50000"/>
              <a:gd name="adj2" fmla="val 6001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E8AF-4D22-466D-899A-F90EEDDDCC1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3EEE6C-BFFC-497D-B190-FFD6C848DC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Observer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Begin,create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memory and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graphs, rasters and 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order and timing of GUI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66D5-38CB-4C2E-905A-2A5311E2F83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04E60-0C26-4A84-9995-EA94867904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: Initializ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+ createBegin: aZon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serverSwarm *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 = [super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-&gt;displayFrequency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obj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347-CCAC-4A8D-A11F-D55A03C1F8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8C050E-7C2C-4953-9BCA-2EE2CC0B75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: Creating ob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buildObject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Objects]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elSwarm = [ModelSwarm create: self]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controlPanel setStateStoppe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Object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Colorma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Ras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267080" y="4114800"/>
            <a:ext cx="2971800" cy="76212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ldfaced item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placehol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D719-03AA-42F9-A153-803ADD6804B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4FDF0-6666-45DA-8ACF-BE9941C9A3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838080" y="3505320"/>
            <a:ext cx="7467840" cy="13716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3124080"/>
            <a:ext cx="7467840" cy="304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II: Building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38080" y="5486400"/>
            <a:ext cx="7467840" cy="304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38080" y="5105520"/>
            <a:ext cx="7467840" cy="304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buildActions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buildAction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food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bugDisplay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worldRaster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GUI update ac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Schedu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create action to ActionGrou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5F3-C113-4E3E-AE20-A9F81CD1385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166A58-6861-4853-AD72-2AB051E847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ep IV: Activating 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 activateIn: swarmContext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displaySchedule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A6AA-4EC2-4EAB-8FAD-71D4D1CF9A4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115E20-079E-4072-8406-35C9EEE876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828800" y="4343400"/>
            <a:ext cx="3886200" cy="1295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962520" y="4267080"/>
            <a:ext cx="38088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00400" y="3581280"/>
            <a:ext cx="2819520" cy="9907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952880" y="33526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gration of Swarm activ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609480" y="1905120"/>
            <a:ext cx="2063880" cy="2347560"/>
            <a:chOff x="609480" y="1905120"/>
            <a:chExt cx="2063880" cy="2347560"/>
          </a:xfrm>
        </p:grpSpPr>
        <p:sp>
          <p:nvSpPr>
            <p:cNvPr id="346" name=""/>
            <p:cNvSpPr/>
            <p:nvPr/>
          </p:nvSpPr>
          <p:spPr>
            <a:xfrm>
              <a:off x="1676520" y="1954800"/>
              <a:ext cx="928800" cy="684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70320" y="3306960"/>
              <a:ext cx="1927440" cy="457200"/>
            </a:xfrm>
            <a:prstGeom prst="rect">
              <a:avLst/>
            </a:pr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70320" y="2740680"/>
              <a:ext cx="1927440" cy="45720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8520" y="1954800"/>
              <a:ext cx="929880" cy="68400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03880" y="3422880"/>
              <a:ext cx="1492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perating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988560" y="2863800"/>
              <a:ext cx="1180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warm ker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963000" y="2369880"/>
              <a:ext cx="4564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875960" y="2352960"/>
              <a:ext cx="6253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9480" y="1905120"/>
              <a:ext cx="2063880" cy="13294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42240" y="2201400"/>
              <a:ext cx="2426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64560" y="2399760"/>
              <a:ext cx="2566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120" y="1994400"/>
              <a:ext cx="543960" cy="3866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4120" y="2025360"/>
              <a:ext cx="417600" cy="3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75520" y="2098800"/>
              <a:ext cx="355320" cy="198360"/>
            </a:xfrm>
            <a:custGeom>
              <a:avLst/>
              <a:gdLst/>
              <a:ahLst/>
              <a:rect l="l" t="t" r="r" b="b"/>
              <a:pathLst>
                <a:path w="378" h="211">
                  <a:moveTo>
                    <a:pt x="0" y="211"/>
                  </a:moveTo>
                  <a:cubicBezTo>
                    <a:pt x="22" y="179"/>
                    <a:pt x="28" y="149"/>
                    <a:pt x="56" y="122"/>
                  </a:cubicBezTo>
                  <a:cubicBezTo>
                    <a:pt x="57" y="119"/>
                    <a:pt x="73" y="47"/>
                    <a:pt x="100" y="67"/>
                  </a:cubicBezTo>
                  <a:cubicBezTo>
                    <a:pt x="115" y="78"/>
                    <a:pt x="105" y="104"/>
                    <a:pt x="111" y="122"/>
                  </a:cubicBezTo>
                  <a:cubicBezTo>
                    <a:pt x="116" y="135"/>
                    <a:pt x="127" y="144"/>
                    <a:pt x="133" y="156"/>
                  </a:cubicBezTo>
                  <a:cubicBezTo>
                    <a:pt x="138" y="166"/>
                    <a:pt x="141" y="178"/>
                    <a:pt x="145" y="189"/>
                  </a:cubicBezTo>
                  <a:cubicBezTo>
                    <a:pt x="202" y="151"/>
                    <a:pt x="211" y="89"/>
                    <a:pt x="278" y="67"/>
                  </a:cubicBezTo>
                  <a:cubicBezTo>
                    <a:pt x="295" y="13"/>
                    <a:pt x="307" y="36"/>
                    <a:pt x="345" y="0"/>
                  </a:cubicBezTo>
                  <a:cubicBezTo>
                    <a:pt x="356" y="4"/>
                    <a:pt x="378" y="11"/>
                    <a:pt x="378" y="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37440" y="218268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242080" y="2012040"/>
              <a:ext cx="145800" cy="1458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092680" y="2217240"/>
              <a:ext cx="145800" cy="1454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63" name=""/>
            <p:cNvCxnSpPr>
              <a:stCxn id="362" idx="1"/>
              <a:endCxn id="360" idx="5"/>
            </p:cNvCxnSpPr>
            <p:nvPr/>
          </p:nvCxnSpPr>
          <p:spPr>
            <a:xfrm flipH="1">
              <a:off x="1960920" y="2238840"/>
              <a:ext cx="153000" cy="6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4" name=""/>
            <p:cNvCxnSpPr>
              <a:stCxn id="360" idx="7"/>
              <a:endCxn id="361" idx="2"/>
            </p:cNvCxnSpPr>
            <p:nvPr/>
          </p:nvCxnSpPr>
          <p:spPr>
            <a:xfrm flipH="1" flipV="1" rot="5400000">
              <a:off x="2041920" y="2004120"/>
              <a:ext cx="11916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65" name=""/>
            <p:cNvCxnSpPr>
              <a:stCxn id="362" idx="6"/>
              <a:endCxn id="361" idx="5"/>
            </p:cNvCxnSpPr>
            <p:nvPr/>
          </p:nvCxnSpPr>
          <p:spPr>
            <a:xfrm flipV="1">
              <a:off x="2238120" y="2135520"/>
              <a:ext cx="128520" cy="155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66" name=""/>
            <p:cNvSpPr/>
            <p:nvPr/>
          </p:nvSpPr>
          <p:spPr>
            <a:xfrm>
              <a:off x="666720" y="3795480"/>
              <a:ext cx="1927440" cy="457200"/>
            </a:xfrm>
            <a:prstGeom prst="rect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383480" y="3868920"/>
              <a:ext cx="506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P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236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316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4504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16600" y="364140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121824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2240280" y="259560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1748160" y="3146040"/>
              <a:ext cx="126000" cy="251280"/>
            </a:xfrm>
            <a:prstGeom prst="downArrow">
              <a:avLst>
                <a:gd name="adj1" fmla="val 50000"/>
                <a:gd name="adj2" fmla="val 49857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1754640" y="3640680"/>
              <a:ext cx="126000" cy="250920"/>
            </a:xfrm>
            <a:prstGeom prst="downArrow">
              <a:avLst>
                <a:gd name="adj1" fmla="val 50000"/>
                <a:gd name="adj2" fmla="val 49786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4114800" y="2666880"/>
            <a:ext cx="2819520" cy="99072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867280" y="2438280"/>
            <a:ext cx="381240" cy="2286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1828800"/>
            <a:ext cx="2819160" cy="9907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783120" y="297180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325200" y="373392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63440" y="45720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541008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0BC4-3CC1-4DB3-A0E9-0FAA70064EBA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F8DEB-009F-4AEA-8AEA-1F919880A7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809880" y="3352680"/>
            <a:ext cx="4800600" cy="12956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2590920"/>
            <a:ext cx="5334120" cy="99036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1752480"/>
            <a:ext cx="6019920" cy="990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735360" y="289548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040280" y="3657600"/>
            <a:ext cx="444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ubSwarm activate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9" name=""/>
          <p:cNvCxnSpPr/>
          <p:nvPr/>
        </p:nvCxnSpPr>
        <p:spPr>
          <a:xfrm>
            <a:off x="4723920" y="2361960"/>
            <a:ext cx="305640" cy="6865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90" name=""/>
          <p:cNvSpPr/>
          <p:nvPr/>
        </p:nvSpPr>
        <p:spPr>
          <a:xfrm>
            <a:off x="609480" y="2057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topSwarm activateIn: nil];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28600" y="5029200"/>
            <a:ext cx="5334120" cy="99072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914400" y="4495680"/>
            <a:ext cx="5334120" cy="609840"/>
          </a:xfrm>
          <a:prstGeom prst="ellipse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144800" y="4648320"/>
            <a:ext cx="47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39880" y="5334120"/>
            <a:ext cx="429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/>
          <p:nvPr/>
        </p:nvCxnSpPr>
        <p:spPr>
          <a:xfrm flipV="1" rot="10800000">
            <a:off x="4571280" y="4343040"/>
            <a:ext cx="956520" cy="4579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endCxn id="388" idx="0"/>
          </p:cNvCxnSpPr>
          <p:nvPr/>
        </p:nvCxnSpPr>
        <p:spPr>
          <a:xfrm>
            <a:off x="5334120" y="3276720"/>
            <a:ext cx="93096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/>
          <p:nvPr/>
        </p:nvCxnSpPr>
        <p:spPr>
          <a:xfrm flipV="1" rot="10800000">
            <a:off x="2742480" y="5105160"/>
            <a:ext cx="7470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860F-C7DD-43E6-81B1-63AC53074323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8826D-9FC0-44F9-B6D7-9A5AAB8702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two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( ) creates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serverSwarm creates ModelSwarm as a subswarm in own memory z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Swarm creates agents and activates self in Observer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86200" y="1752480"/>
            <a:ext cx="4800600" cy="25146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0600" y="4343400"/>
            <a:ext cx="3581280" cy="182880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297680" y="2217600"/>
            <a:ext cx="32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create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Object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Swarm buildAction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/>
          <p:nvPr/>
        </p:nvCxnSpPr>
        <p:spPr>
          <a:xfrm flipH="1" rot="16200000">
            <a:off x="6048360" y="3120840"/>
            <a:ext cx="853200" cy="1977120"/>
          </a:xfrm>
          <a:prstGeom prst="bentConnector3">
            <a:avLst>
              <a:gd name="adj1" fmla="val 34233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4" name=""/>
          <p:cNvSpPr/>
          <p:nvPr/>
        </p:nvSpPr>
        <p:spPr>
          <a:xfrm>
            <a:off x="5259240" y="4495680"/>
            <a:ext cx="2879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: aZon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Objec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buildAction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-activateIn: swarmContex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621920" y="3962520"/>
            <a:ext cx="101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44840" y="57913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045-47D0-4629-882B-A9904A052F61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E896F5-120A-4DDF-B9F8-7546626BBC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057400" y="198108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7400" y="167652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57400" y="3200400"/>
            <a:ext cx="5791320" cy="2286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4191120"/>
            <a:ext cx="5791320" cy="53316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9200" y="1494000"/>
            <a:ext cx="5819400" cy="55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mport &lt;simtools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main (int argc, const char **argv)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X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X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worldYSize = 8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Maximum Y 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xPos = 40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Bug's starting posi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yPos = 4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itSwarm(argc,argv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"I started at X = %d Y = %d \n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i = 0; i &lt; 100; i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Random movement in X and Y (possibly 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x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yPos + [uniformIntRand getIntegerWithMin: -1 withMax: 1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/ Take move modulo maximum coordinate valu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xPos = (xPos+ worldXSize) % worldX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yPos = (yPos + worldYSize) % worldYSiz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f( "I moved to X = %d Y = %d \n", xPos, yPo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38360" y="15238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38360" y="190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38360" y="312408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38360" y="4191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A340-D678-4FD5-BAE3-67CD1596D77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D971E9-683C-430E-9332-FA8FDD35F8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the Raster 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 displays data from lat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will display the food distribution from FoodSpace and ask bugs to draw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ddition to ZoomRaster need the 3 classes to the r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es a number with a color in pale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2dDispla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s array of x,y int data to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2dDisplay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s data from agents &amp; captures mousecl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C07D-9E64-4472-8F56-8290DE66C980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4F529-9F07-4439-B73A-589C4982B9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 these new objects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76920" y="1828800"/>
            <a:ext cx="35812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3886200"/>
            <a:ext cx="1676520" cy="1752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4114800"/>
            <a:ext cx="1143000" cy="106668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410080" y="2133720"/>
            <a:ext cx="2895840" cy="380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087320" y="175248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666880"/>
            <a:ext cx="1067040" cy="10670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981080" y="4648320"/>
            <a:ext cx="3049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3962520"/>
            <a:ext cx="304920" cy="304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9" name=""/>
          <p:cNvCxnSpPr>
            <a:stCxn id="416" idx="1"/>
            <a:endCxn id="420" idx="6"/>
          </p:cNvCxnSpPr>
          <p:nvPr/>
        </p:nvCxnSpPr>
        <p:spPr>
          <a:xfrm rot="10800000">
            <a:off x="4494960" y="2780640"/>
            <a:ext cx="915120" cy="41976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1" name=""/>
          <p:cNvCxnSpPr/>
          <p:nvPr/>
        </p:nvCxnSpPr>
        <p:spPr>
          <a:xfrm flipV="1" rot="10800000">
            <a:off x="4494960" y="2209320"/>
            <a:ext cx="915120" cy="496080"/>
          </a:xfrm>
          <a:prstGeom prst="bentConnector3">
            <a:avLst>
              <a:gd name="adj1" fmla="val 499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2" name=""/>
          <p:cNvCxnSpPr>
            <a:stCxn id="413" idx="1"/>
            <a:endCxn id="423" idx="6"/>
          </p:cNvCxnSpPr>
          <p:nvPr/>
        </p:nvCxnSpPr>
        <p:spPr>
          <a:xfrm rot="10800000">
            <a:off x="4494960" y="4569840"/>
            <a:ext cx="83916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993960" y="563724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934320" y="449568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10513"/>
              <a:gd name="adj4" fmla="val -4271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 of food as array of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34320" y="2819520"/>
            <a:ext cx="1671480" cy="1557000"/>
          </a:xfrm>
          <a:prstGeom prst="borderCallout1">
            <a:avLst>
              <a:gd name="adj1" fmla="val 18750"/>
              <a:gd name="adj2" fmla="val -8333"/>
              <a:gd name="adj3" fmla="val 8250"/>
              <a:gd name="adj4" fmla="val -41384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bugs as array of 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3733920"/>
            <a:ext cx="1752480" cy="1673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lue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23" idx="2"/>
            <a:endCxn id="412" idx="3"/>
          </p:cNvCxnSpPr>
          <p:nvPr/>
        </p:nvCxnSpPr>
        <p:spPr>
          <a:xfrm flipV="1" rot="10800000">
            <a:off x="2361600" y="4569480"/>
            <a:ext cx="381600" cy="192600"/>
          </a:xfrm>
          <a:prstGeom prst="bentConnector3">
            <a:avLst>
              <a:gd name="adj1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20" idx="3"/>
            <a:endCxn id="412" idx="0"/>
          </p:cNvCxnSpPr>
          <p:nvPr/>
        </p:nvCxnSpPr>
        <p:spPr>
          <a:xfrm rot="5400000">
            <a:off x="2018520" y="2904840"/>
            <a:ext cx="486360" cy="1477080"/>
          </a:xfrm>
          <a:prstGeom prst="bentConnector3">
            <a:avLst>
              <a:gd name="adj1" fmla="val 7644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762120" y="19051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0" name=""/>
          <p:cNvCxnSpPr>
            <a:stCxn id="429" idx="4"/>
            <a:endCxn id="418" idx="0"/>
          </p:cNvCxnSpPr>
          <p:nvPr/>
        </p:nvCxnSpPr>
        <p:spPr>
          <a:xfrm>
            <a:off x="1447560" y="327636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1" name=""/>
          <p:cNvSpPr/>
          <p:nvPr/>
        </p:nvSpPr>
        <p:spPr>
          <a:xfrm>
            <a:off x="457200" y="1828800"/>
            <a:ext cx="4267080" cy="4191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29920" y="54864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15320" y="548640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715000" y="175248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72200" y="18288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629400" y="19051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086600" y="2057400"/>
            <a:ext cx="343080" cy="343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543800" y="2133720"/>
            <a:ext cx="343080" cy="34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F3C3-EEFF-47F1-97B5-FA8804FD6800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785E5-40F9-448C-AA82-ECEF9C5C28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2057400"/>
            <a:ext cx="38862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505320" y="44956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438280" y="2743200"/>
            <a:ext cx="167652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5146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1373760" y="3898800"/>
            <a:ext cx="1094760" cy="1838880"/>
            <a:chOff x="1373760" y="3898800"/>
            <a:chExt cx="1094760" cy="1838880"/>
          </a:xfrm>
        </p:grpSpPr>
        <p:sp>
          <p:nvSpPr>
            <p:cNvPr id="444" name=""/>
            <p:cNvSpPr/>
            <p:nvPr/>
          </p:nvSpPr>
          <p:spPr>
            <a:xfrm rot="17683800">
              <a:off x="988560" y="4645080"/>
              <a:ext cx="1865160" cy="3463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148120" y="41716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19160" y="4514760"/>
              <a:ext cx="257040" cy="25812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47800" y="480096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600200" y="5122080"/>
              <a:ext cx="257040" cy="257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2134080" y="495288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62320" y="4267080"/>
            <a:ext cx="1110960" cy="111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38862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0762200">
            <a:off x="2286000" y="3657600"/>
            <a:ext cx="457200" cy="38088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57800" y="2133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with Observer II: Add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80060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3886200"/>
            <a:ext cx="111132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438280"/>
            <a:ext cx="1676520" cy="121932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10777800">
            <a:off x="6095160" y="350532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7913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0199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4290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181480" y="40384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6294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53080" y="449568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64220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600200" y="1676520"/>
            <a:ext cx="83808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467480" y="1828800"/>
            <a:ext cx="838440" cy="13716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66" idx="3"/>
          </p:cNvCxnSpPr>
          <p:nvPr/>
        </p:nvCxnSpPr>
        <p:spPr>
          <a:xfrm>
            <a:off x="2438280" y="2362320"/>
            <a:ext cx="457920" cy="381600"/>
          </a:xfrm>
          <a:prstGeom prst="curvedConnector5">
            <a:avLst>
              <a:gd name="adj1" fmla="val 49960"/>
              <a:gd name="adj2" fmla="val 49952"/>
              <a:gd name="adj3" fmla="val 49960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469" name=""/>
          <p:cNvCxnSpPr>
            <a:stCxn id="467" idx="1"/>
            <a:endCxn id="457" idx="0"/>
          </p:cNvCxnSpPr>
          <p:nvPr/>
        </p:nvCxnSpPr>
        <p:spPr>
          <a:xfrm rot="10800000">
            <a:off x="5562000" y="2438280"/>
            <a:ext cx="1905480" cy="76680"/>
          </a:xfrm>
          <a:prstGeom prst="curvedConnector5">
            <a:avLst>
              <a:gd name="adj1" fmla="val 27985"/>
              <a:gd name="adj2" fmla="val 200471"/>
              <a:gd name="adj3" fmla="val 27985"/>
            </a:avLst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470" name=""/>
          <p:cNvSpPr/>
          <p:nvPr/>
        </p:nvSpPr>
        <p:spPr>
          <a:xfrm>
            <a:off x="4800600" y="1600200"/>
            <a:ext cx="1219320" cy="533520"/>
          </a:xfrm>
          <a:prstGeom prst="flowChartDocumen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19810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H="1" rot="5400000">
            <a:off x="4174200" y="2378520"/>
            <a:ext cx="228600" cy="1109520"/>
          </a:xfrm>
          <a:prstGeom prst="downArrow">
            <a:avLst>
              <a:gd name="adj1" fmla="val 50000"/>
              <a:gd name="adj2" fmla="val 12133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819520" y="25909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478-D111-41F7-A061-F060A3828D0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034A09-046C-4C62-91F0-54A7DCC88E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800600" y="2057400"/>
            <a:ext cx="365760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62120" y="2057400"/>
            <a:ext cx="3809880" cy="38098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52880" y="2819520"/>
            <a:ext cx="1676520" cy="12189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he probes come i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819520" y="2743200"/>
            <a:ext cx="1676160" cy="12193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/>
          <p:nvPr/>
        </p:nvCxnSpPr>
        <p:spPr>
          <a:xfrm flipH="1" rot="16200000">
            <a:off x="2837520" y="2952360"/>
            <a:ext cx="362520" cy="1467720"/>
          </a:xfrm>
          <a:prstGeom prst="bentConnector3">
            <a:avLst>
              <a:gd name="adj1" fmla="val 163121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0" name="modelprobe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1791000" cy="1466640"/>
          </a:xfrm>
          <a:prstGeom prst="rect">
            <a:avLst/>
          </a:prstGeom>
          <a:ln w="0">
            <a:noFill/>
          </a:ln>
        </p:spPr>
      </p:pic>
      <p:cxnSp>
        <p:nvCxnSpPr>
          <p:cNvPr id="481" name=""/>
          <p:cNvCxnSpPr/>
          <p:nvPr/>
        </p:nvCxnSpPr>
        <p:spPr>
          <a:xfrm flipH="1" flipV="1" rot="5400000">
            <a:off x="6106680" y="3111840"/>
            <a:ext cx="743760" cy="1377000"/>
          </a:xfrm>
          <a:prstGeom prst="bentConnector3">
            <a:avLst>
              <a:gd name="adj1" fmla="val -30750"/>
            </a:avLst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2" name="observerprobe" descr=""/>
          <p:cNvPicPr/>
          <p:nvPr/>
        </p:nvPicPr>
        <p:blipFill>
          <a:blip r:embed="rId2"/>
          <a:stretch/>
        </p:blipFill>
        <p:spPr>
          <a:xfrm>
            <a:off x="6400800" y="2971800"/>
            <a:ext cx="2143080" cy="781200"/>
          </a:xfrm>
          <a:prstGeom prst="rect">
            <a:avLst/>
          </a:prstGeom>
          <a:ln w="0">
            <a:noFill/>
          </a:ln>
        </p:spPr>
      </p:pic>
      <p:cxnSp>
        <p:nvCxnSpPr>
          <p:cNvPr id="483" name=""/>
          <p:cNvCxnSpPr/>
          <p:nvPr/>
        </p:nvCxnSpPr>
        <p:spPr>
          <a:xfrm flipH="1" rot="16200000">
            <a:off x="6221160" y="3454920"/>
            <a:ext cx="910440" cy="2229480"/>
          </a:xfrm>
          <a:prstGeom prst="bentConnector2">
            <a:avLst/>
          </a:prstGeom>
          <a:ln w="76320">
            <a:solidFill>
              <a:srgbClr val="b2b2b2"/>
            </a:solidFill>
            <a:miter/>
          </a:ln>
        </p:spPr>
      </p:cxnSp>
      <p:pic>
        <p:nvPicPr>
          <p:cNvPr id="484" name="controlpanel" descr=""/>
          <p:cNvPicPr/>
          <p:nvPr/>
        </p:nvPicPr>
        <p:blipFill>
          <a:blip r:embed="rId3"/>
          <a:stretch/>
        </p:blipFill>
        <p:spPr>
          <a:xfrm>
            <a:off x="7315200" y="3809880"/>
            <a:ext cx="1123920" cy="197172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1143000" y="4419720"/>
            <a:ext cx="2895480" cy="838080"/>
          </a:xfrm>
          <a:prstGeom prst="wedgeRectCallout">
            <a:avLst>
              <a:gd name="adj1" fmla="val -34046"/>
              <a:gd name="adj2" fmla="val -161365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4 Variabl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828800"/>
            <a:ext cx="2895480" cy="838080"/>
          </a:xfrm>
          <a:prstGeom prst="wedgeRectCallout">
            <a:avLst>
              <a:gd name="adj1" fmla="val 46217"/>
              <a:gd name="adj2" fmla="val 113634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1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48320" y="4876920"/>
            <a:ext cx="2895480" cy="761760"/>
          </a:xfrm>
          <a:prstGeom prst="wedgeRectCallout">
            <a:avLst>
              <a:gd name="adj1" fmla="val 57402"/>
              <a:gd name="adj2" fmla="val -140000"/>
            </a:avLst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Panel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d by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FEE-762D-4D11-BA90-8480D1CD1277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D003AB-F1DC-4ACC-ABA1-2CE7AA8498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overview of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F8AB-A2EA-4CDC-9A2B-E7F37AB2A70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E5C98-B070-48E0-A02A-580F6B892E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graphic probe to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probeDisplayManager  to create actual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735360" y="45720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0" name=""/>
          <p:cNvCxnSpPr>
            <a:stCxn id="499" idx="0"/>
            <a:endCxn id="494" idx="2"/>
          </p:cNvCxnSpPr>
          <p:nvPr/>
        </p:nvCxnSpPr>
        <p:spPr>
          <a:xfrm flipH="1" flipV="1" rot="5400000">
            <a:off x="4349160" y="4196880"/>
            <a:ext cx="496080" cy="254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9" idx="2"/>
            <a:endCxn id="497" idx="4"/>
          </p:cNvCxnSpPr>
          <p:nvPr/>
        </p:nvCxnSpPr>
        <p:spPr>
          <a:xfrm flipH="1" flipV="1" rot="5400000">
            <a:off x="4996440" y="3815640"/>
            <a:ext cx="686520" cy="1740600"/>
          </a:xfrm>
          <a:prstGeom prst="curvedConnector5">
            <a:avLst>
              <a:gd name="adj1" fmla="val -33315"/>
              <a:gd name="adj2" fmla="val 50000"/>
              <a:gd name="adj3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509" idx="2"/>
            <a:endCxn id="501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3" name=""/>
          <p:cNvSpPr/>
          <p:nvPr/>
        </p:nvSpPr>
        <p:spPr>
          <a:xfrm>
            <a:off x="4345200" y="190512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09480" y="2057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480" y="2819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09480" y="4343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480" y="510552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3742-B909-44AB-86B4-2A682DBCAF3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F97F7-76D1-46E3-9A6D-9A455E8723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990360" y="1981080"/>
            <a:ext cx="739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EmptyProbeMap createBegin: self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 = 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"worldXSize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self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then call [probeDisplayManager createProbeDisplayFor: modelSwarm] in Observ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ModelSwarm’s prob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85800" y="19810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33526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85800" y="4724280"/>
            <a:ext cx="358920" cy="443160"/>
          </a:xfrm>
          <a:custGeom>
            <a:avLst/>
            <a:gdLst>
              <a:gd name="textAreaLeft" fmla="*/ 81720 w 358920"/>
              <a:gd name="textAreaRight" fmla="*/ 277200 w 358920"/>
              <a:gd name="textAreaTop" fmla="*/ 101160 h 443160"/>
              <a:gd name="textAreaBottom" fmla="*/ 342000 h 44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4E57-4B97-4B27-BABD-E72DD69AF8A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3D50D-BE0A-4B3D-A133-B22E922171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7238880" y="2057400"/>
            <a:ext cx="83844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752480" y="3124080"/>
            <a:ext cx="3657600" cy="29718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 frontier: Experiment Bu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867280" y="3886200"/>
            <a:ext cx="762120" cy="7621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62720" y="1676520"/>
            <a:ext cx="1218960" cy="533160"/>
          </a:xfrm>
          <a:prstGeom prst="flowChartDocument">
            <a:avLst/>
          </a:prstGeom>
          <a:solidFill>
            <a:srgbClr val="ff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410080" y="2382840"/>
            <a:ext cx="1752840" cy="1274760"/>
          </a:xfrm>
          <a:prstGeom prst="ellips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78360" y="4713120"/>
            <a:ext cx="720720" cy="722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286080" y="3576600"/>
            <a:ext cx="1087560" cy="790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386160" y="3429000"/>
            <a:ext cx="295200" cy="297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33760" y="3478320"/>
            <a:ext cx="139680" cy="1238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6320" y="4325760"/>
            <a:ext cx="710280" cy="1193040"/>
            <a:chOff x="2596320" y="4325760"/>
            <a:chExt cx="710280" cy="1193040"/>
          </a:xfrm>
        </p:grpSpPr>
        <p:sp>
          <p:nvSpPr>
            <p:cNvPr id="535" name=""/>
            <p:cNvSpPr/>
            <p:nvPr/>
          </p:nvSpPr>
          <p:spPr>
            <a:xfrm rot="17683800">
              <a:off x="2346120" y="4809960"/>
              <a:ext cx="1209960" cy="224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98520" y="4502880"/>
              <a:ext cx="16668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50200" y="4725720"/>
              <a:ext cx="167040" cy="1674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2838960" y="491112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43200" y="5119560"/>
              <a:ext cx="167040" cy="166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0" name=""/>
          <p:cNvSpPr/>
          <p:nvPr/>
        </p:nvSpPr>
        <p:spPr>
          <a:xfrm>
            <a:off x="3236760" y="4565520"/>
            <a:ext cx="720720" cy="72252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730680" y="4317840"/>
            <a:ext cx="149040" cy="374760"/>
          </a:xfrm>
          <a:prstGeom prst="downArrow">
            <a:avLst>
              <a:gd name="adj1" fmla="val 50000"/>
              <a:gd name="adj2" fmla="val 6286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762200">
            <a:off x="3187800" y="4169880"/>
            <a:ext cx="296640" cy="246240"/>
          </a:xfrm>
          <a:custGeom>
            <a:avLst/>
            <a:gdLst>
              <a:gd name="textAreaLeft" fmla="*/ 99000 w 296640"/>
              <a:gd name="textAreaRight" fmla="*/ 254160 w 29664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477120" y="228600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705720" y="2362320"/>
            <a:ext cx="215640" cy="190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334120" y="3733920"/>
            <a:ext cx="5331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315200" y="2819520"/>
            <a:ext cx="53352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72200" y="4343400"/>
            <a:ext cx="533520" cy="5335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rot="16200000">
            <a:off x="7107840" y="264528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352680" y="2119320"/>
            <a:ext cx="1905120" cy="138600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505320" y="1905120"/>
            <a:ext cx="4572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733920" y="1981080"/>
            <a:ext cx="215640" cy="19080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rot="10837800">
            <a:off x="4114440" y="4343040"/>
            <a:ext cx="297000" cy="246240"/>
          </a:xfrm>
          <a:custGeom>
            <a:avLst/>
            <a:gdLst>
              <a:gd name="textAreaLeft" fmla="*/ 98640 w 297000"/>
              <a:gd name="textAreaRight" fmla="*/ 254160 w 297000"/>
              <a:gd name="textAreaTop" fmla="*/ 141840 h 246240"/>
              <a:gd name="textAreaBottom" fmla="*/ 210960 h 246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72200" y="2057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 rot="5400000">
            <a:off x="5202360" y="287388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590920" y="1752480"/>
            <a:ext cx="838080" cy="9144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0684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248520" y="35053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H="1" rot="10777800">
            <a:off x="6780960" y="3429000"/>
            <a:ext cx="457200" cy="38088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240 h 380880"/>
              <a:gd name="textAreaBottom" fmla="*/ 3265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295280" y="2438280"/>
            <a:ext cx="1111320" cy="1143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514600"/>
            <a:ext cx="8380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1523880" y="2819520"/>
            <a:ext cx="685800" cy="304560"/>
          </a:xfrm>
          <a:custGeom>
            <a:avLst/>
            <a:gdLst/>
            <a:ahLst/>
            <a:rect l="l" t="t" r="r" b="b"/>
            <a:pathLst>
              <a:path w="384" h="248">
                <a:moveTo>
                  <a:pt x="0" y="152"/>
                </a:moveTo>
                <a:cubicBezTo>
                  <a:pt x="60" y="76"/>
                  <a:pt x="120" y="0"/>
                  <a:pt x="144" y="8"/>
                </a:cubicBezTo>
                <a:cubicBezTo>
                  <a:pt x="168" y="16"/>
                  <a:pt x="112" y="200"/>
                  <a:pt x="144" y="200"/>
                </a:cubicBezTo>
                <a:cubicBezTo>
                  <a:pt x="176" y="200"/>
                  <a:pt x="296" y="0"/>
                  <a:pt x="336" y="8"/>
                </a:cubicBezTo>
                <a:cubicBezTo>
                  <a:pt x="376" y="16"/>
                  <a:pt x="376" y="208"/>
                  <a:pt x="384" y="248"/>
                </a:cubicBezTo>
              </a:path>
            </a:pathLst>
          </a:custGeom>
          <a:noFill/>
          <a:ln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rot="5400000">
            <a:off x="2666160" y="2438280"/>
            <a:ext cx="304560" cy="1066680"/>
          </a:xfrm>
          <a:prstGeom prst="downArrow">
            <a:avLst>
              <a:gd name="adj1" fmla="val 50000"/>
              <a:gd name="adj2" fmla="val 875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715000" y="3276720"/>
            <a:ext cx="228600" cy="576000"/>
          </a:xfrm>
          <a:prstGeom prst="downArrow">
            <a:avLst>
              <a:gd name="adj1" fmla="val 50000"/>
              <a:gd name="adj2" fmla="val 6299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962520" y="3200400"/>
            <a:ext cx="228600" cy="576360"/>
          </a:xfrm>
          <a:prstGeom prst="downArrow">
            <a:avLst>
              <a:gd name="adj1" fmla="val 50000"/>
              <a:gd name="adj2" fmla="val 63031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B5D-073C-4531-A590-C10FB43D4D04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C6D50E-6226-47DE-9A89-FBD35BEC0D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/>
          <p:nvPr/>
        </p:nvSpPr>
        <p:spPr>
          <a:xfrm>
            <a:off x="2514600" y="4572000"/>
            <a:ext cx="5410080" cy="1371600"/>
          </a:xfrm>
          <a:prstGeom prst="ellipse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352680" y="2666880"/>
            <a:ext cx="5029200" cy="99072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evel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43200" y="2133720"/>
            <a:ext cx="4267080" cy="838080"/>
          </a:xfrm>
          <a:prstGeom prst="ellipse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0880" y="1752480"/>
            <a:ext cx="5486400" cy="6098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054600" y="243828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17080" y="2819520"/>
            <a:ext cx="444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experiment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/>
          <p:nvPr/>
        </p:nvCxnSpPr>
        <p:spPr>
          <a:xfrm>
            <a:off x="4952520" y="2209320"/>
            <a:ext cx="381960" cy="3819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3" name=""/>
          <p:cNvSpPr/>
          <p:nvPr/>
        </p:nvSpPr>
        <p:spPr>
          <a:xfrm>
            <a:off x="380880" y="1828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 main.m: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33520" y="3962520"/>
            <a:ext cx="4190760" cy="99036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38080" y="3505320"/>
            <a:ext cx="4496040" cy="6858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7200" y="3657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7" name=""/>
          <p:cNvCxnSpPr/>
          <p:nvPr/>
        </p:nvCxnSpPr>
        <p:spPr>
          <a:xfrm rot="5400000">
            <a:off x="3428280" y="3352680"/>
            <a:ext cx="381960" cy="381600"/>
          </a:xfrm>
          <a:prstGeom prst="curvedConnector5">
            <a:avLst>
              <a:gd name="adj1" fmla="val 50000"/>
              <a:gd name="adj2" fmla="val 49952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/>
          <p:nvPr/>
        </p:nvCxnSpPr>
        <p:spPr>
          <a:xfrm>
            <a:off x="5257440" y="2666520"/>
            <a:ext cx="305640" cy="22932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9" name=""/>
          <p:cNvCxnSpPr/>
          <p:nvPr/>
        </p:nvCxnSpPr>
        <p:spPr>
          <a:xfrm rot="5400000">
            <a:off x="3340440" y="3821760"/>
            <a:ext cx="273240" cy="55476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0" name=""/>
          <p:cNvSpPr/>
          <p:nvPr/>
        </p:nvSpPr>
        <p:spPr>
          <a:xfrm>
            <a:off x="2971800" y="5181480"/>
            <a:ext cx="3886200" cy="60984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3276720" y="4691160"/>
            <a:ext cx="4495680" cy="685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587760" y="4800600"/>
            <a:ext cx="38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-activateIn: (id) swarmCon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82480" y="5334120"/>
            <a:ext cx="34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/>
          <p:nvPr/>
        </p:nvCxnSpPr>
        <p:spPr>
          <a:xfrm>
            <a:off x="4572000" y="4495320"/>
            <a:ext cx="397440" cy="305640"/>
          </a:xfrm>
          <a:prstGeom prst="curvedConnector5">
            <a:avLst>
              <a:gd name="adj1" fmla="val 49954"/>
              <a:gd name="adj2" fmla="val 50000"/>
              <a:gd name="adj3" fmla="val 49954"/>
            </a:avLst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5" name=""/>
          <p:cNvCxnSpPr/>
          <p:nvPr/>
        </p:nvCxnSpPr>
        <p:spPr>
          <a:xfrm>
            <a:off x="5715000" y="5105520"/>
            <a:ext cx="381600" cy="38160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6" name=""/>
          <p:cNvSpPr/>
          <p:nvPr/>
        </p:nvSpPr>
        <p:spPr>
          <a:xfrm>
            <a:off x="844560" y="4191120"/>
            <a:ext cx="383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schedule activateIn: sel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143720" y="26668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29920" y="3886200"/>
            <a:ext cx="177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19680" y="52578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69E-3CD3-4F33-88C0-AC70063BF139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022554-9AC5-4B30-8DFA-36AF173113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619440"/>
            <a:ext cx="1830240" cy="1487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316320" y="4002120"/>
            <a:ext cx="557280" cy="5713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820960" y="3249720"/>
            <a:ext cx="878040" cy="6364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104920" y="4414680"/>
            <a:ext cx="360360" cy="362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757520" y="3846600"/>
            <a:ext cx="544320" cy="39528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1808280" y="3772080"/>
            <a:ext cx="147600" cy="1490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882800" y="3797280"/>
            <a:ext cx="69840" cy="6192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412640" y="4222440"/>
            <a:ext cx="355320" cy="596520"/>
            <a:chOff x="1412640" y="4222440"/>
            <a:chExt cx="355320" cy="596520"/>
          </a:xfrm>
        </p:grpSpPr>
        <p:sp>
          <p:nvSpPr>
            <p:cNvPr id="599" name=""/>
            <p:cNvSpPr/>
            <p:nvPr/>
          </p:nvSpPr>
          <p:spPr>
            <a:xfrm rot="17683800">
              <a:off x="1287720" y="4464360"/>
              <a:ext cx="604800" cy="1126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664280" y="431064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589760" y="4421880"/>
              <a:ext cx="83520" cy="8352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533960" y="451476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486080" y="4618800"/>
              <a:ext cx="83520" cy="8316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1733400" y="4341960"/>
            <a:ext cx="360360" cy="360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981080" y="4218120"/>
            <a:ext cx="74880" cy="187200"/>
          </a:xfrm>
          <a:prstGeom prst="downArrow">
            <a:avLst>
              <a:gd name="adj1" fmla="val 50000"/>
              <a:gd name="adj2" fmla="val 625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rot="10762200">
            <a:off x="1708200" y="4143240"/>
            <a:ext cx="149040" cy="123840"/>
          </a:xfrm>
          <a:custGeom>
            <a:avLst/>
            <a:gdLst>
              <a:gd name="textAreaLeft" fmla="*/ 49680 w 149040"/>
              <a:gd name="textAreaRight" fmla="*/ 127800 w 149040"/>
              <a:gd name="textAreaTop" fmla="*/ 71280 h 123840"/>
              <a:gd name="textAreaBottom" fmla="*/ 106200 h 1238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H="1" rot="10777800">
            <a:off x="3506040" y="3809520"/>
            <a:ext cx="230040" cy="192240"/>
          </a:xfrm>
          <a:custGeom>
            <a:avLst/>
            <a:gdLst>
              <a:gd name="textAreaLeft" fmla="*/ 76680 w 230040"/>
              <a:gd name="textAreaRight" fmla="*/ 197280 w 230040"/>
              <a:gd name="textAreaTop" fmla="*/ 110880 h 192240"/>
              <a:gd name="textAreaBottom" fmla="*/ 164880 h 192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354480" y="3200400"/>
            <a:ext cx="22860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468600" y="323856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125880" y="377208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049560" y="40784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774960" y="3467160"/>
            <a:ext cx="266760" cy="26676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736800" y="4307040"/>
            <a:ext cx="266760" cy="2664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rot="16200000">
            <a:off x="3670200" y="3379320"/>
            <a:ext cx="114120" cy="288720"/>
          </a:xfrm>
          <a:prstGeom prst="downArrow">
            <a:avLst>
              <a:gd name="adj1" fmla="val 50000"/>
              <a:gd name="adj2" fmla="val 63249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790640" y="3117960"/>
            <a:ext cx="954000" cy="691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866960" y="3009960"/>
            <a:ext cx="230040" cy="22860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982880" y="3048120"/>
            <a:ext cx="108000" cy="950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solidFill>
            <a:srgbClr val="dddddd"/>
          </a:solidFill>
          <a:ln cap="rnd" w="5724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flipH="1" rot="10837800">
            <a:off x="2172960" y="4230360"/>
            <a:ext cx="147600" cy="122040"/>
          </a:xfrm>
          <a:custGeom>
            <a:avLst/>
            <a:gdLst>
              <a:gd name="textAreaLeft" fmla="*/ 49680 w 147600"/>
              <a:gd name="textAreaRight" fmla="*/ 127080 w 147600"/>
              <a:gd name="textAreaTop" fmla="*/ 70200 h 122040"/>
              <a:gd name="textAreaBottom" fmla="*/ 104760 h 1220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240" bIns="-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rot="10822200">
            <a:off x="1561320" y="3466440"/>
            <a:ext cx="228600" cy="190440"/>
          </a:xfrm>
          <a:custGeom>
            <a:avLst/>
            <a:gdLst>
              <a:gd name="textAreaLeft" fmla="*/ 76320 w 228600"/>
              <a:gd name="textAreaRight" fmla="*/ 195840 w 228600"/>
              <a:gd name="textAreaTop" fmla="*/ 109800 h 190440"/>
              <a:gd name="textAreaBottom" fmla="*/ 163080 h 190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01840" y="308628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 rot="5400000">
            <a:off x="2717640" y="3494160"/>
            <a:ext cx="114480" cy="288720"/>
          </a:xfrm>
          <a:prstGeom prst="downArrow">
            <a:avLst>
              <a:gd name="adj1" fmla="val 50000"/>
              <a:gd name="adj2" fmla="val 6305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118040" y="3238560"/>
            <a:ext cx="419040" cy="685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257480" y="2895480"/>
            <a:ext cx="419040" cy="457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800600" y="3809880"/>
            <a:ext cx="1773360" cy="1104840"/>
            <a:chOff x="4800600" y="3809880"/>
            <a:chExt cx="1773360" cy="1104840"/>
          </a:xfrm>
        </p:grpSpPr>
        <p:sp>
          <p:nvSpPr>
            <p:cNvPr id="625" name=""/>
            <p:cNvSpPr/>
            <p:nvPr/>
          </p:nvSpPr>
          <p:spPr>
            <a:xfrm>
              <a:off x="480060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6376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5388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1572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35752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8436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0920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4628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3" name=""/>
            <p:cNvGrpSpPr/>
            <p:nvPr/>
          </p:nvGrpSpPr>
          <p:grpSpPr>
            <a:xfrm>
              <a:off x="5011200" y="4472640"/>
              <a:ext cx="177480" cy="298080"/>
              <a:chOff x="5011200" y="4472640"/>
              <a:chExt cx="177480" cy="298080"/>
            </a:xfrm>
          </p:grpSpPr>
          <p:sp>
            <p:nvSpPr>
              <p:cNvPr id="634" name=""/>
              <p:cNvSpPr/>
              <p:nvPr/>
            </p:nvSpPr>
            <p:spPr>
              <a:xfrm rot="17683800">
                <a:off x="494856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13720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10012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07204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828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9" name=""/>
            <p:cNvSpPr/>
            <p:nvPr/>
          </p:nvSpPr>
          <p:spPr>
            <a:xfrm>
              <a:off x="517176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9560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10762200">
              <a:off x="515952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rot="10777800">
              <a:off x="605772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98284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04008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6836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3020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19272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17364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614088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092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23908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29632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 rot="10837800">
              <a:off x="539172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0822200">
              <a:off x="508572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90652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 rot="5400000">
              <a:off x="566424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36444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93380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6781680" y="3809880"/>
            <a:ext cx="1773360" cy="1104840"/>
            <a:chOff x="6781680" y="3809880"/>
            <a:chExt cx="1773360" cy="1104840"/>
          </a:xfrm>
        </p:grpSpPr>
        <p:sp>
          <p:nvSpPr>
            <p:cNvPr id="660" name=""/>
            <p:cNvSpPr/>
            <p:nvPr/>
          </p:nvSpPr>
          <p:spPr>
            <a:xfrm>
              <a:off x="6781680" y="4171680"/>
              <a:ext cx="915120" cy="7430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944840" y="4362480"/>
              <a:ext cx="277920" cy="285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34960" y="3809880"/>
              <a:ext cx="304920" cy="133200"/>
            </a:xfrm>
            <a:prstGeom prst="flowChartDocumen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6800" y="3986280"/>
              <a:ext cx="438480" cy="3186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338600" y="456912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165440" y="4285080"/>
              <a:ext cx="272160" cy="19764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190280" y="4248000"/>
              <a:ext cx="73800" cy="7416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227360" y="4260240"/>
              <a:ext cx="34920" cy="3096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6992280" y="4472640"/>
              <a:ext cx="177480" cy="298080"/>
              <a:chOff x="6992280" y="4472640"/>
              <a:chExt cx="177480" cy="298080"/>
            </a:xfrm>
          </p:grpSpPr>
          <p:sp>
            <p:nvSpPr>
              <p:cNvPr id="669" name=""/>
              <p:cNvSpPr/>
              <p:nvPr/>
            </p:nvSpPr>
            <p:spPr>
              <a:xfrm rot="17683800">
                <a:off x="6929640" y="4593600"/>
                <a:ext cx="302400" cy="5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7118280" y="45165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081200" y="457236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053120" y="4618800"/>
                <a:ext cx="41760" cy="4140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029360" y="4671000"/>
                <a:ext cx="41760" cy="4176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4" name=""/>
            <p:cNvSpPr/>
            <p:nvPr/>
          </p:nvSpPr>
          <p:spPr>
            <a:xfrm>
              <a:off x="7152840" y="4532400"/>
              <a:ext cx="180360" cy="18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76680" y="4470480"/>
              <a:ext cx="37080" cy="93600"/>
            </a:xfrm>
            <a:prstGeom prst="downArrow">
              <a:avLst>
                <a:gd name="adj1" fmla="val 50000"/>
                <a:gd name="adj2" fmla="val 6310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0762200">
              <a:off x="7140600" y="443304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10777800">
              <a:off x="8038800" y="4267080"/>
              <a:ext cx="114120" cy="95040"/>
            </a:xfrm>
            <a:custGeom>
              <a:avLst/>
              <a:gdLst>
                <a:gd name="textAreaLeft" fmla="*/ 37800 w 114120"/>
                <a:gd name="textAreaRight" fmla="*/ 9756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963920" y="39621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21160" y="39812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49440" y="42480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811280" y="440064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173800" y="409572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154720" y="4514760"/>
              <a:ext cx="133200" cy="13320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16200000">
              <a:off x="8121960" y="405216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182000" y="3920400"/>
              <a:ext cx="476640" cy="346680"/>
            </a:xfrm>
            <a:prstGeom prst="ellips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220160" y="3866760"/>
              <a:ext cx="114120" cy="114120"/>
            </a:xfrm>
            <a:prstGeom prst="ellipse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277400" y="3885840"/>
              <a:ext cx="53640" cy="4752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solidFill>
              <a:srgbClr val="dddddd"/>
            </a:solidFill>
            <a:ln cap="rnd" w="5724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 rot="10837800">
              <a:off x="7372800" y="4476600"/>
              <a:ext cx="74160" cy="61560"/>
            </a:xfrm>
            <a:custGeom>
              <a:avLst/>
              <a:gdLst>
                <a:gd name="textAreaLeft" fmla="*/ 24840 w 74160"/>
                <a:gd name="textAreaRight" fmla="*/ 63720 w 74160"/>
                <a:gd name="textAreaTop" fmla="*/ 35640 h 61560"/>
                <a:gd name="textAreaBottom" fmla="*/ 52920 h 61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0822200">
              <a:off x="7066800" y="4095360"/>
              <a:ext cx="114120" cy="95040"/>
            </a:xfrm>
            <a:custGeom>
              <a:avLst/>
              <a:gdLst>
                <a:gd name="textAreaLeft" fmla="*/ 38160 w 114120"/>
                <a:gd name="textAreaRight" fmla="*/ 97920 w 114120"/>
                <a:gd name="textAreaTop" fmla="*/ 54720 h 95040"/>
                <a:gd name="textAreaBottom" fmla="*/ 813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87600" y="390492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H="1" rot="5400000">
              <a:off x="7645320" y="4109400"/>
              <a:ext cx="56880" cy="144000"/>
            </a:xfrm>
            <a:prstGeom prst="downArrow">
              <a:avLst>
                <a:gd name="adj1" fmla="val 50000"/>
                <a:gd name="adj2" fmla="val 63291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45520" y="3981240"/>
              <a:ext cx="209520" cy="3430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14880" y="3809880"/>
              <a:ext cx="209520" cy="2286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 to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181480" y="2895480"/>
            <a:ext cx="3048120" cy="60984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r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 flipH="1">
            <a:off x="58672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6781680" y="3505320"/>
            <a:ext cx="914400" cy="380880"/>
          </a:xfrm>
          <a:prstGeom prst="line">
            <a:avLst/>
          </a:prstGeom>
          <a:ln w="5724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E424-BFDF-4A76-88C1-0C3D02E71DDF}" type="slidenum">
              <a:t>4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A4681-72F6-43A2-88E4-FE7F3CD66A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ing header file gives us access to random number obj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C program must have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mai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, which can take 2 ar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c : #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v: value of command line ar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Swarm() function checks command line args and revs up Swarm eng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rogram uses default random number distributions to choose new location for 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4290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05740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7339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C - explan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FF87-7C6C-4341-AC4C-72B04532B2F4}" type="slidenum">
              <a:t>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29E5B-45AE-4F4D-8848-13723CCFC0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approaches: Pros and c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warm to control experiment 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processing is done within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GUI intera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- can’t parallelize in present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external program to execute Swa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do “poor mans” paralellization on multiprocessor mach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knowledge of tools outside Swarm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63DB-B4A2-48DF-9665-82F03263DF89}" type="slidenum">
              <a:t>5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41D8A-DA8C-4114-88B3-D261E8D149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implest version of an Objective-C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main( )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class, one instance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( ) imports base library of Swarm and fires up initSwarm( ) which gives us libraries for memory allocation et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2743200"/>
            <a:ext cx="3657600" cy="3429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267080"/>
            <a:ext cx="32767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792760" y="327672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Pos,yP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XSiz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orldY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560" y="4495680"/>
            <a:ext cx="2923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etWorldSizeX: 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2590920"/>
            <a:ext cx="119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39200" y="556272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/>
          <p:nvPr/>
        </p:nvCxnSpPr>
        <p:spPr>
          <a:xfrm flipH="1" flipV="1" rot="5400000">
            <a:off x="7162560" y="2666520"/>
            <a:ext cx="305640" cy="9151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lg" type="triangle" w="lg"/>
          </a:ln>
        </p:spPr>
      </p:cxnSp>
      <p:cxnSp>
        <p:nvCxnSpPr>
          <p:cNvPr id="73" name=""/>
          <p:cNvCxnSpPr/>
          <p:nvPr/>
        </p:nvCxnSpPr>
        <p:spPr>
          <a:xfrm flipH="1" flipV="1" rot="5400000">
            <a:off x="4639680" y="5036760"/>
            <a:ext cx="457920" cy="594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4" name=""/>
          <p:cNvSpPr/>
          <p:nvPr/>
        </p:nvSpPr>
        <p:spPr>
          <a:xfrm>
            <a:off x="5943600" y="1981080"/>
            <a:ext cx="133020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56240" y="271620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F5DC-0634-4C36-806D-6DC30D6AEAB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7E1039-409C-4CAC-A57C-36814F7D0B8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: The bug as ob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heriting from the ObjectBase class Bug knows these tric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: Allocat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p: Deallocate and d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6252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struct class to create instance of itself. Associate instance with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Bug=[Bug create:global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set parameters in the instance, aBu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X: xPos Y: yPos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aBug setWorldXSize: worldXSize Y: worldY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942F-821D-4E7B-B522-EBF67ED76D7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F7F17E-54F3-44C6-B4A5-69E94CDE7E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1280" y="2057400"/>
            <a:ext cx="4953240" cy="4572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Bug createBegin: globalZon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666880"/>
            <a:ext cx="4953240" cy="14479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4191120"/>
            <a:ext cx="4953240" cy="1295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ug = [aBug createEnd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create 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580920" y="2666520"/>
            <a:ext cx="49532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WorldSizeX: xsize Y: ysiz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FoodSpace: foodSpa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aBug setX: xPos Y: yPos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057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cate memory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25909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all necessary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4191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ish initi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return pr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of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DA74-1165-4DCE-86CC-D93869F23D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7E14B-AEEA-45E0-9D61-1893D4671B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g in ObjC II: The Food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e create a world for the bug to roam around in and e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world is defined in FoodSpace, a subclass of Discrete2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manages a lattice of integer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4952880"/>
            <a:ext cx="4057560" cy="1146240"/>
          </a:xfrm>
          <a:prstGeom prst="wedgeRectCallout">
            <a:avLst>
              <a:gd name="adj1" fmla="val -1291"/>
              <a:gd name="adj2" fmla="val -16205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passing the Bug a poin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oodSpace it can “talk”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.e. forage in) the other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867280" y="1981080"/>
            <a:ext cx="1330560" cy="866880"/>
          </a:xfrm>
          <a:prstGeom prst="flowChartDocumen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2666880"/>
            <a:ext cx="160020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2971800"/>
            <a:ext cx="1676520" cy="1619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od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6095520" y="3504960"/>
            <a:ext cx="686520" cy="105480"/>
          </a:xfrm>
          <a:prstGeom prst="straightConnector1">
            <a:avLst/>
          </a:prstGeom>
          <a:ln w="38160">
            <a:solidFill>
              <a:srgbClr val="b2b2b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 rot="10762200">
            <a:off x="5486400" y="2437920"/>
            <a:ext cx="457200" cy="381240"/>
          </a:xfrm>
          <a:custGeom>
            <a:avLst/>
            <a:gdLst>
              <a:gd name="textAreaLeft" fmla="*/ 152280 w 457200"/>
              <a:gd name="textAreaRight" fmla="*/ 39168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rot="10777800">
            <a:off x="7162200" y="2666520"/>
            <a:ext cx="457200" cy="381240"/>
          </a:xfrm>
          <a:custGeom>
            <a:avLst/>
            <a:gdLst>
              <a:gd name="textAreaLeft" fmla="*/ 152640 w 457200"/>
              <a:gd name="textAreaRight" fmla="*/ 392040 w 45720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DE4-556F-40E0-A4B4-9E297AF2BC5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D08DBE-89D9-4384-BFB1-D6A6FB18F1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04:23:39Z</dcterms:created>
  <dc:creator>Benedikt Stefansson</dc:creator>
  <dc:description/>
  <dc:language>en-US</dc:language>
  <cp:lastModifiedBy>Office</cp:lastModifiedBy>
  <cp:lastPrinted>1998-03-18T02:24:41Z</cp:lastPrinted>
  <dcterms:modified xsi:type="dcterms:W3CDTF">1999-04-02T03:46:11Z</dcterms:modified>
  <cp:revision>41</cp:revision>
  <dc:subject/>
  <dc:title>Swarmfest ‘98 Tutori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swarmfest99\tutorial99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