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5EB8-E6EA-4AD3-AF46-0BD12812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4E9-1345-4570-9BD5-AE5EAFA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0769-1957-488A-AFCF-19E9B8056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53E-BC5F-4688-AE12-9779C5D1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645-9C49-4D78-A03D-5DA8C876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9E57-7762-4D31-B4F8-B29862A3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A10D-A7E0-4613-8A1F-FDEC1E803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36B-8090-46ED-9EC5-7BE4BFAB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D43E-8336-4723-8B97-E86DE617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45A3-F85D-4D97-8897-215E6057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986-DBB2-45A5-A557-A1D05BF1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9E7A-3DCC-47C3-9257-B153870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1244-31D8-467B-A4E3-A7A5FF5FF50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BD8B-2591-4925-B80F-1D3B5EE56D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II: The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kedList: Example of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1280" y="1676520"/>
            <a:ext cx="2362320" cy="2438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ked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209680" y="3048120"/>
            <a:ext cx="495324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4520" y="48769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4520" y="403848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4000680"/>
            <a:ext cx="228600" cy="22860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952880"/>
            <a:ext cx="91440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8680" y="3962520"/>
            <a:ext cx="914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9B6-394A-48C2-B226-61D36F729C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1A6C4-5D32-4194-9794-8E8BD51006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0958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ctivity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s a set of actions which should be invoked at the “same tim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actions or action 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s sche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s one level of model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666880"/>
            <a:ext cx="1123920" cy="725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5334120"/>
            <a:ext cx="1123920" cy="776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58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35053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24280" y="4419720"/>
            <a:ext cx="1123920" cy="725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44197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7480" y="5361120"/>
            <a:ext cx="1123920" cy="749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00800" y="1828800"/>
            <a:ext cx="1123920" cy="77940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40" idx="1"/>
            <a:endCxn id="133" idx="0"/>
          </p:cNvCxnSpPr>
          <p:nvPr/>
        </p:nvCxnSpPr>
        <p:spPr>
          <a:xfrm flipV="1" rot="10800000">
            <a:off x="5971320" y="2218320"/>
            <a:ext cx="429480" cy="448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40" idx="3"/>
            <a:endCxn id="138" idx="0"/>
          </p:cNvCxnSpPr>
          <p:nvPr/>
        </p:nvCxnSpPr>
        <p:spPr>
          <a:xfrm>
            <a:off x="7524720" y="2219400"/>
            <a:ext cx="505440" cy="2201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3" idx="1"/>
            <a:endCxn id="136" idx="0"/>
          </p:cNvCxnSpPr>
          <p:nvPr/>
        </p:nvCxnSpPr>
        <p:spPr>
          <a:xfrm flipV="1" rot="10800000">
            <a:off x="5285520" y="302940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3" idx="3"/>
            <a:endCxn id="130" idx="0"/>
          </p:cNvCxnSpPr>
          <p:nvPr/>
        </p:nvCxnSpPr>
        <p:spPr>
          <a:xfrm>
            <a:off x="6534000" y="3030120"/>
            <a:ext cx="124560" cy="47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6" idx="2"/>
            <a:endCxn id="137" idx="0"/>
          </p:cNvCxnSpPr>
          <p:nvPr/>
        </p:nvCxnSpPr>
        <p:spPr>
          <a:xfrm>
            <a:off x="52858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0" idx="2"/>
            <a:endCxn id="135" idx="0"/>
          </p:cNvCxnSpPr>
          <p:nvPr/>
        </p:nvCxnSpPr>
        <p:spPr>
          <a:xfrm>
            <a:off x="6657480" y="42303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7" idx="2"/>
            <a:endCxn id="134" idx="0"/>
          </p:cNvCxnSpPr>
          <p:nvPr/>
        </p:nvCxnSpPr>
        <p:spPr>
          <a:xfrm>
            <a:off x="5285880" y="5144760"/>
            <a:ext cx="1080" cy="18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8" idx="2"/>
            <a:endCxn id="139" idx="0"/>
          </p:cNvCxnSpPr>
          <p:nvPr/>
        </p:nvCxnSpPr>
        <p:spPr>
          <a:xfrm>
            <a:off x="8029080" y="5168880"/>
            <a:ext cx="1080" cy="1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E73-CB59-4DFF-867E-17F51E8DD71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6A2EA-EFBE-4434-8BFB-D67770D85D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932280" y="2971800"/>
            <a:ext cx="5057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Begin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on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setRepeatInterval: n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chedule=[schedule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schedule    at: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ActionTo: bu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essage: M(eat)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981080"/>
            <a:ext cx="33526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 define event in terms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at inter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within schedule of first invo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name or action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to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86280" y="2239920"/>
            <a:ext cx="33703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27640" y="2133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209000" y="212724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9440" y="15652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77880" y="1477800"/>
            <a:ext cx="48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76160" y="1606680"/>
            <a:ext cx="5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+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8120" y="221940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97520" y="2211480"/>
            <a:ext cx="127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bug ea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35480" y="3938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934320" y="41911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4419720"/>
            <a:ext cx="369720" cy="442800"/>
          </a:xfrm>
          <a:custGeom>
            <a:avLst/>
            <a:gdLst>
              <a:gd name="textAreaLeft" fmla="*/ 84240 w 369720"/>
              <a:gd name="textAreaRight" fmla="*/ 285480 w 36972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96080" y="48006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71560" y="333864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1560" y="28908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5334120"/>
            <a:ext cx="298440" cy="425160"/>
          </a:xfrm>
          <a:custGeom>
            <a:avLst/>
            <a:gdLst>
              <a:gd name="textAreaLeft" fmla="*/ 68040 w 298440"/>
              <a:gd name="textAreaRight" fmla="*/ 230400 w 298440"/>
              <a:gd name="textAreaTop" fmla="*/ 96840 h 425160"/>
              <a:gd name="textAreaBottom" fmla="*/ 328320 h 425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4572000"/>
            <a:ext cx="298440" cy="425520"/>
          </a:xfrm>
          <a:custGeom>
            <a:avLst/>
            <a:gdLst>
              <a:gd name="textAreaLeft" fmla="*/ 68040 w 298440"/>
              <a:gd name="textAreaRight" fmla="*/ 230400 w 298440"/>
              <a:gd name="textAreaTop" fmla="*/ 97200 h 425520"/>
              <a:gd name="textAreaBottom" fmla="*/ 328320 h 425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1880" y="3200400"/>
            <a:ext cx="370080" cy="442800"/>
          </a:xfrm>
          <a:custGeom>
            <a:avLst/>
            <a:gdLst>
              <a:gd name="textAreaLeft" fmla="*/ 84240 w 370080"/>
              <a:gd name="textAreaRight" fmla="*/ 285840 w 370080"/>
              <a:gd name="textAreaTop" fmla="*/ 101160 h 442800"/>
              <a:gd name="textAreaBottom" fmla="*/ 341640 h 442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4AE-5BC2-48DC-94D0-D332BEA38CFE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F83A6D-53E5-4794-986B-C1B5CB9E9E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aning of time in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es in schedule can 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activ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ive to ba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setRelativeTime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ll schedules are activated at beginning doesn’t matter mu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239920"/>
            <a:ext cx="400392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93704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21258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7220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79752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46748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93160" y="212724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38680" y="2590920"/>
            <a:ext cx="198144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4688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4764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78168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407360" y="247824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48520" y="3733920"/>
            <a:ext cx="2361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407360" y="36194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4952880"/>
            <a:ext cx="373392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8168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39152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01000" y="483876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42920" y="2743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1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events, after which it s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642920" y="388620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2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event and repeat interval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18880" y="5105520"/>
            <a:ext cx="388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 activated at t=0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at t=1 and repeat intvl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438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81280"/>
            <a:ext cx="411480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724280"/>
            <a:ext cx="41148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63FE-5ADB-4386-9F52-F464CB1692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7F7C0-5B89-4FEE-B7AF-FC6C97EE88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70800" y="502920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1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" y="2286000"/>
            <a:ext cx="8158320" cy="14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1 message:M(message1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4 createActionTo: obj4 message:M(message4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0800" y="3733920"/>
            <a:ext cx="7373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ctivate at t=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setRepeatInterval: 2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chedule at: 0 createActionTo: obj message: M(message)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2038320"/>
            <a:ext cx="5486400" cy="0"/>
          </a:xfrm>
          <a:prstGeom prst="line">
            <a:avLst/>
          </a:prstGeom>
          <a:ln w="50760">
            <a:solidFill>
              <a:srgbClr val="b2b2b2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33684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19732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929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57800" y="2514600"/>
            <a:ext cx="1981080" cy="0"/>
          </a:xfrm>
          <a:prstGeom prst="line">
            <a:avLst/>
          </a:prstGeom>
          <a:ln w="50760">
            <a:solidFill>
              <a:srgbClr val="3333cc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6564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240048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0080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026120" y="2401920"/>
            <a:ext cx="228600" cy="2286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48320" y="4002120"/>
            <a:ext cx="411480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80716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5257800"/>
            <a:ext cx="2971800" cy="0"/>
          </a:xfrm>
          <a:prstGeom prst="line">
            <a:avLst/>
          </a:prstGeom>
          <a:ln w="50760">
            <a:solidFill>
              <a:srgbClr val="00cc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8148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9132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00800" y="5143680"/>
            <a:ext cx="228600" cy="228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2286000"/>
            <a:ext cx="838224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lementing these 3 sched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380988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0880" y="5029200"/>
            <a:ext cx="83822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7076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608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229600" y="1924200"/>
            <a:ext cx="228600" cy="22860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2440" y="388764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305920" y="3886200"/>
            <a:ext cx="228600" cy="2286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02F-8DDD-4818-B808-A673EA20AF4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3F9C5-4BA6-42F1-84F1-30C8D7D92D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2514600"/>
            <a:ext cx="84582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setRepeatInterval: 3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peatSchedule=[repeatSchedul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repeatSchedule at: 0 createActionTo: firm message:M(do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ainSchedule=[Schedul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t:20 createActionTo: repeatSchedu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essage: M(activateIn:):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ainSchedule activateIn: aSwarm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640" y="5659560"/>
            <a:ext cx="76201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40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8288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29492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6552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0988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4660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9132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727680" y="555300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2400" y="556272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076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394040" y="5715000"/>
            <a:ext cx="12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firm d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90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161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6305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972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1160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82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268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59720" y="512604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16480" y="1641600"/>
            <a:ext cx="74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pose: A schedule which executes the “do” method on 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called “firm” every 3 periods, starting at t=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51B0-EDE4-44CC-81A3-D65C07A58E6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0435F-AD98-4FBC-816C-B328CFB1E9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onGrou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Groups group together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age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coll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ich should happen at same time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743200"/>
            <a:ext cx="8512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ctionGroup=[ActionGroup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To: </a:t>
            </a: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agent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you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1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ctionGroup createActionForEach: 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group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message: M(</a:t>
            </a:r>
            <a:r>
              <a:rPr b="0" lang="en-US" sz="1800" spc="-1" strike="noStrike">
                <a:solidFill>
                  <a:srgbClr val="ff3300"/>
                </a:solidFill>
                <a:latin typeface="Courier New"/>
              </a:rPr>
              <a:t>allD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chedule at: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createAction: actionGrou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48640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952880" y="4952880"/>
            <a:ext cx="9907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3276720"/>
            <a:ext cx="9907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267080" y="3809880"/>
            <a:ext cx="9907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477120" y="3276720"/>
            <a:ext cx="12952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3809880"/>
            <a:ext cx="12952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49528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419720"/>
            <a:ext cx="12952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952880" y="4419720"/>
            <a:ext cx="9907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9C2-F035-41A7-A9A1-3374F04181F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3DAFEF-9190-4DD3-A06D-BC7A5C4234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ynamic Schedu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4560" y="4191120"/>
            <a:ext cx="3693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growthSchedule at: time+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ActionTo: food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: M(putValue:atX:Y:):1:x: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use dynamic scheduling to  schedule regrowth of food at future timestep after food is eaten by Simplebu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772400" y="3048120"/>
            <a:ext cx="888840" cy="8539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848720" y="1981080"/>
            <a:ext cx="723960" cy="723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238880" y="4267080"/>
            <a:ext cx="160020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5257800"/>
            <a:ext cx="812520" cy="814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334120"/>
            <a:ext cx="357120" cy="23976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7162920" y="5638680"/>
            <a:ext cx="395280" cy="1800"/>
          </a:xfrm>
          <a:prstGeom prst="line">
            <a:avLst/>
          </a:prstGeom>
          <a:noFill/>
          <a:ln w="604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2209680"/>
            <a:ext cx="320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foodSpace eatX: xPos Y: yPos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1240" y="3124080"/>
            <a:ext cx="367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self putValue: 0 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[model scheduleGrowthAtX: x Y: 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70" idx="4"/>
            <a:endCxn id="269" idx="0"/>
          </p:cNvCxnSpPr>
          <p:nvPr/>
        </p:nvCxnSpPr>
        <p:spPr>
          <a:xfrm>
            <a:off x="8210520" y="2704680"/>
            <a:ext cx="7200" cy="34380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8" name=""/>
          <p:cNvCxnSpPr>
            <a:stCxn id="269" idx="2"/>
            <a:endCxn id="271" idx="0"/>
          </p:cNvCxnSpPr>
          <p:nvPr/>
        </p:nvCxnSpPr>
        <p:spPr>
          <a:xfrm flipH="1">
            <a:off x="8039160" y="3902040"/>
            <a:ext cx="178200" cy="365760"/>
          </a:xfrm>
          <a:prstGeom prst="straightConnector1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79" name=""/>
          <p:cNvCxnSpPr>
            <a:stCxn id="272" idx="0"/>
            <a:endCxn id="269" idx="1"/>
          </p:cNvCxnSpPr>
          <p:nvPr/>
        </p:nvCxnSpPr>
        <p:spPr>
          <a:xfrm flipH="1" flipV="1" rot="5400000">
            <a:off x="6550560" y="4035960"/>
            <a:ext cx="1783440" cy="66060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280" name=""/>
          <p:cNvCxnSpPr>
            <a:stCxn id="271" idx="4"/>
            <a:endCxn id="272" idx="5"/>
          </p:cNvCxnSpPr>
          <p:nvPr/>
        </p:nvCxnSpPr>
        <p:spPr>
          <a:xfrm rot="5400000">
            <a:off x="7523280" y="5437800"/>
            <a:ext cx="390960" cy="640440"/>
          </a:xfrm>
          <a:prstGeom prst="bentConnector3">
            <a:avLst>
              <a:gd name="adj1" fmla="val 15972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281" name=""/>
          <p:cNvSpPr/>
          <p:nvPr/>
        </p:nvSpPr>
        <p:spPr>
          <a:xfrm>
            <a:off x="3352680" y="4267080"/>
            <a:ext cx="3657600" cy="990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3048120"/>
            <a:ext cx="3581280" cy="7617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2209680"/>
            <a:ext cx="3581280" cy="38124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A0E1-9C3E-4B77-BD90-0B25B253D68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F7CC02-67F2-489D-BE6C-B100FE5B40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hedule activ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chedule has to be activated in a Swarm, otherwise it will not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-swarms are activated in top-level Swarm and then schedules in each 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2209680"/>
            <a:ext cx="2975040" cy="144792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696080" y="2666880"/>
            <a:ext cx="650880" cy="657360"/>
            <a:chOff x="7696080" y="2666880"/>
            <a:chExt cx="650880" cy="657360"/>
          </a:xfrm>
        </p:grpSpPr>
        <p:sp>
          <p:nvSpPr>
            <p:cNvPr id="288" name=""/>
            <p:cNvSpPr/>
            <p:nvPr/>
          </p:nvSpPr>
          <p:spPr>
            <a:xfrm>
              <a:off x="7696080" y="2673360"/>
              <a:ext cx="650880" cy="650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11800" y="2666880"/>
              <a:ext cx="308160" cy="341280"/>
            </a:xfrm>
            <a:custGeom>
              <a:avLst/>
              <a:gdLst/>
              <a:ahLst/>
              <a:rect l="l" t="t" r="r" b="b"/>
              <a:pathLst>
                <a:path w="194" h="215">
                  <a:moveTo>
                    <a:pt x="0" y="0"/>
                  </a:moveTo>
                  <a:lnTo>
                    <a:pt x="0" y="214"/>
                  </a:lnTo>
                  <a:lnTo>
                    <a:pt x="193" y="10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419720" y="4038480"/>
            <a:ext cx="2501640" cy="112716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641840" y="444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248520" y="441972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638680" y="44956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920" y="464832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267080"/>
            <a:ext cx="137880" cy="13356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0080" y="4952880"/>
            <a:ext cx="2502000" cy="116208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15000" y="556272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324480" y="57150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10280" y="571500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5880" y="53341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629400" y="556272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4754520" y="31827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915240" y="3182760"/>
            <a:ext cx="1584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34120" y="4876920"/>
            <a:ext cx="7596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085880" y="419112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1960" y="320040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35360" y="44578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266688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0" y="26668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391520" y="289548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29400" y="297180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24382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5333760" y="4876560"/>
            <a:ext cx="14475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934320" y="51055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27840" y="511668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04600" y="563868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04800" y="1828800"/>
            <a:ext cx="161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8" name=""/>
          <p:cNvCxnSpPr>
            <a:stCxn id="306" idx="1"/>
            <a:endCxn id="291" idx="1"/>
          </p:cNvCxnSpPr>
          <p:nvPr/>
        </p:nvCxnSpPr>
        <p:spPr>
          <a:xfrm flipH="1" flipV="1" rot="10800000">
            <a:off x="4343040" y="3427920"/>
            <a:ext cx="364320" cy="1083240"/>
          </a:xfrm>
          <a:prstGeom prst="curvedConnector5">
            <a:avLst>
              <a:gd name="adj1" fmla="val -62809"/>
              <a:gd name="adj2" fmla="val 28789"/>
              <a:gd name="adj3" fmla="val -6280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E7F-B341-426F-B651-0A9463AFAE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9D3A9-7283-4AFD-8627-990E4BA837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ating Schedules &amp;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9400" y="21337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2133720"/>
            <a:ext cx="5029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observerSwarm activateIn: nil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display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warm activateIn: 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ctivateIn: (id) swarmContex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uper activateIn: swarmContext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modelSchedule activateIn:self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[self getSwarmActivity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733920" y="4648320"/>
            <a:ext cx="5105160" cy="152388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733920" y="2590920"/>
            <a:ext cx="5105160" cy="19047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733920" y="2133720"/>
            <a:ext cx="5105160" cy="3808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800600"/>
            <a:ext cx="1905120" cy="9907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219320" y="5181480"/>
            <a:ext cx="139680" cy="1396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8288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5334120"/>
            <a:ext cx="13968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600200" y="4952880"/>
            <a:ext cx="138240" cy="13824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334120"/>
            <a:ext cx="138240" cy="137880"/>
          </a:xfrm>
          <a:prstGeom prst="ellipse">
            <a:avLst/>
          </a:prstGeom>
          <a:solidFill>
            <a:srgbClr val="66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95288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286000" y="4952880"/>
            <a:ext cx="324000" cy="22248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3124080"/>
            <a:ext cx="1905120" cy="99072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327672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3276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09840" y="2019240"/>
            <a:ext cx="914400" cy="685800"/>
          </a:xfrm>
          <a:prstGeom prst="flowChartDocumen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371600" y="335268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28800" y="3429000"/>
            <a:ext cx="304920" cy="5335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53753" dir="2700000" blurRad="0" rotWithShape="0">
              <a:srgbClr val="6a6a6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>
            <a:stCxn id="336" idx="2"/>
            <a:endCxn id="333" idx="0"/>
          </p:cNvCxnSpPr>
          <p:nvPr/>
        </p:nvCxnSpPr>
        <p:spPr>
          <a:xfrm>
            <a:off x="1966680" y="2666880"/>
            <a:ext cx="529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0" name=""/>
          <p:cNvCxnSpPr>
            <a:stCxn id="333" idx="4"/>
            <a:endCxn id="325" idx="0"/>
          </p:cNvCxnSpPr>
          <p:nvPr/>
        </p:nvCxnSpPr>
        <p:spPr>
          <a:xfrm>
            <a:off x="2018880" y="4114440"/>
            <a:ext cx="1080" cy="686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2287080" y="4038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286720" y="5791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A31F-5CB6-444B-9661-65AB2657103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63BF0-7F9D-4A99-A686-2A414BCC48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rd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on Swarm libra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ion: Lists, Arrays, Sorted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: Graphs, Histograms and data fil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ace: Lattic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: Schedules and ActivityGrou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E984-42A5-4636-AF02-0791374787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BD53F2-E383-4F3A-B49E-74EF5BB909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Random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27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andom library can be divided 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initSwarm in main creates a default generator and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43400" y="320040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9625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10804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0" name=""/>
          <p:cNvCxnSpPr>
            <a:stCxn id="345" idx="1"/>
            <a:endCxn id="346" idx="0"/>
          </p:cNvCxnSpPr>
          <p:nvPr/>
        </p:nvCxnSpPr>
        <p:spPr>
          <a:xfrm flipV="1" rot="10800000">
            <a:off x="4228560" y="370008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5" idx="3"/>
            <a:endCxn id="348" idx="0"/>
          </p:cNvCxnSpPr>
          <p:nvPr/>
        </p:nvCxnSpPr>
        <p:spPr>
          <a:xfrm>
            <a:off x="5790960" y="3700440"/>
            <a:ext cx="11484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2" name=""/>
          <p:cNvSpPr/>
          <p:nvPr/>
        </p:nvSpPr>
        <p:spPr>
          <a:xfrm>
            <a:off x="6934320" y="32004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55308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419720"/>
            <a:ext cx="53316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229600" y="4419720"/>
            <a:ext cx="533520" cy="368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98600" y="41911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52" idx="1"/>
            <a:endCxn id="353" idx="0"/>
          </p:cNvCxnSpPr>
          <p:nvPr/>
        </p:nvCxnSpPr>
        <p:spPr>
          <a:xfrm flipV="1" rot="10800000">
            <a:off x="6819120" y="370008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52" idx="3"/>
            <a:endCxn id="355" idx="0"/>
          </p:cNvCxnSpPr>
          <p:nvPr/>
        </p:nvCxnSpPr>
        <p:spPr>
          <a:xfrm>
            <a:off x="8381880" y="3700440"/>
            <a:ext cx="115200" cy="72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5638680" y="1981080"/>
            <a:ext cx="1447920" cy="100512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0" name=""/>
          <p:cNvCxnSpPr>
            <a:stCxn id="359" idx="1"/>
            <a:endCxn id="345" idx="0"/>
          </p:cNvCxnSpPr>
          <p:nvPr/>
        </p:nvCxnSpPr>
        <p:spPr>
          <a:xfrm flipV="1" rot="10800000">
            <a:off x="5066640" y="2483280"/>
            <a:ext cx="5720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1" name=""/>
          <p:cNvCxnSpPr>
            <a:stCxn id="359" idx="3"/>
            <a:endCxn id="352" idx="0"/>
          </p:cNvCxnSpPr>
          <p:nvPr/>
        </p:nvCxnSpPr>
        <p:spPr>
          <a:xfrm>
            <a:off x="7086600" y="2484000"/>
            <a:ext cx="57240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345" idx="2"/>
            <a:endCxn id="347" idx="0"/>
          </p:cNvCxnSpPr>
          <p:nvPr/>
        </p:nvCxnSpPr>
        <p:spPr>
          <a:xfrm flipH="1">
            <a:off x="483804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52" idx="2"/>
            <a:endCxn id="354" idx="0"/>
          </p:cNvCxnSpPr>
          <p:nvPr/>
        </p:nvCxnSpPr>
        <p:spPr>
          <a:xfrm flipH="1">
            <a:off x="7428960" y="4200120"/>
            <a:ext cx="229320" cy="219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7940-E947-40F0-8D71-54B270969D0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5F2FB8-ACF8-4264-B28A-8A82D42840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le of using Random li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draw random numbers from a distribution you’ll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enerator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provide random seed - an integer number which primes the 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ributio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19920" y="251460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9920" y="403848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85480" y="2779560"/>
            <a:ext cx="9352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5410080"/>
            <a:ext cx="380988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equence of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0" name=""/>
          <p:cNvCxnSpPr>
            <a:stCxn id="366" idx="2"/>
            <a:endCxn id="367" idx="0"/>
          </p:cNvCxnSpPr>
          <p:nvPr/>
        </p:nvCxnSpPr>
        <p:spPr>
          <a:xfrm>
            <a:off x="6743520" y="3514320"/>
            <a:ext cx="108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1" name=""/>
          <p:cNvCxnSpPr>
            <a:stCxn id="368" idx="3"/>
            <a:endCxn id="366" idx="1"/>
          </p:cNvCxnSpPr>
          <p:nvPr/>
        </p:nvCxnSpPr>
        <p:spPr>
          <a:xfrm>
            <a:off x="5726160" y="3013200"/>
            <a:ext cx="294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705720" y="5029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734-3C57-4520-AF85-0A0A2961878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4BC3A-92B6-45E9-9DA7-D76BA80FD6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lling initSwarm in main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ree default distribu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generated, fed by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ault 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’t control this generator’s seed, but can give command line ar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ySeed: New seed ever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wise always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419720" y="3276720"/>
            <a:ext cx="144756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324480" y="2133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24480" y="3276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sig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4419720"/>
            <a:ext cx="1447920" cy="1000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75" idx="0"/>
            <a:endCxn id="376" idx="1"/>
          </p:cNvCxnSpPr>
          <p:nvPr/>
        </p:nvCxnSpPr>
        <p:spPr>
          <a:xfrm flipH="1" flipV="1" rot="5400000">
            <a:off x="5412600" y="2364840"/>
            <a:ext cx="643320" cy="1181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0" name=""/>
          <p:cNvCxnSpPr>
            <a:stCxn id="375" idx="0"/>
            <a:endCxn id="377" idx="1"/>
          </p:cNvCxnSpPr>
          <p:nvPr/>
        </p:nvCxnSpPr>
        <p:spPr>
          <a:xfrm flipH="1" rot="16200000">
            <a:off x="5483880" y="2935080"/>
            <a:ext cx="500760" cy="1181520"/>
          </a:xfrm>
          <a:prstGeom prst="bentConnector4">
            <a:avLst>
              <a:gd name="adj1" fmla="val -45683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1" name=""/>
          <p:cNvCxnSpPr>
            <a:stCxn id="375" idx="0"/>
            <a:endCxn id="378" idx="1"/>
          </p:cNvCxnSpPr>
          <p:nvPr/>
        </p:nvCxnSpPr>
        <p:spPr>
          <a:xfrm flipH="1" rot="16200000">
            <a:off x="4912560" y="3507480"/>
            <a:ext cx="1643760" cy="1181520"/>
          </a:xfrm>
          <a:prstGeom prst="bentConnector4">
            <a:avLst>
              <a:gd name="adj1" fmla="val -13910"/>
              <a:gd name="adj2" fmla="val 806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457-34F0-4956-8CDE-5414DB6EE5C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CAFB37-1CF9-42BE-BEED-8DB28B7AAF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the default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distributions are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call any distribution from any ag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feed own distribution from gene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double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Dbl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withMax: 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integer in interval [minVal,maxVal]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uniformIntegerRand getDoubleWithMin: minVal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withMax:maxVal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2C66-FCF3-4DD1-9B91-2B3DA1C1BD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FEFC9-0C56-442C-ACB8-DE41CF68B2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6477120" y="2411280"/>
            <a:ext cx="1828800" cy="45720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andom Number Gen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an’t create real random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generators represent a large number of studies of pseudo RN gen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le of thumb: Choose well tested generator which has a long peri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800600" y="2487240"/>
            <a:ext cx="1752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MR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2TA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3M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4LCG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08600" y="2438280"/>
            <a:ext cx="150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T199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W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MML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W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GF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76920" y="205740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802040" y="1981080"/>
            <a:ext cx="390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ors in Swarm li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BC3-F492-492F-ACF0-3CEDCB9A43BE}" type="slidenum">
              <a:t>2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0AB46D-D0CB-4F3B-BC72-E9642D405D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distrib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need setGen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paramet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Bernoull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Probability: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xpon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Normal/Log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Variance, setMe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Gam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Alpha, setBe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9140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rnoulli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onenti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mma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Bit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Double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Integer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formUnsignedD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440-6495-4E47-8393-7A170D8B38CE}" type="slidenum">
              <a:t>2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460FA-32A2-471E-AD1F-EC1568667E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Probe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1600" y="31240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62720" y="3276720"/>
            <a:ext cx="1454040" cy="10094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629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62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520" y="4495680"/>
            <a:ext cx="145404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429000" y="2057400"/>
            <a:ext cx="1454040" cy="1006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3" name=""/>
          <p:cNvCxnSpPr>
            <a:stCxn id="402" idx="1"/>
            <a:endCxn id="395" idx="0"/>
          </p:cNvCxnSpPr>
          <p:nvPr/>
        </p:nvCxnSpPr>
        <p:spPr>
          <a:xfrm flipV="1" rot="10800000">
            <a:off x="2098080" y="2559600"/>
            <a:ext cx="133092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4" name=""/>
          <p:cNvCxnSpPr>
            <a:stCxn id="402" idx="3"/>
            <a:endCxn id="396" idx="0"/>
          </p:cNvCxnSpPr>
          <p:nvPr/>
        </p:nvCxnSpPr>
        <p:spPr>
          <a:xfrm>
            <a:off x="4882680" y="2560320"/>
            <a:ext cx="1407240" cy="716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5" name=""/>
          <p:cNvCxnSpPr>
            <a:stCxn id="395" idx="1"/>
            <a:endCxn id="401" idx="0"/>
          </p:cNvCxnSpPr>
          <p:nvPr/>
        </p:nvCxnSpPr>
        <p:spPr>
          <a:xfrm flipV="1" rot="10800000">
            <a:off x="1259640" y="3628080"/>
            <a:ext cx="11196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6" name=""/>
          <p:cNvCxnSpPr>
            <a:stCxn id="395" idx="3"/>
            <a:endCxn id="400" idx="0"/>
          </p:cNvCxnSpPr>
          <p:nvPr/>
        </p:nvCxnSpPr>
        <p:spPr>
          <a:xfrm>
            <a:off x="2825280" y="3628800"/>
            <a:ext cx="188280" cy="867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7" name=""/>
          <p:cNvCxnSpPr>
            <a:stCxn id="396" idx="1"/>
            <a:endCxn id="399" idx="0"/>
          </p:cNvCxnSpPr>
          <p:nvPr/>
        </p:nvCxnSpPr>
        <p:spPr>
          <a:xfrm flipV="1" rot="10800000">
            <a:off x="4688640" y="3781080"/>
            <a:ext cx="87408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8" name=""/>
          <p:cNvCxnSpPr>
            <a:stCxn id="396" idx="3"/>
            <a:endCxn id="398" idx="0"/>
          </p:cNvCxnSpPr>
          <p:nvPr/>
        </p:nvCxnSpPr>
        <p:spPr>
          <a:xfrm>
            <a:off x="7016400" y="3781440"/>
            <a:ext cx="873720" cy="714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09" name=""/>
          <p:cNvCxnSpPr>
            <a:stCxn id="396" idx="2"/>
            <a:endCxn id="397" idx="0"/>
          </p:cNvCxnSpPr>
          <p:nvPr/>
        </p:nvCxnSpPr>
        <p:spPr>
          <a:xfrm flipV="1" rot="10800000">
            <a:off x="6288840" y="4285800"/>
            <a:ext cx="1080" cy="210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10" name=""/>
          <p:cNvSpPr/>
          <p:nvPr/>
        </p:nvSpPr>
        <p:spPr>
          <a:xfrm>
            <a:off x="7010280" y="1981080"/>
            <a:ext cx="1454400" cy="1009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81C-DE77-4DC0-80E1-9C2A820EEFB7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34CA41-670C-4847-B38B-651D9DF7EA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ajor uses for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interface with an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reate a GUI to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face with an object of two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Probes an 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:    Probes a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I utilit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Collection of Var and Message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F0B6-2E1F-4E85-94D3-3D73949703F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BB06CA-10B5-4A89-A851-C748C164D4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ical probes to ag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instance of EmtpyProbeMa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ach VarProbe or MessageProbe to each variable or message to appear on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each probe on the Empty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DisplayManager  asked to create 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257800" y="5105520"/>
            <a:ext cx="2895480" cy="9903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1055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724280" y="35812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105520" y="29718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095880" y="38862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352680"/>
            <a:ext cx="990720" cy="990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10080" y="2895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963960" y="464832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162920" y="3886200"/>
            <a:ext cx="30456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81680" y="3276720"/>
            <a:ext cx="990720" cy="990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943600" y="297180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2209680"/>
            <a:ext cx="1904760" cy="1447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029200" y="24382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952880" y="3124080"/>
            <a:ext cx="16765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67280" y="228600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292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867280" y="2666880"/>
            <a:ext cx="685800" cy="304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858360" y="21337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3" name=""/>
          <p:cNvCxnSpPr>
            <a:stCxn id="422" idx="0"/>
            <a:endCxn id="417" idx="2"/>
          </p:cNvCxnSpPr>
          <p:nvPr/>
        </p:nvCxnSpPr>
        <p:spPr>
          <a:xfrm flipH="1" flipV="1" rot="5400000">
            <a:off x="4425480" y="4349520"/>
            <a:ext cx="572400" cy="25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stCxn id="422" idx="2"/>
            <a:endCxn id="420" idx="4"/>
          </p:cNvCxnSpPr>
          <p:nvPr/>
        </p:nvCxnSpPr>
        <p:spPr>
          <a:xfrm flipH="1" flipV="1" rot="5400000">
            <a:off x="5073480" y="3968280"/>
            <a:ext cx="762840" cy="1512000"/>
          </a:xfrm>
          <a:prstGeom prst="curvedConnector5">
            <a:avLst>
              <a:gd name="adj1" fmla="val -29981"/>
              <a:gd name="adj2" fmla="val 49988"/>
              <a:gd name="adj3" fmla="val -299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5" name=""/>
          <p:cNvCxnSpPr>
            <a:stCxn id="432" idx="2"/>
            <a:endCxn id="424" idx="7"/>
          </p:cNvCxnSpPr>
          <p:nvPr/>
        </p:nvCxnSpPr>
        <p:spPr>
          <a:xfrm rot="5400000">
            <a:off x="7317720" y="2900520"/>
            <a:ext cx="830880" cy="211680"/>
          </a:xfrm>
          <a:prstGeom prst="curvedConnector5">
            <a:avLst>
              <a:gd name="adj1" fmla="val 41265"/>
              <a:gd name="adj2" fmla="val 49914"/>
              <a:gd name="adj3" fmla="val 412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4192200" y="198108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0CD-728D-4B27-9888-C786042C84C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460B7-C928-4065-9CED-C960931451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de for previous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EmptyProbeMap createBegin: aZon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setProbedClass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obeMap=[probeMap createEnd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etProbeForVariable: ”someVar"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lass: [agent class]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Map addProbe: [probeLibrary getProbeForMessage: ”someMessage"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inClass: [agent class]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HideResult: 1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Library setProbeMap: probeM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: [self class]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probeDisplayManager createProbeDisplayFor: modelSwarm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480" y="1600200"/>
            <a:ext cx="8001000" cy="40384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9480" y="5715000"/>
            <a:ext cx="8001000" cy="5335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690-6F04-4F79-AD3D-814BA1C5BA2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053410-64EB-41A7-A0A9-19F23D79F3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ibra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5486400"/>
            <a:ext cx="839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It is actually impossible to draw the class hierarchy because some of the lib directories contain classes from different bran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1752480"/>
            <a:ext cx="1316160" cy="911520"/>
          </a:xfrm>
          <a:prstGeom prst="rect">
            <a:avLst/>
          </a:prstGeom>
          <a:solidFill>
            <a:srgbClr val="33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b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4572000"/>
            <a:ext cx="1316160" cy="911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52480" y="4572000"/>
            <a:ext cx="1316160" cy="915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562720" y="3048120"/>
            <a:ext cx="1315800" cy="911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4572000"/>
            <a:ext cx="131616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391520" y="457200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4572000"/>
            <a:ext cx="1316160" cy="907920"/>
          </a:xfrm>
          <a:prstGeom prst="rect">
            <a:avLst/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3048120"/>
            <a:ext cx="1315800" cy="911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91520" y="3048120"/>
            <a:ext cx="1315800" cy="9111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stCxn id="47" idx="3"/>
            <a:endCxn id="55" idx="0"/>
          </p:cNvCxnSpPr>
          <p:nvPr/>
        </p:nvCxnSpPr>
        <p:spPr>
          <a:xfrm>
            <a:off x="6040080" y="2207880"/>
            <a:ext cx="2010600" cy="840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1371600" y="1752480"/>
            <a:ext cx="1316160" cy="91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7" idx="1"/>
            <a:endCxn id="57" idx="3"/>
          </p:cNvCxnSpPr>
          <p:nvPr/>
        </p:nvCxnSpPr>
        <p:spPr>
          <a:xfrm rot="10800000">
            <a:off x="2687040" y="2207520"/>
            <a:ext cx="2037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2"/>
            <a:endCxn id="52" idx="0"/>
          </p:cNvCxnSpPr>
          <p:nvPr/>
        </p:nvCxnSpPr>
        <p:spPr>
          <a:xfrm>
            <a:off x="8049960" y="3959280"/>
            <a:ext cx="108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4" idx="2"/>
            <a:endCxn id="51" idx="0"/>
          </p:cNvCxnSpPr>
          <p:nvPr/>
        </p:nvCxnSpPr>
        <p:spPr>
          <a:xfrm rot="5400000">
            <a:off x="2409120" y="2589120"/>
            <a:ext cx="613440" cy="33537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3" idx="0"/>
          </p:cNvCxnSpPr>
          <p:nvPr/>
        </p:nvCxnSpPr>
        <p:spPr>
          <a:xfrm flipH="1" rot="16200000">
            <a:off x="4467240" y="3884400"/>
            <a:ext cx="613440" cy="7624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4" idx="2"/>
            <a:endCxn id="49" idx="0"/>
          </p:cNvCxnSpPr>
          <p:nvPr/>
        </p:nvCxnSpPr>
        <p:spPr>
          <a:xfrm rot="5400000">
            <a:off x="3094920" y="3274920"/>
            <a:ext cx="613440" cy="19821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4" idx="2"/>
            <a:endCxn id="48" idx="0"/>
          </p:cNvCxnSpPr>
          <p:nvPr/>
        </p:nvCxnSpPr>
        <p:spPr>
          <a:xfrm rot="5400000">
            <a:off x="3780720" y="3960720"/>
            <a:ext cx="613440" cy="61056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7" idx="2"/>
            <a:endCxn id="54" idx="0"/>
          </p:cNvCxnSpPr>
          <p:nvPr/>
        </p:nvCxnSpPr>
        <p:spPr>
          <a:xfrm rot="5400000">
            <a:off x="4695120" y="2360520"/>
            <a:ext cx="384840" cy="99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7" idx="2"/>
            <a:endCxn id="50" idx="0"/>
          </p:cNvCxnSpPr>
          <p:nvPr/>
        </p:nvCxnSpPr>
        <p:spPr>
          <a:xfrm flipH="1" rot="16200000">
            <a:off x="5609160" y="2436480"/>
            <a:ext cx="384840" cy="839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5867280" y="4572000"/>
            <a:ext cx="1316160" cy="909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4" idx="2"/>
            <a:endCxn id="66" idx="0"/>
          </p:cNvCxnSpPr>
          <p:nvPr/>
        </p:nvCxnSpPr>
        <p:spPr>
          <a:xfrm flipH="1" rot="16200000">
            <a:off x="5153040" y="3198600"/>
            <a:ext cx="613440" cy="2134080"/>
          </a:xfrm>
          <a:prstGeom prst="bentConnector3">
            <a:avLst>
              <a:gd name="adj1" fmla="val 499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533520" y="3048120"/>
            <a:ext cx="131580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048120"/>
            <a:ext cx="1316160" cy="9111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warm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>
            <a:stCxn id="57" idx="2"/>
            <a:endCxn id="68" idx="0"/>
          </p:cNvCxnSpPr>
          <p:nvPr/>
        </p:nvCxnSpPr>
        <p:spPr>
          <a:xfrm rot="5400000">
            <a:off x="1418760" y="243684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57" idx="2"/>
            <a:endCxn id="69" idx="0"/>
          </p:cNvCxnSpPr>
          <p:nvPr/>
        </p:nvCxnSpPr>
        <p:spPr>
          <a:xfrm flipH="1" rot="16200000">
            <a:off x="2257200" y="2436480"/>
            <a:ext cx="384840" cy="838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6D7D-3551-4321-8C59-5EE97A560B7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80616-B350-405F-8041-CC386BEF56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ses for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 of dynamic message calling where message is chosen at runtim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MessageProbe create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theProbe setProbedSelector: theSelector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Probe=[theProbe createEnd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nIndex=[aCollection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(aMember=[anIndex next]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eData=[theProbe doubleDynamicCallOn: aMember]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self doSomething: theDat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n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47640" y="3048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7640" y="4191120"/>
            <a:ext cx="533520" cy="533160"/>
          </a:xfrm>
          <a:custGeom>
            <a:avLst/>
            <a:gdLst>
              <a:gd name="textAreaLeft" fmla="*/ 121680 w 533520"/>
              <a:gd name="textAreaRight" fmla="*/ 411840 w 533520"/>
              <a:gd name="textAreaTop" fmla="*/ 121680 h 533160"/>
              <a:gd name="textAreaBottom" fmla="*/ 4114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240D-44D7-449C-A3A1-66E95A05B1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B8A79-095E-4157-BA28-2F053CAC91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Analysis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hers and displays data on line gra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same for hist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Gra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s y values of function over range of x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r,Entropy and EZ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llect statistics from collection of 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81560" y="3975120"/>
            <a:ext cx="1052640" cy="671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5910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431040" y="397512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B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057400"/>
            <a:ext cx="1052280" cy="6699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ject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62960" y="3970440"/>
            <a:ext cx="105228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431040" y="4908600"/>
            <a:ext cx="1050840" cy="673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2895480"/>
            <a:ext cx="1052640" cy="67176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53" idx="2"/>
            <a:endCxn id="447" idx="0"/>
          </p:cNvCxnSpPr>
          <p:nvPr/>
        </p:nvCxnSpPr>
        <p:spPr>
          <a:xfrm rot="5400000">
            <a:off x="6506640" y="2868480"/>
            <a:ext cx="408600" cy="1805760"/>
          </a:xfrm>
          <a:prstGeom prst="bentConnector3">
            <a:avLst>
              <a:gd name="adj1" fmla="val 4973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5" name=""/>
          <p:cNvCxnSpPr/>
          <p:nvPr/>
        </p:nvCxnSpPr>
        <p:spPr>
          <a:xfrm flipH="1" rot="16200000">
            <a:off x="7699320" y="3494520"/>
            <a:ext cx="403920" cy="577080"/>
          </a:xfrm>
          <a:prstGeom prst="bentConnector3">
            <a:avLst>
              <a:gd name="adj1" fmla="val 46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49" idx="2"/>
            <a:endCxn id="452" idx="0"/>
          </p:cNvCxnSpPr>
          <p:nvPr/>
        </p:nvCxnSpPr>
        <p:spPr>
          <a:xfrm>
            <a:off x="6955920" y="4647960"/>
            <a:ext cx="1080" cy="26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stCxn id="450" idx="1"/>
            <a:endCxn id="448" idx="0"/>
          </p:cNvCxnSpPr>
          <p:nvPr/>
        </p:nvCxnSpPr>
        <p:spPr>
          <a:xfrm flipV="1" rot="10800000">
            <a:off x="5117400" y="2391840"/>
            <a:ext cx="113112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0" idx="3"/>
            <a:endCxn id="453" idx="0"/>
          </p:cNvCxnSpPr>
          <p:nvPr/>
        </p:nvCxnSpPr>
        <p:spPr>
          <a:xfrm>
            <a:off x="7300440" y="2392200"/>
            <a:ext cx="313560" cy="504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5867280" y="2895480"/>
            <a:ext cx="1052640" cy="671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0" name=""/>
          <p:cNvCxnSpPr>
            <a:stCxn id="450" idx="2"/>
            <a:endCxn id="459" idx="0"/>
          </p:cNvCxnSpPr>
          <p:nvPr/>
        </p:nvCxnSpPr>
        <p:spPr>
          <a:xfrm rot="5400000">
            <a:off x="6500160" y="2620440"/>
            <a:ext cx="168840" cy="381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61" name=""/>
          <p:cNvSpPr/>
          <p:nvPr/>
        </p:nvSpPr>
        <p:spPr>
          <a:xfrm>
            <a:off x="6934320" y="38098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5113-43EF-494A-8ABF-78B8D931CB4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E57A53-78BC-4A70-8AEA-698F44D32D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Graph is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creation and setup to be achieved in one fell sw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ter setting title and labels must add one or more sequ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AxisLabelsX: str Y: st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Add sequence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feed from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feed from colle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equence Total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Sequence MaxSequ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53EE-ED06-4E05-881C-157D6458B7EE}" type="slidenum">
              <a:t>3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9AF730-5D93-408A-892D-C8E43523C2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ezgraph" descr=""/>
          <p:cNvPicPr/>
          <p:nvPr/>
        </p:nvPicPr>
        <p:blipFill>
          <a:blip r:embed="rId1"/>
          <a:stretch/>
        </p:blipFill>
        <p:spPr>
          <a:xfrm>
            <a:off x="663480" y="1895400"/>
            <a:ext cx="3886200" cy="2610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3884760" y="3203640"/>
            <a:ext cx="4398840" cy="2471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quence with feed from collection is creat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creat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quenc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ithFeedFrom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Selector: 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one of Average, Total, Min, Max or 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651720" y="3921120"/>
            <a:ext cx="12510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9" name=""/>
          <p:cNvCxnSpPr/>
          <p:nvPr/>
        </p:nvCxnSpPr>
        <p:spPr>
          <a:xfrm flipV="1" rot="16200000">
            <a:off x="5421240" y="1740600"/>
            <a:ext cx="1197360" cy="31629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0" name=""/>
          <p:cNvCxnSpPr>
            <a:stCxn id="467" idx="1"/>
          </p:cNvCxnSpPr>
          <p:nvPr/>
        </p:nvCxnSpPr>
        <p:spPr>
          <a:xfrm rot="10800000">
            <a:off x="2733120" y="3714120"/>
            <a:ext cx="1151640" cy="727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1" name=""/>
          <p:cNvCxnSpPr/>
          <p:nvPr/>
        </p:nvCxnSpPr>
        <p:spPr>
          <a:xfrm flipV="1" rot="10800000">
            <a:off x="2380680" y="2160360"/>
            <a:ext cx="2286720" cy="2069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2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3" name=""/>
          <p:cNvCxnSpPr>
            <a:stCxn id="472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4" name=""/>
          <p:cNvSpPr/>
          <p:nvPr/>
        </p:nvSpPr>
        <p:spPr>
          <a:xfrm>
            <a:off x="4197600" y="177480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0390-3F54-47D9-ABBD-ABB474729B64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EE4BBF-18E2-461C-B4BA-7285A58B6B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6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Bin, is also a wrapper around several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type of graph needs to be told the number of bins for histogram and interval in which values l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381560" y="1981080"/>
            <a:ext cx="4286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ste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create an 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setTitle: title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setCollection: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setProbedSelector:M(metho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setBinNum: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setUpperBound:  and setLowerBoun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3EE-3B3F-42F6-A91F-63EA3D355CD6}" type="slidenum">
              <a:t>3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01EE6F-8FC2-4DB2-AD7B-B0BB514766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ing an EZ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ezbin" descr=""/>
          <p:cNvPicPr/>
          <p:nvPr/>
        </p:nvPicPr>
        <p:blipFill>
          <a:blip r:embed="rId1"/>
          <a:stretch/>
        </p:blipFill>
        <p:spPr>
          <a:xfrm>
            <a:off x="552600" y="1957320"/>
            <a:ext cx="3886200" cy="26384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3846600" y="4842000"/>
            <a:ext cx="4551120" cy="1435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is fed into Histogram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Collection: 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ProbedSelector:M(metho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71480" y="4842000"/>
            <a:ext cx="2923920" cy="764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itle, made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Title: a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2" name=""/>
          <p:cNvCxnSpPr>
            <a:stCxn id="481" idx="0"/>
          </p:cNvCxnSpPr>
          <p:nvPr/>
        </p:nvCxnSpPr>
        <p:spPr>
          <a:xfrm flipV="1" rot="16200000">
            <a:off x="581040" y="3189600"/>
            <a:ext cx="2537640" cy="767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"/>
          <p:cNvSpPr/>
          <p:nvPr/>
        </p:nvSpPr>
        <p:spPr>
          <a:xfrm>
            <a:off x="3816360" y="3984480"/>
            <a:ext cx="4295520" cy="764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xis labels, se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AxisLabelsX: str Y: st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4" name=""/>
          <p:cNvCxnSpPr>
            <a:stCxn id="483" idx="1"/>
          </p:cNvCxnSpPr>
          <p:nvPr/>
        </p:nvCxnSpPr>
        <p:spPr>
          <a:xfrm flipV="1" rot="10800000">
            <a:off x="2552040" y="4370040"/>
            <a:ext cx="1257840" cy="7848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5" name=""/>
          <p:cNvSpPr/>
          <p:nvPr/>
        </p:nvSpPr>
        <p:spPr>
          <a:xfrm>
            <a:off x="3813120" y="2308320"/>
            <a:ext cx="4929480" cy="1435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ber of bins is determine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NumBins: 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range of values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UpperBound: -setLowerBou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6" name=""/>
          <p:cNvCxnSpPr>
            <a:stCxn id="485" idx="1"/>
          </p:cNvCxnSpPr>
          <p:nvPr/>
        </p:nvCxnSpPr>
        <p:spPr>
          <a:xfrm flipV="1" rot="10800000">
            <a:off x="2628360" y="3027960"/>
            <a:ext cx="118476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667A-F7DA-47FE-B43B-70FDDD2EF4EE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8641F-52D5-40C4-B7F6-0E37F561A4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utility objects in Ana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s feed from collection and calculates entropy assuming data is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Z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 of EZBin, gives acces to underlying distribution of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F5E-13E5-428D-85AA-1CE8325FF588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BC427-0F65-49A2-AA6B-D4BA60A567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4952880" y="1828800"/>
            <a:ext cx="35053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182880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ster and Object2dDispl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3520" y="2209680"/>
            <a:ext cx="1676160" cy="1752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81480" y="1981080"/>
            <a:ext cx="1752840" cy="1524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7" name=""/>
          <p:cNvCxnSpPr>
            <a:stCxn id="494" idx="1"/>
            <a:endCxn id="498" idx="5"/>
          </p:cNvCxnSpPr>
          <p:nvPr/>
        </p:nvCxnSpPr>
        <p:spPr>
          <a:xfrm flipV="1" rot="10800000">
            <a:off x="4237920" y="2742840"/>
            <a:ext cx="943560" cy="658080"/>
          </a:xfrm>
          <a:prstGeom prst="bentConnector4">
            <a:avLst>
              <a:gd name="adj1" fmla="val 36335"/>
              <a:gd name="adj2" fmla="val 173891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499" name=""/>
          <p:cNvSpPr/>
          <p:nvPr/>
        </p:nvSpPr>
        <p:spPr>
          <a:xfrm>
            <a:off x="841320" y="3429000"/>
            <a:ext cx="1128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629400" y="3249720"/>
            <a:ext cx="1671480" cy="1191240"/>
          </a:xfrm>
          <a:prstGeom prst="borderCallout1">
            <a:avLst>
              <a:gd name="adj1" fmla="val 18750"/>
              <a:gd name="adj2" fmla="val -8333"/>
              <a:gd name="adj3" fmla="val -33712"/>
              <a:gd name="adj4" fmla="val -277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x,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s of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43200" y="1905120"/>
            <a:ext cx="1752480" cy="1752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ct2dDis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19520" y="3733920"/>
            <a:ext cx="13716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953600" y="472428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4240" y="47242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65040" y="5272200"/>
            <a:ext cx="832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purpose of Object2dDisplay to catch messages from Raster widget on a mouse-click. It then opens up a probe to the object that at this  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stCxn id="498" idx="2"/>
            <a:endCxn id="493" idx="3"/>
          </p:cNvCxnSpPr>
          <p:nvPr/>
        </p:nvCxnSpPr>
        <p:spPr>
          <a:xfrm flipV="1" rot="10800000">
            <a:off x="2208960" y="2780280"/>
            <a:ext cx="534240" cy="305640"/>
          </a:xfrm>
          <a:prstGeom prst="bentConnector3">
            <a:avLst>
              <a:gd name="adj1" fmla="val 4996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1" idx="2"/>
            <a:endCxn id="493" idx="2"/>
          </p:cNvCxnSpPr>
          <p:nvPr/>
        </p:nvCxnSpPr>
        <p:spPr>
          <a:xfrm rot="10800000">
            <a:off x="1370880" y="3961800"/>
            <a:ext cx="1448640" cy="457920"/>
          </a:xfrm>
          <a:prstGeom prst="bentConnector2">
            <a:avLst/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07" name=""/>
          <p:cNvSpPr/>
          <p:nvPr/>
        </p:nvSpPr>
        <p:spPr>
          <a:xfrm>
            <a:off x="5410080" y="3048120"/>
            <a:ext cx="99072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F5D-CBC7-4F08-9DDB-AC2449E71E5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F5CA6-9B96-4C03-B1E2-6CAF27A75B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08" name=""/>
          <p:cNvCxnSpPr>
            <a:stCxn id="509" idx="3"/>
            <a:endCxn id="510" idx="2"/>
          </p:cNvCxnSpPr>
          <p:nvPr/>
        </p:nvCxnSpPr>
        <p:spPr>
          <a:xfrm>
            <a:off x="4723920" y="2971800"/>
            <a:ext cx="877320" cy="381600"/>
          </a:xfrm>
          <a:prstGeom prst="curvedConnector5">
            <a:avLst>
              <a:gd name="adj1" fmla="val 17364"/>
              <a:gd name="adj2" fmla="val 79981"/>
              <a:gd name="adj3" fmla="val 17364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11" name=""/>
          <p:cNvCxnSpPr>
            <a:stCxn id="509" idx="3"/>
            <a:endCxn id="512" idx="2"/>
          </p:cNvCxnSpPr>
          <p:nvPr/>
        </p:nvCxnSpPr>
        <p:spPr>
          <a:xfrm>
            <a:off x="4723920" y="2971800"/>
            <a:ext cx="2248920" cy="381600"/>
          </a:xfrm>
          <a:prstGeom prst="curvedConnector5">
            <a:avLst>
              <a:gd name="adj1" fmla="val 37271"/>
              <a:gd name="adj2" fmla="val 79981"/>
              <a:gd name="adj3" fmla="val 37271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es in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581280" y="16765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58128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ret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81952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267080" y="35053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505320" y="44197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505320" y="53341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0292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0080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905120" y="2590920"/>
            <a:ext cx="1143000" cy="76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2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1" name=""/>
          <p:cNvCxnSpPr>
            <a:stCxn id="514" idx="2"/>
            <a:endCxn id="509" idx="0"/>
          </p:cNvCxnSpPr>
          <p:nvPr/>
        </p:nvCxnSpPr>
        <p:spPr>
          <a:xfrm flipV="1" rot="10800000">
            <a:off x="4152240" y="24379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2" name=""/>
          <p:cNvCxnSpPr>
            <a:stCxn id="509" idx="1"/>
            <a:endCxn id="515" idx="0"/>
          </p:cNvCxnSpPr>
          <p:nvPr/>
        </p:nvCxnSpPr>
        <p:spPr>
          <a:xfrm flipV="1" rot="10800000">
            <a:off x="3390120" y="2971440"/>
            <a:ext cx="19116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3" name=""/>
          <p:cNvCxnSpPr>
            <a:stCxn id="509" idx="3"/>
            <a:endCxn id="516" idx="0"/>
          </p:cNvCxnSpPr>
          <p:nvPr/>
        </p:nvCxnSpPr>
        <p:spPr>
          <a:xfrm>
            <a:off x="4724280" y="297180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4" name=""/>
          <p:cNvCxnSpPr>
            <a:stCxn id="515" idx="1"/>
            <a:endCxn id="517" idx="0"/>
          </p:cNvCxnSpPr>
          <p:nvPr/>
        </p:nvCxnSpPr>
        <p:spPr>
          <a:xfrm flipV="1" rot="10800000">
            <a:off x="2704320" y="3885840"/>
            <a:ext cx="11520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"/>
          <p:cNvCxnSpPr>
            <a:stCxn id="515" idx="3"/>
            <a:endCxn id="518" idx="0"/>
          </p:cNvCxnSpPr>
          <p:nvPr/>
        </p:nvCxnSpPr>
        <p:spPr>
          <a:xfrm>
            <a:off x="3962160" y="3886200"/>
            <a:ext cx="114840" cy="534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"/>
          <p:cNvCxnSpPr>
            <a:stCxn id="518" idx="2"/>
            <a:endCxn id="519" idx="0"/>
          </p:cNvCxnSpPr>
          <p:nvPr/>
        </p:nvCxnSpPr>
        <p:spPr>
          <a:xfrm>
            <a:off x="4076280" y="5181480"/>
            <a:ext cx="1080" cy="15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696-B9E8-4599-BCBA-0FEAB8DBE45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82FDA-A031-4B1E-91EA-A000C65D74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27" name=""/>
          <p:cNvCxnSpPr>
            <a:stCxn id="528" idx="3"/>
            <a:endCxn id="529" idx="2"/>
          </p:cNvCxnSpPr>
          <p:nvPr/>
        </p:nvCxnSpPr>
        <p:spPr>
          <a:xfrm>
            <a:off x="6325920" y="2928600"/>
            <a:ext cx="592920" cy="254520"/>
          </a:xfrm>
          <a:prstGeom prst="curvedConnector5">
            <a:avLst>
              <a:gd name="adj1" fmla="val 17132"/>
              <a:gd name="adj2" fmla="val 94900"/>
              <a:gd name="adj3" fmla="val 17132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cxnSp>
        <p:nvCxnSpPr>
          <p:cNvPr id="530" name=""/>
          <p:cNvCxnSpPr>
            <a:stCxn id="528" idx="3"/>
            <a:endCxn id="531" idx="2"/>
          </p:cNvCxnSpPr>
          <p:nvPr/>
        </p:nvCxnSpPr>
        <p:spPr>
          <a:xfrm>
            <a:off x="6326280" y="2928600"/>
            <a:ext cx="1529280" cy="254520"/>
          </a:xfrm>
          <a:prstGeom prst="curvedConnector5">
            <a:avLst>
              <a:gd name="adj1" fmla="val 37273"/>
              <a:gd name="adj2" fmla="val 94900"/>
              <a:gd name="adj3" fmla="val 37273"/>
            </a:avLst>
          </a:prstGeom>
          <a:ln w="9360">
            <a:solidFill>
              <a:srgbClr val="000000"/>
            </a:solidFill>
            <a:prstDash val="lgDash"/>
            <a:miter/>
          </a:ln>
        </p:spPr>
      </p:cxnSp>
      <p:sp>
        <p:nvSpPr>
          <p:cNvPr id="532" name=""/>
          <p:cNvSpPr/>
          <p:nvPr/>
        </p:nvSpPr>
        <p:spPr>
          <a:xfrm>
            <a:off x="5551560" y="2057400"/>
            <a:ext cx="774720" cy="5126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551560" y="2670120"/>
            <a:ext cx="774720" cy="515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035680" y="3287880"/>
            <a:ext cx="77292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bl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014880" y="3287880"/>
            <a:ext cx="771840" cy="5108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3900600"/>
            <a:ext cx="7732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00800" y="3900600"/>
            <a:ext cx="771480" cy="515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500800" y="4516560"/>
            <a:ext cx="7714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31120" y="2670120"/>
            <a:ext cx="7729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467480" y="2670120"/>
            <a:ext cx="77328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495680" y="2670120"/>
            <a:ext cx="774720" cy="51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9" name=""/>
          <p:cNvCxnSpPr>
            <a:stCxn id="532" idx="2"/>
            <a:endCxn id="528" idx="0"/>
          </p:cNvCxnSpPr>
          <p:nvPr/>
        </p:nvCxnSpPr>
        <p:spPr>
          <a:xfrm flipV="1" rot="10800000">
            <a:off x="5936400" y="2569680"/>
            <a:ext cx="1080" cy="100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0" name=""/>
          <p:cNvCxnSpPr>
            <a:stCxn id="528" idx="1"/>
            <a:endCxn id="533" idx="0"/>
          </p:cNvCxnSpPr>
          <p:nvPr/>
        </p:nvCxnSpPr>
        <p:spPr>
          <a:xfrm flipV="1" rot="10800000">
            <a:off x="5422320" y="2929320"/>
            <a:ext cx="129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28" idx="3"/>
            <a:endCxn id="534" idx="0"/>
          </p:cNvCxnSpPr>
          <p:nvPr/>
        </p:nvCxnSpPr>
        <p:spPr>
          <a:xfrm>
            <a:off x="6325920" y="2930040"/>
            <a:ext cx="75240" cy="358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33" idx="1"/>
            <a:endCxn id="535" idx="0"/>
          </p:cNvCxnSpPr>
          <p:nvPr/>
        </p:nvCxnSpPr>
        <p:spPr>
          <a:xfrm flipV="1" rot="10800000">
            <a:off x="4957200" y="354312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33" idx="3"/>
            <a:endCxn id="536" idx="0"/>
          </p:cNvCxnSpPr>
          <p:nvPr/>
        </p:nvCxnSpPr>
        <p:spPr>
          <a:xfrm>
            <a:off x="5808600" y="3543480"/>
            <a:ext cx="78480" cy="357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4" name=""/>
          <p:cNvCxnSpPr>
            <a:stCxn id="536" idx="2"/>
            <a:endCxn id="537" idx="0"/>
          </p:cNvCxnSpPr>
          <p:nvPr/>
        </p:nvCxnSpPr>
        <p:spPr>
          <a:xfrm>
            <a:off x="5886000" y="4416480"/>
            <a:ext cx="1080" cy="10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asic 2d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2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asic 2d lattice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n’t allow you to overwrite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blBuffer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go to a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updates all at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9512-BD33-4985-87A6-848D82FCC0B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71B81-35E2-49C2-BD15-260EC69280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these classes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1752480"/>
            <a:ext cx="1490400" cy="10321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120" y="4038480"/>
            <a:ext cx="1523880" cy="10573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895480"/>
            <a:ext cx="152388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5194440"/>
            <a:ext cx="1523880" cy="1054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1676520"/>
            <a:ext cx="2133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es, ActivityGroups  and Swa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62320" y="396252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ing object’s state an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362320" y="281952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number generators and distrib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5105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b bag of various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1739880"/>
            <a:ext cx="1490760" cy="1031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95680" y="4025880"/>
            <a:ext cx="1524240" cy="10573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obj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2882880"/>
            <a:ext cx="1524240" cy="10540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5181480"/>
            <a:ext cx="1524240" cy="10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1676520"/>
            <a:ext cx="23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s, Lists and ordered Lists of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phical interface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72200" y="2819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s information for 2D lattice or gr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51055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r interface to graphs, calculate 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B93-17C8-4590-913F-899D9043B363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4FEC21-C329-4C53-8838-D20B87A356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SizeX: i Y: 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the world siz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SizeX, getSiz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the dimensions of the lat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illWithValue: val, fillWithObjec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same value or object at each s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Discrete2d: o  toFile: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s a PGM formatted file and fills lattice with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pyDiscrete2d: a toDiscrete2d: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s lattice b with values from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9FAC-6D8E-450E-97E5-26A9026BE97E}" type="slidenum">
              <a:t>40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8246E5-1C5F-4CA5-A338-10538246A4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basic Discrete2d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ObjectAtX: Y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object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ValueAtX: Y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value at x,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Object:o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obj at x,y and overwrite present obj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tValue: v atX: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val v at x,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417-4647-46D4-8F26-F38C1D210EDA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75651-EBF8-439E-8242-0FF4949717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lasses in Simto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Loader / Sa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s/Saves instance variable values from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Sel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s N members from col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S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ckSort for 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Fil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itute for opening outfiles C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s file and understand basic operations, getString, getInt, nex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345B-683C-4102-A014-F73612900FC2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D6501-DB06-4E56-A801-EAE0FAA801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File and In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idea that InFile opens file and “gets” strings and OutFile opens file and “puts”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can deal with any var type (only String and Int sh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ddition methods to insert delimiter (“tab”), skip line, go to next line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methods in In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Word: (char *) aW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getInt: (int *) anI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int) skip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and OutF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String: (char *) aSt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Int: (int) anI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Tab: (char) aCh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putNewLi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365D-2E73-401D-A912-F94B0D76D663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2EB1BD-DAFA-4CA0-9DD1-712F1515EE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 TkObjC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zeable r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display of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lay of hist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between integer values and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"/>
          <p:cNvCxnSpPr>
            <a:stCxn id="562" idx="1"/>
            <a:endCxn id="563" idx="0"/>
          </p:cNvCxnSpPr>
          <p:nvPr/>
        </p:nvCxnSpPr>
        <p:spPr>
          <a:xfrm flipV="1" rot="10800000">
            <a:off x="4870440" y="2829600"/>
            <a:ext cx="6210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4" name=""/>
          <p:cNvCxnSpPr>
            <a:stCxn id="562" idx="3"/>
            <a:endCxn id="565" idx="0"/>
          </p:cNvCxnSpPr>
          <p:nvPr/>
        </p:nvCxnSpPr>
        <p:spPr>
          <a:xfrm>
            <a:off x="6543720" y="2830320"/>
            <a:ext cx="622800" cy="4784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6" name=""/>
          <p:cNvCxnSpPr>
            <a:stCxn id="562" idx="2"/>
            <a:endCxn id="567" idx="0"/>
          </p:cNvCxnSpPr>
          <p:nvPr/>
        </p:nvCxnSpPr>
        <p:spPr>
          <a:xfrm>
            <a:off x="6017760" y="31651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"/>
          <p:cNvSpPr/>
          <p:nvPr/>
        </p:nvSpPr>
        <p:spPr>
          <a:xfrm>
            <a:off x="549108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343400" y="3308400"/>
            <a:ext cx="1052640" cy="671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p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6640560" y="330840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st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491080" y="24955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91080" y="4122720"/>
            <a:ext cx="1052640" cy="6699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ZoomRa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9" name=""/>
          <p:cNvCxnSpPr/>
          <p:nvPr/>
        </p:nvCxnSpPr>
        <p:spPr>
          <a:xfrm>
            <a:off x="5638320" y="312372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0" name=""/>
          <p:cNvSpPr/>
          <p:nvPr/>
        </p:nvSpPr>
        <p:spPr>
          <a:xfrm>
            <a:off x="7516800" y="2489040"/>
            <a:ext cx="1050840" cy="67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or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3CB6-C3E6-46B8-8E50-86914CB732C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47E8D-F83E-4D3F-8AB2-7F61535B4E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lat list of objects with random acce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ed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 is independent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y is the member itsel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 with fixe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205740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483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7220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0120" y="3124080"/>
            <a:ext cx="1143000" cy="7621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4419720"/>
            <a:ext cx="1143000" cy="76176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91" idx="1"/>
            <a:endCxn id="92" idx="0"/>
          </p:cNvCxnSpPr>
          <p:nvPr/>
        </p:nvCxnSpPr>
        <p:spPr>
          <a:xfrm flipV="1" rot="10800000">
            <a:off x="5218920" y="2437200"/>
            <a:ext cx="9532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1" idx="3"/>
            <a:endCxn id="94" idx="0"/>
          </p:cNvCxnSpPr>
          <p:nvPr/>
        </p:nvCxnSpPr>
        <p:spPr>
          <a:xfrm>
            <a:off x="7315200" y="2437920"/>
            <a:ext cx="87696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1" idx="2"/>
            <a:endCxn id="93" idx="0"/>
          </p:cNvCxnSpPr>
          <p:nvPr/>
        </p:nvCxnSpPr>
        <p:spPr>
          <a:xfrm>
            <a:off x="6743520" y="28195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3" idx="2"/>
            <a:endCxn id="95" idx="0"/>
          </p:cNvCxnSpPr>
          <p:nvPr/>
        </p:nvCxnSpPr>
        <p:spPr>
          <a:xfrm rot="5400000">
            <a:off x="6133320" y="3809880"/>
            <a:ext cx="534240" cy="68652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3" idx="2"/>
            <a:endCxn id="96" idx="0"/>
          </p:cNvCxnSpPr>
          <p:nvPr/>
        </p:nvCxnSpPr>
        <p:spPr>
          <a:xfrm flipH="1" rot="16200000">
            <a:off x="6858000" y="3771720"/>
            <a:ext cx="534240" cy="762480"/>
          </a:xfrm>
          <a:prstGeom prst="bentConnector3">
            <a:avLst>
              <a:gd name="adj1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993-8B67-47ED-8526-A446EA06E2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08E34B-0238-466A-AAE1-66F4D8B047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Collection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number of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rieves member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Offset:i put: ob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erts obj at location 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ddFirst: o addLast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o at start/end of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etFirst,get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ontains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urns 1 if o is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object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rEach:M(mess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message to all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moveFirst/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oves and returns first/last me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22B5-AA74-4636-8044-B9B9A8484227}" type="slidenum">
              <a:t>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EB94E9-637A-410A-8E2F-F0623C4018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419720" y="3200400"/>
            <a:ext cx="4267080" cy="1981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essing Collections with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collection can generate an index of it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ndex behaves as an object, and understands messages such 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,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Next: o,findPrev: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index to loop over all membe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dex=[list begin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o=[index next]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value=[o getValu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index drop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A385-1D18-4102-BA41-91D147B0C99C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B39690-A527-4F0C-BAA8-1D78E9C3CB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19720" y="2819520"/>
            <a:ext cx="4267080" cy="3047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use of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ypical use of a List instance is to keep track of agent popul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At create time Model initializes each agent and puts him on agentLi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e agentList is then accessed by Schedule, GUI objects and so on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i=0;i&lt;numAgents;i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[Agent create: zone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1: var1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2: var2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 setVarN: varN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[agentList addLast: a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40F0-CA35-4212-8280-C9A5AD6FDC3C}" type="slidenum">
              <a:t>8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E4F90E-7FDB-4B9D-BEA5-7374D40026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KeyedCol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KeyedCollection if you want a List that is continously s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either have seperate key objects for each member (Map) or treat the members as keys (S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t: You must provide the key objec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A key object knows how to respond to a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compare: obj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method call. It then retriev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he value in obj and respon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with {-1,0,1} depending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if it is &lt;, equal to, &gt; than ob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- &lt;benedikt@ucla.edu&gt; - March 1998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B4A1-F181-4ECD-8415-3CE4C3985BAD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0A361-6D28-4FFD-997D-1FC2A531CB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2T02:00:03Z</dcterms:created>
  <dc:creator>Benedikt Stefansson</dc:creator>
  <dc:description/>
  <dc:language>en-US</dc:language>
  <cp:lastModifiedBy>Office</cp:lastModifiedBy>
  <cp:lastPrinted>1998-03-19T09:02:27Z</cp:lastPrinted>
  <dcterms:modified xsi:type="dcterms:W3CDTF">1999-03-25T09:39:46Z</dcterms:modified>
  <cp:revision>18</cp:revision>
  <dc:subject/>
  <dc:title>Agent Based Modeling in Swarm Lecture 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