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D3D-27B1-400D-9187-255197322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DDFB-E683-4DF5-83EF-6A0E7C61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9108-F9F9-43A4-8BD8-4A649AC0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288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0520" y="186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04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288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0520" y="401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FC40-5E1F-4301-9D75-EF46116D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79D-EEBB-48D2-9C96-F15FE09E7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17C-2BB2-4CC8-BE4A-66E5F658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BA3-DE3E-434E-AAD7-85B5FC7A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E9E8-E9B4-4B1F-9F5D-FD9652311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5CB-C970-404D-B491-E7E407E7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CA02-A276-4BF4-9647-35A2810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401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D0F5-8E29-416B-88FF-E22B3E7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6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04880" y="401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A2CB-FABA-4CBC-BE01-7C51665C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CA271-2955-4D89-B662-EFA943980DC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1903-4E6B-4521-A2EF-DBB8D05BF6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fest ‘99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uto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ssion I: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edikt Stefans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enedikt@ucla.edu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face vs. imple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WATCHC1" descr=""/>
          <p:cNvPicPr/>
          <p:nvPr/>
        </p:nvPicPr>
        <p:blipFill>
          <a:blip r:embed="rId1"/>
          <a:stretch/>
        </p:blipFill>
        <p:spPr>
          <a:xfrm>
            <a:off x="3005280" y="1943280"/>
            <a:ext cx="3651120" cy="28000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19720" y="4813200"/>
            <a:ext cx="4152960" cy="1191240"/>
          </a:xfrm>
          <a:prstGeom prst="borderCallout1">
            <a:avLst>
              <a:gd name="adj1" fmla="val 18750"/>
              <a:gd name="adj2" fmla="val -8333"/>
              <a:gd name="adj3" fmla="val -104740"/>
              <a:gd name="adj4" fmla="val -5953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only has to be familiar with the interface of an object, not it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6720" y="5052960"/>
            <a:ext cx="3029040" cy="825480"/>
          </a:xfrm>
          <a:prstGeom prst="borderCallout1">
            <a:avLst>
              <a:gd name="adj1" fmla="val 18750"/>
              <a:gd name="adj2" fmla="val -8333"/>
              <a:gd name="adj3" fmla="val -216171"/>
              <a:gd name="adj4" fmla="val 10916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hide their functions an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E54F-30CE-4ECA-91AA-4398E55AF4D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D0DEC-A187-41ED-BD0D-280EACD605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termi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finition of an object and the object fac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an object inherits behavior and variables from (recursiv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class that inherits behavior and variables from a 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object (instance of a class) that has been created and exists i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riable available to all functions in an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function. Can be called by sending message to an object of this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F3D-855D-4437-897E-33F0A353D1D9}" type="slidenum">
              <a:t>1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8F8608-95B0-42F8-B005-9388BEC7C2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46600" y="2035080"/>
            <a:ext cx="938160" cy="957240"/>
          </a:xfrm>
          <a:prstGeom prst="ellipse">
            <a:avLst/>
          </a:prstGeom>
          <a:solidFill>
            <a:srgbClr val="66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principles of O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aps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cts hide their functions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data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stance variabl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method variabl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b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herits all variables of it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per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nstances of same class, sharing behavior but not state 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08680" y="2035080"/>
            <a:ext cx="938160" cy="9572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99000" y="34765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0560" y="5576760"/>
            <a:ext cx="5637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371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8644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17212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74200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37360" y="528336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86720" y="5283360"/>
            <a:ext cx="54108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40400" y="4253040"/>
            <a:ext cx="541440" cy="5410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689360" y="4270320"/>
            <a:ext cx="541440" cy="5414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62" idx="4"/>
            <a:endCxn id="171" idx="0"/>
          </p:cNvCxnSpPr>
          <p:nvPr/>
        </p:nvCxnSpPr>
        <p:spPr>
          <a:xfrm rot="5400000">
            <a:off x="5238720" y="373896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3" name=""/>
          <p:cNvCxnSpPr>
            <a:stCxn id="162" idx="4"/>
            <a:endCxn id="170" idx="0"/>
          </p:cNvCxnSpPr>
          <p:nvPr/>
        </p:nvCxnSpPr>
        <p:spPr>
          <a:xfrm flipH="1" rot="16200000">
            <a:off x="6122520" y="3664440"/>
            <a:ext cx="235800" cy="94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4" name=""/>
          <p:cNvSpPr/>
          <p:nvPr/>
        </p:nvSpPr>
        <p:spPr>
          <a:xfrm>
            <a:off x="6270840" y="352728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09640" y="440388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31988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853400" y="5264280"/>
            <a:ext cx="541440" cy="541080"/>
          </a:xfrm>
          <a:prstGeom prst="ellipse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9840" y="2035080"/>
            <a:ext cx="938160" cy="95724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67600" y="254016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830840" y="2527200"/>
            <a:ext cx="83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749-B713-4A9B-9435-BA83A4C3A7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08E88-D596-4765-8AFA-84A49D8542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event si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301760" y="2771640"/>
            <a:ext cx="990720" cy="2514600"/>
          </a:xfrm>
          <a:custGeom>
            <a:avLst/>
            <a:gdLst>
              <a:gd name="textAreaLeft" fmla="*/ 132480 w 990720"/>
              <a:gd name="textAreaRight" fmla="*/ 858240 w 99072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rot="10899600">
            <a:off x="4077720" y="2585160"/>
            <a:ext cx="990360" cy="2590920"/>
          </a:xfrm>
          <a:custGeom>
            <a:avLst/>
            <a:gdLst>
              <a:gd name="textAreaLeft" fmla="*/ 132480 w 990360"/>
              <a:gd name="textAreaRight" fmla="*/ 857880 w 99036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190512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4062240"/>
            <a:ext cx="1600200" cy="160020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44840" y="24210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99600">
            <a:off x="3433680" y="2362320"/>
            <a:ext cx="247680" cy="64584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5840"/>
              <a:gd name="textAreaBottom" fmla="*/ 468360 h 64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25640" y="2057400"/>
            <a:ext cx="398520" cy="3999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89280" y="2666880"/>
            <a:ext cx="398520" cy="40032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59400"/>
            <a:ext cx="247680" cy="627120"/>
          </a:xfrm>
          <a:custGeom>
            <a:avLst/>
            <a:gdLst>
              <a:gd name="textAreaLeft" fmla="*/ 33120 w 247680"/>
              <a:gd name="textAreaRight" fmla="*/ 214560 w 247680"/>
              <a:gd name="textAreaTop" fmla="*/ 109800 h 627120"/>
              <a:gd name="textAreaBottom" fmla="*/ 454680 h 6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10899600">
            <a:off x="3294000" y="4501800"/>
            <a:ext cx="247680" cy="646200"/>
          </a:xfrm>
          <a:custGeom>
            <a:avLst/>
            <a:gdLst>
              <a:gd name="textAreaLeft" fmla="*/ 33120 w 247680"/>
              <a:gd name="textAreaRight" fmla="*/ 214560 w 247680"/>
              <a:gd name="textAreaTop" fmla="*/ 113040 h 646200"/>
              <a:gd name="textAreaBottom" fmla="*/ 468720 h 64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35280" y="421488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35280" y="4824360"/>
            <a:ext cx="398520" cy="399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6880" y="186696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proceeds in discrete time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between agents or procedures within simulation may have own even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195-9E20-48F7-8177-1E30053EB35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F9938-0ECA-4973-8050-8B075E324F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ulation in procedural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parameter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te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_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-i-do-some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62720" y="3362400"/>
            <a:ext cx="2819160" cy="1557000"/>
          </a:xfrm>
          <a:prstGeom prst="borderCallout1">
            <a:avLst>
              <a:gd name="adj1" fmla="val 18750"/>
              <a:gd name="adj2" fmla="val -8333"/>
              <a:gd name="adj3" fmla="val 30972"/>
              <a:gd name="adj4" fmla="val -1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must provide data structure to save agent’s state and implement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67080" y="2084400"/>
            <a:ext cx="4419720" cy="825480"/>
          </a:xfrm>
          <a:prstGeom prst="borderCallout1">
            <a:avLst>
              <a:gd name="adj1" fmla="val 18750"/>
              <a:gd name="adj2" fmla="val -8333"/>
              <a:gd name="adj3" fmla="val 61504"/>
              <a:gd name="adj4" fmla="val -44282"/>
            </a:avLst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ly set’s up data structures and support f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9880" y="5105520"/>
            <a:ext cx="4445280" cy="825480"/>
          </a:xfrm>
          <a:prstGeom prst="borderCallout1">
            <a:avLst>
              <a:gd name="adj1" fmla="val 18750"/>
              <a:gd name="adj2" fmla="val -8333"/>
              <a:gd name="adj3" fmla="val -21444"/>
              <a:gd name="adj4" fmla="val -142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ation of output often left to the program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06AB-8BC7-48C8-840E-45EFDC4A88A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5FE4C-DAD8-4703-A7AA-1E3BAF2289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500120" y="2822400"/>
            <a:ext cx="6597720" cy="3264120"/>
          </a:xfrm>
          <a:prstGeom prst="ellipse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(Swarm) OOP 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361800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19080" y="2521080"/>
            <a:ext cx="1322640" cy="1322280"/>
          </a:xfrm>
          <a:prstGeom prst="ellipse">
            <a:avLst/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57760" y="2990880"/>
            <a:ext cx="93528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27520" y="3794040"/>
            <a:ext cx="1180800" cy="265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016520" y="320040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2218800">
            <a:off x="2655360" y="4475160"/>
            <a:ext cx="118116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6080" y="4549680"/>
            <a:ext cx="934920" cy="93528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7536200">
            <a:off x="5159880" y="4229640"/>
            <a:ext cx="1180800" cy="264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21200" y="4900680"/>
            <a:ext cx="934920" cy="9349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4498920"/>
            <a:ext cx="619200" cy="70632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750000" y="3592440"/>
            <a:ext cx="619200" cy="7066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"/>
          <p:cNvCxnSpPr/>
          <p:nvPr/>
        </p:nvCxnSpPr>
        <p:spPr>
          <a:xfrm>
            <a:off x="2313000" y="3076200"/>
            <a:ext cx="1775520" cy="486360"/>
          </a:xfrm>
          <a:prstGeom prst="curvedConnector5">
            <a:avLst>
              <a:gd name="adj1" fmla="val 49989"/>
              <a:gd name="adj2" fmla="val 50000"/>
              <a:gd name="adj3" fmla="val 49989"/>
            </a:avLst>
          </a:prstGeom>
          <a:ln w="76320">
            <a:solidFill>
              <a:srgbClr val="00cc99"/>
            </a:solidFill>
            <a:miter/>
            <a:tailEnd len="med" type="triangle" w="med"/>
          </a:ln>
        </p:spPr>
      </p:cxnSp>
      <p:sp>
        <p:nvSpPr>
          <p:cNvPr id="214" name=""/>
          <p:cNvSpPr/>
          <p:nvPr/>
        </p:nvSpPr>
        <p:spPr>
          <a:xfrm>
            <a:off x="652320" y="4686480"/>
            <a:ext cx="4530960" cy="1191240"/>
          </a:xfrm>
          <a:prstGeom prst="borderCallout1">
            <a:avLst>
              <a:gd name="adj1" fmla="val 18750"/>
              <a:gd name="adj2" fmla="val -8333"/>
              <a:gd name="adj3" fmla="val -116250"/>
              <a:gd name="adj4" fmla="val 12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agent saves his own behavior and state and acts when called upon by scheduler or other 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06720" y="1854360"/>
            <a:ext cx="6243480" cy="825480"/>
          </a:xfrm>
          <a:prstGeom prst="borderCallout1">
            <a:avLst>
              <a:gd name="adj1" fmla="val 18750"/>
              <a:gd name="adj2" fmla="val -8333"/>
              <a:gd name="adj3" fmla="val 123625"/>
              <a:gd name="adj4" fmla="val -6879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vent loop is now embedded in an object that sends messages to agents and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rot="4062000">
            <a:off x="1023480" y="2897280"/>
            <a:ext cx="730440" cy="129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rot="9147600">
            <a:off x="1387080" y="2989080"/>
            <a:ext cx="728640" cy="91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849E-4816-4693-83D8-3609F40003A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B46CF6-6AD2-479C-94B0-D130C679D7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warm is an object that imp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asic Swarm simulation consists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89640" y="4529160"/>
            <a:ext cx="3809880" cy="129528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69000" y="492912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68880" y="4718160"/>
            <a:ext cx="520560" cy="5205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35560" y="506556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638680" y="4716360"/>
            <a:ext cx="52092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89600" y="5003640"/>
            <a:ext cx="520560" cy="52092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521400" y="485928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38840" y="4694400"/>
            <a:ext cx="689040" cy="655560"/>
          </a:xfrm>
          <a:prstGeom prst="rect">
            <a:avLst/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55520" y="423396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989320" y="5821200"/>
            <a:ext cx="23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nimate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67400" y="2608200"/>
            <a:ext cx="3809880" cy="1295640"/>
          </a:xfrm>
          <a:prstGeom prst="ellipse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638760" y="2789280"/>
            <a:ext cx="622440" cy="888840"/>
            <a:chOff x="6638760" y="2789280"/>
            <a:chExt cx="622440" cy="888840"/>
          </a:xfrm>
        </p:grpSpPr>
        <p:sp>
          <p:nvSpPr>
            <p:cNvPr id="232" name=""/>
            <p:cNvSpPr/>
            <p:nvPr/>
          </p:nvSpPr>
          <p:spPr>
            <a:xfrm>
              <a:off x="6638760" y="2789280"/>
              <a:ext cx="622440" cy="888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88080" y="288900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688080" y="329076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88080" y="3089160"/>
              <a:ext cx="523800" cy="1382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688080" y="3490920"/>
              <a:ext cx="523800" cy="136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5295960" y="2911320"/>
            <a:ext cx="901800" cy="74952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03960" y="3030480"/>
            <a:ext cx="660240" cy="546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48240" y="2746440"/>
            <a:ext cx="901800" cy="749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56240" y="2865600"/>
            <a:ext cx="660240" cy="545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69720" y="2206800"/>
            <a:ext cx="1203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94040" y="21304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791400" y="2889360"/>
            <a:ext cx="622080" cy="8888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40360" y="2989440"/>
            <a:ext cx="524160" cy="1378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40360" y="339084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40360" y="3189240"/>
            <a:ext cx="524160" cy="1382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40360" y="3591000"/>
            <a:ext cx="524160" cy="13644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264360" y="2011320"/>
            <a:ext cx="352440" cy="35244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"/>
          <p:cNvCxnSpPr>
            <a:stCxn id="248" idx="4"/>
            <a:endCxn id="230" idx="0"/>
          </p:cNvCxnSpPr>
          <p:nvPr/>
        </p:nvCxnSpPr>
        <p:spPr>
          <a:xfrm flipH="1" rot="16200000">
            <a:off x="6384240" y="2419200"/>
            <a:ext cx="244800" cy="13248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0" name=""/>
          <p:cNvCxnSpPr>
            <a:stCxn id="230" idx="4"/>
            <a:endCxn id="220" idx="0"/>
          </p:cNvCxnSpPr>
          <p:nvPr/>
        </p:nvCxnSpPr>
        <p:spPr>
          <a:xfrm rot="5400000">
            <a:off x="6220080" y="4177440"/>
            <a:ext cx="626040" cy="784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1" name=""/>
          <p:cNvCxnSpPr>
            <a:stCxn id="228" idx="1"/>
            <a:endCxn id="221" idx="3"/>
          </p:cNvCxnSpPr>
          <p:nvPr/>
        </p:nvCxnSpPr>
        <p:spPr>
          <a:xfrm flipH="1" flipV="1" rot="10800000">
            <a:off x="4655880" y="4461480"/>
            <a:ext cx="289440" cy="911880"/>
          </a:xfrm>
          <a:prstGeom prst="curvedConnector5">
            <a:avLst>
              <a:gd name="adj1" fmla="val -79078"/>
              <a:gd name="adj2" fmla="val 66706"/>
              <a:gd name="adj3" fmla="val -7907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29" idx="3"/>
            <a:endCxn id="227" idx="3"/>
          </p:cNvCxnSpPr>
          <p:nvPr/>
        </p:nvCxnSpPr>
        <p:spPr>
          <a:xfrm flipH="1" flipV="1">
            <a:off x="7427520" y="5022000"/>
            <a:ext cx="905760" cy="1027800"/>
          </a:xfrm>
          <a:prstGeom prst="curvedConnector5">
            <a:avLst>
              <a:gd name="adj1" fmla="val -25248"/>
              <a:gd name="adj2" fmla="val 50000"/>
              <a:gd name="adj3" fmla="val -2524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41" idx="1"/>
            <a:endCxn id="237" idx="1"/>
          </p:cNvCxnSpPr>
          <p:nvPr/>
        </p:nvCxnSpPr>
        <p:spPr>
          <a:xfrm flipH="1" flipV="1" rot="10800000">
            <a:off x="4871520" y="2434320"/>
            <a:ext cx="424800" cy="851400"/>
          </a:xfrm>
          <a:prstGeom prst="curvedConnector5">
            <a:avLst>
              <a:gd name="adj1" fmla="val -53859"/>
              <a:gd name="adj2" fmla="val 50000"/>
              <a:gd name="adj3" fmla="val -5385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2" idx="3"/>
            <a:endCxn id="243" idx="3"/>
          </p:cNvCxnSpPr>
          <p:nvPr/>
        </p:nvCxnSpPr>
        <p:spPr>
          <a:xfrm flipH="1">
            <a:off x="7412760" y="2358720"/>
            <a:ext cx="996120" cy="975240"/>
          </a:xfrm>
          <a:prstGeom prst="curvedConnector5">
            <a:avLst>
              <a:gd name="adj1" fmla="val -22957"/>
              <a:gd name="adj2" fmla="val 50000"/>
              <a:gd name="adj3" fmla="val -22957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7086240" y="373392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12560" y="56167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B5E2-7B25-4979-9588-A2312E4C9D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C763C-B17F-4DB9-AECD-9BC6B4FCB4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warm as a virtual compu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37240" y="2155680"/>
            <a:ext cx="1567080" cy="1154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840200" y="4437000"/>
            <a:ext cx="3251160" cy="77148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840200" y="3481560"/>
            <a:ext cx="3251160" cy="77148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836960" y="2155680"/>
            <a:ext cx="1568520" cy="1154160"/>
          </a:xfrm>
          <a:prstGeom prst="rect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68080" y="4632480"/>
            <a:ext cx="279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81280" y="3689280"/>
            <a:ext cx="2167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rm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3040" y="2857680"/>
            <a:ext cx="72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74560" y="2827440"/>
            <a:ext cx="1065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737240" y="2071800"/>
            <a:ext cx="3481200" cy="2243160"/>
          </a:xfrm>
          <a:prstGeom prst="rect">
            <a:avLst/>
          </a:prstGeom>
          <a:noFill/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310440" y="2571840"/>
            <a:ext cx="4093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348240" y="2906640"/>
            <a:ext cx="433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010120" y="2222640"/>
            <a:ext cx="917640" cy="652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116680" y="2274840"/>
            <a:ext cx="704520" cy="5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6520" y="2398680"/>
            <a:ext cx="599760" cy="335160"/>
          </a:xfrm>
          <a:custGeom>
            <a:avLst/>
            <a:gdLst/>
            <a:ahLst/>
            <a:rect l="l" t="t" r="r" b="b"/>
            <a:pathLst>
              <a:path w="378" h="211">
                <a:moveTo>
                  <a:pt x="0" y="211"/>
                </a:moveTo>
                <a:cubicBezTo>
                  <a:pt x="22" y="179"/>
                  <a:pt x="28" y="149"/>
                  <a:pt x="56" y="122"/>
                </a:cubicBezTo>
                <a:cubicBezTo>
                  <a:pt x="57" y="119"/>
                  <a:pt x="73" y="47"/>
                  <a:pt x="100" y="67"/>
                </a:cubicBezTo>
                <a:cubicBezTo>
                  <a:pt x="115" y="78"/>
                  <a:pt x="105" y="104"/>
                  <a:pt x="111" y="122"/>
                </a:cubicBezTo>
                <a:cubicBezTo>
                  <a:pt x="116" y="135"/>
                  <a:pt x="127" y="144"/>
                  <a:pt x="133" y="156"/>
                </a:cubicBezTo>
                <a:cubicBezTo>
                  <a:pt x="138" y="166"/>
                  <a:pt x="141" y="178"/>
                  <a:pt x="145" y="189"/>
                </a:cubicBezTo>
                <a:cubicBezTo>
                  <a:pt x="202" y="151"/>
                  <a:pt x="211" y="89"/>
                  <a:pt x="278" y="67"/>
                </a:cubicBezTo>
                <a:cubicBezTo>
                  <a:pt x="295" y="13"/>
                  <a:pt x="307" y="36"/>
                  <a:pt x="345" y="0"/>
                </a:cubicBezTo>
                <a:cubicBezTo>
                  <a:pt x="356" y="4"/>
                  <a:pt x="378" y="11"/>
                  <a:pt x="378" y="1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08680" y="254016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491240" y="2252520"/>
            <a:ext cx="246240" cy="246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2598840"/>
            <a:ext cx="246240" cy="245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4" idx="1"/>
            <a:endCxn id="272" idx="5"/>
          </p:cNvCxnSpPr>
          <p:nvPr/>
        </p:nvCxnSpPr>
        <p:spPr>
          <a:xfrm flipH="1">
            <a:off x="7017480" y="2635200"/>
            <a:ext cx="25812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2" idx="7"/>
            <a:endCxn id="273" idx="2"/>
          </p:cNvCxnSpPr>
          <p:nvPr/>
        </p:nvCxnSpPr>
        <p:spPr>
          <a:xfrm flipH="1" flipV="1" rot="5400000">
            <a:off x="7154280" y="2239560"/>
            <a:ext cx="200880" cy="473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7" name=""/>
          <p:cNvCxnSpPr>
            <a:stCxn id="274" idx="6"/>
            <a:endCxn id="273" idx="5"/>
          </p:cNvCxnSpPr>
          <p:nvPr/>
        </p:nvCxnSpPr>
        <p:spPr>
          <a:xfrm flipV="1">
            <a:off x="7485120" y="2461680"/>
            <a:ext cx="216720" cy="26136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mputer’s CPU executes program instr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kernel is virtual CPU running model and GUI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sted Swarms merge activity schedules into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34080" y="5261040"/>
            <a:ext cx="3251160" cy="77148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46200" y="5384880"/>
            <a:ext cx="826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9904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341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466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099120" y="500076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576432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7488360" y="32367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6657840" y="4165560"/>
            <a:ext cx="212760" cy="424080"/>
          </a:xfrm>
          <a:prstGeom prst="downArrow">
            <a:avLst>
              <a:gd name="adj1" fmla="val 50000"/>
              <a:gd name="adj2" fmla="val 49831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69000" y="5000040"/>
            <a:ext cx="212760" cy="423720"/>
          </a:xfrm>
          <a:prstGeom prst="downArrow">
            <a:avLst>
              <a:gd name="adj1" fmla="val 50000"/>
              <a:gd name="adj2" fmla="val 4978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11E-88C6-43AC-A382-39E86D18CBB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42971-9167-45EC-9231-2F899B753D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ctivity fra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bstractions that allow programmer to treat event scheduling in the artificial world as objects, separate from elements of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some useful shorthand to group actions and sort according to the desired order of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ce schedules are objects, all agents in simulation can communicate with them, to schedule future events or cause actions to be dropped based on specified contingen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9A0-2B07-46D6-931A-CD63A424B6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37681-4557-4DAE-8953-FAE4BE4489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7818480" y="5211360"/>
            <a:ext cx="1440" cy="5144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ements of Activity libr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ity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ordered set of “simultaneous” ev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ered set of events or groups of ev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lying VM executing schedu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62400" y="2152800"/>
            <a:ext cx="1714680" cy="971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23600" y="22129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23600" y="26510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91200" y="2152800"/>
            <a:ext cx="1714680" cy="47628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33320" y="219384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3800" y="4324320"/>
            <a:ext cx="36198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578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03900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50564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39200" y="3333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5" name=""/>
          <p:cNvCxnSpPr>
            <a:stCxn id="296" idx="2"/>
            <a:endCxn id="300" idx="7"/>
          </p:cNvCxnSpPr>
          <p:nvPr/>
        </p:nvCxnSpPr>
        <p:spPr>
          <a:xfrm rot="5400000">
            <a:off x="5038920" y="3537360"/>
            <a:ext cx="1119960" cy="261360"/>
          </a:xfrm>
          <a:prstGeom prst="bentConnector3">
            <a:avLst>
              <a:gd name="adj1" fmla="val 4836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6" name=""/>
          <p:cNvCxnSpPr>
            <a:stCxn id="296" idx="2"/>
            <a:endCxn id="301" idx="0"/>
          </p:cNvCxnSpPr>
          <p:nvPr/>
        </p:nvCxnSpPr>
        <p:spPr>
          <a:xfrm flipH="1" rot="16200000">
            <a:off x="5404680" y="3432600"/>
            <a:ext cx="1083240" cy="434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7" name=""/>
          <p:cNvCxnSpPr>
            <a:stCxn id="296" idx="2"/>
            <a:endCxn id="302" idx="0"/>
          </p:cNvCxnSpPr>
          <p:nvPr/>
        </p:nvCxnSpPr>
        <p:spPr>
          <a:xfrm flipH="1" rot="16200000">
            <a:off x="5775120" y="3061440"/>
            <a:ext cx="1083240" cy="1176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8" name=""/>
          <p:cNvCxnSpPr>
            <a:stCxn id="296" idx="2"/>
            <a:endCxn id="309" idx="0"/>
          </p:cNvCxnSpPr>
          <p:nvPr/>
        </p:nvCxnSpPr>
        <p:spPr>
          <a:xfrm flipH="1" rot="16200000">
            <a:off x="6184800" y="2651760"/>
            <a:ext cx="1083240" cy="1996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10" name=""/>
          <p:cNvCxnSpPr>
            <a:stCxn id="298" idx="2"/>
            <a:endCxn id="304" idx="0"/>
          </p:cNvCxnSpPr>
          <p:nvPr/>
        </p:nvCxnSpPr>
        <p:spPr>
          <a:xfrm flipH="1" rot="16200000">
            <a:off x="7203240" y="2774520"/>
            <a:ext cx="682920" cy="435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09" name=""/>
          <p:cNvSpPr/>
          <p:nvPr/>
        </p:nvSpPr>
        <p:spPr>
          <a:xfrm>
            <a:off x="7601040" y="4191120"/>
            <a:ext cx="247680" cy="247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62400" y="2647800"/>
            <a:ext cx="1714680" cy="12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896000" y="5734080"/>
            <a:ext cx="3619440" cy="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2196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0084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8168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77000" y="5600880"/>
            <a:ext cx="247680" cy="247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77000" y="5124600"/>
            <a:ext cx="247680" cy="2476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43440" y="1981080"/>
            <a:ext cx="304560" cy="304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76400" y="3467160"/>
            <a:ext cx="476280" cy="3240"/>
          </a:xfrm>
          <a:prstGeom prst="line">
            <a:avLst/>
          </a:prstGeom>
          <a:ln w="7632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28960" y="3467160"/>
            <a:ext cx="476280" cy="32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809880" y="4762440"/>
            <a:ext cx="476280" cy="3240"/>
          </a:xfrm>
          <a:prstGeom prst="line">
            <a:avLst/>
          </a:prstGeom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664E-5028-42B8-8360-DE190DCE2F8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900B9-1BFA-41B6-9B64-77370E7441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rst s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and overview of Swarm pro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ributions of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 structure of simulations in 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ck and dirty introduction to 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cumentation, resources, user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1EC-4C88-4202-8A4A-86518074E9E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4D1EC-4ABA-4CDC-A5B6-62096C4C61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rging schedules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chedules of each sub Swarm are merged into the schedule of next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ly all schedules are merged in the 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you to treat the model as a nested hierarchy of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7120" y="2433600"/>
            <a:ext cx="3660840" cy="17035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73480" y="299232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53200" y="3106800"/>
            <a:ext cx="307800" cy="2458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992920" y="3035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31920" y="393876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326280" y="3701880"/>
            <a:ext cx="1255680" cy="50040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646520" y="2000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453280" y="2577960"/>
            <a:ext cx="2387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op level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30" idx="2"/>
            <a:endCxn id="325" idx="2"/>
          </p:cNvCxnSpPr>
          <p:nvPr/>
        </p:nvCxnSpPr>
        <p:spPr>
          <a:xfrm rot="5400000">
            <a:off x="4755240" y="2774520"/>
            <a:ext cx="861120" cy="226440"/>
          </a:xfrm>
          <a:prstGeom prst="curvedConnector5">
            <a:avLst>
              <a:gd name="adj1" fmla="val 30991"/>
              <a:gd name="adj2" fmla="val 100636"/>
              <a:gd name="adj3" fmla="val 30991"/>
            </a:avLst>
          </a:prstGeom>
          <a:ln w="19080">
            <a:solidFill>
              <a:srgbClr val="000000"/>
            </a:solidFill>
            <a:miter/>
          </a:ln>
        </p:spPr>
      </p:cxnSp>
      <p:sp>
        <p:nvSpPr>
          <p:cNvPr id="333" name=""/>
          <p:cNvSpPr/>
          <p:nvPr/>
        </p:nvSpPr>
        <p:spPr>
          <a:xfrm>
            <a:off x="6464160" y="2959200"/>
            <a:ext cx="208080" cy="20772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21360" y="341784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62800" y="34131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943680" y="307188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307280" y="3279600"/>
            <a:ext cx="208080" cy="19080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9200" y="4341960"/>
            <a:ext cx="3660840" cy="17031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9" name=""/>
          <p:cNvCxnSpPr/>
          <p:nvPr/>
        </p:nvCxnSpPr>
        <p:spPr>
          <a:xfrm flipH="1" rot="10800000">
            <a:off x="5360040" y="3513960"/>
            <a:ext cx="51480" cy="1707480"/>
          </a:xfrm>
          <a:prstGeom prst="bentConnector4">
            <a:avLst>
              <a:gd name="adj1" fmla="val -450000"/>
              <a:gd name="adj2" fmla="val 59531"/>
            </a:avLst>
          </a:prstGeom>
          <a:ln w="9360">
            <a:solidFill>
              <a:srgbClr val="b2b2b2"/>
            </a:solidFill>
            <a:miter/>
          </a:ln>
        </p:spPr>
      </p:cxnSp>
      <p:sp>
        <p:nvSpPr>
          <p:cNvPr id="340" name=""/>
          <p:cNvSpPr/>
          <p:nvPr/>
        </p:nvSpPr>
        <p:spPr>
          <a:xfrm>
            <a:off x="5262480" y="488304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13400" y="4995720"/>
            <a:ext cx="307800" cy="27144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0080" y="460836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352560" y="4521240"/>
            <a:ext cx="1699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b 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62800" y="4975200"/>
            <a:ext cx="20772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154560" y="51688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645240" y="5410080"/>
            <a:ext cx="208080" cy="208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024680" y="517680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388280" y="5046840"/>
            <a:ext cx="208080" cy="19044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D594-F089-4679-91C0-570EBBF5FBE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B8A4C-4E34-4A90-A058-E804BD433E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aging memory in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location and deallocation of memory is a necessary feature in an OO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 provides libraries for this purpose which make the process transparent to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ic feature: Objects are created and destroyed using a notion of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mory z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dropping a memory zone can drop entire collections or sub Swa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376E-F357-4629-BB8A-63C7D299C0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ABC87-12D4-4528-924E-11888930EE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87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recursive structure of Swar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92520" y="1922400"/>
            <a:ext cx="3660840" cy="17035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16160" y="2568600"/>
            <a:ext cx="650880" cy="6508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32240" y="2562120"/>
            <a:ext cx="307800" cy="341280"/>
          </a:xfrm>
          <a:custGeom>
            <a:avLst/>
            <a:gdLst/>
            <a:ahLst/>
            <a:rect l="l" t="t" r="r" b="b"/>
            <a:pathLst>
              <a:path w="194" h="215">
                <a:moveTo>
                  <a:pt x="0" y="0"/>
                </a:moveTo>
                <a:lnTo>
                  <a:pt x="0" y="214"/>
                </a:lnTo>
                <a:lnTo>
                  <a:pt x="193" y="10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7960" y="234792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95760" y="265428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19840" y="2417760"/>
            <a:ext cx="20772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21080" y="3065400"/>
            <a:ext cx="208080" cy="2080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86520" y="2897280"/>
            <a:ext cx="207720" cy="2077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22320" y="4013280"/>
            <a:ext cx="2502000" cy="11271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44800" y="442116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102120" y="4818240"/>
            <a:ext cx="139680" cy="1346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75120" y="4071960"/>
            <a:ext cx="1378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346560" y="4317840"/>
            <a:ext cx="13968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71880" y="4357800"/>
            <a:ext cx="137880" cy="13320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60680" y="464508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05240" y="4573440"/>
            <a:ext cx="2502000" cy="116208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27720" y="5016600"/>
            <a:ext cx="441360" cy="441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043680" y="4863960"/>
            <a:ext cx="139680" cy="1396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303960" y="470052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104240" y="4896000"/>
            <a:ext cx="13968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251400" y="5356080"/>
            <a:ext cx="138240" cy="1382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92840" y="5070600"/>
            <a:ext cx="138240" cy="1378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2157480" y="3157560"/>
            <a:ext cx="2176560" cy="1003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317840" y="3157560"/>
            <a:ext cx="16200" cy="1428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535200" y="4551120"/>
            <a:ext cx="2891160" cy="15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86320" y="4721400"/>
            <a:ext cx="2006280" cy="850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70760" y="2392200"/>
            <a:ext cx="936360" cy="290520"/>
          </a:xfrm>
          <a:custGeom>
            <a:avLst/>
            <a:gdLst/>
            <a:ahLst/>
            <a:rect l="l" t="t" r="r" b="b"/>
            <a:pathLst>
              <a:path w="590" h="183">
                <a:moveTo>
                  <a:pt x="0" y="150"/>
                </a:moveTo>
                <a:lnTo>
                  <a:pt x="43" y="86"/>
                </a:lnTo>
                <a:lnTo>
                  <a:pt x="107" y="32"/>
                </a:lnTo>
                <a:lnTo>
                  <a:pt x="172" y="0"/>
                </a:lnTo>
                <a:lnTo>
                  <a:pt x="204" y="0"/>
                </a:lnTo>
                <a:lnTo>
                  <a:pt x="289" y="43"/>
                </a:lnTo>
                <a:lnTo>
                  <a:pt x="354" y="96"/>
                </a:lnTo>
                <a:lnTo>
                  <a:pt x="397" y="150"/>
                </a:lnTo>
                <a:lnTo>
                  <a:pt x="418" y="182"/>
                </a:lnTo>
                <a:lnTo>
                  <a:pt x="472" y="139"/>
                </a:lnTo>
                <a:lnTo>
                  <a:pt x="514" y="96"/>
                </a:lnTo>
                <a:lnTo>
                  <a:pt x="547" y="64"/>
                </a:lnTo>
                <a:lnTo>
                  <a:pt x="589" y="4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098840" y="222408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718880" y="3909960"/>
            <a:ext cx="1625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37000" y="3038400"/>
            <a:ext cx="614520" cy="733680"/>
          </a:xfrm>
          <a:custGeom>
            <a:avLst/>
            <a:gdLst/>
            <a:ahLst/>
            <a:rect l="l" t="t" r="r" b="b"/>
            <a:pathLst>
              <a:path w="387" h="462">
                <a:moveTo>
                  <a:pt x="0" y="0"/>
                </a:moveTo>
                <a:lnTo>
                  <a:pt x="54" y="0"/>
                </a:lnTo>
                <a:lnTo>
                  <a:pt x="97" y="21"/>
                </a:lnTo>
                <a:lnTo>
                  <a:pt x="129" y="53"/>
                </a:lnTo>
                <a:lnTo>
                  <a:pt x="161" y="118"/>
                </a:lnTo>
                <a:lnTo>
                  <a:pt x="161" y="236"/>
                </a:lnTo>
                <a:lnTo>
                  <a:pt x="150" y="353"/>
                </a:lnTo>
                <a:lnTo>
                  <a:pt x="140" y="418"/>
                </a:lnTo>
                <a:lnTo>
                  <a:pt x="161" y="450"/>
                </a:lnTo>
                <a:lnTo>
                  <a:pt x="215" y="461"/>
                </a:lnTo>
                <a:lnTo>
                  <a:pt x="279" y="461"/>
                </a:lnTo>
                <a:lnTo>
                  <a:pt x="322" y="461"/>
                </a:lnTo>
                <a:lnTo>
                  <a:pt x="354" y="461"/>
                </a:lnTo>
                <a:lnTo>
                  <a:pt x="386" y="43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25240" y="3516480"/>
            <a:ext cx="930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1320" y="3191040"/>
            <a:ext cx="426960" cy="817560"/>
          </a:xfrm>
          <a:custGeom>
            <a:avLst/>
            <a:gdLst/>
            <a:ahLst/>
            <a:rect l="l" t="t" r="r" b="b"/>
            <a:pathLst>
              <a:path w="269" h="515">
                <a:moveTo>
                  <a:pt x="0" y="0"/>
                </a:moveTo>
                <a:lnTo>
                  <a:pt x="86" y="75"/>
                </a:lnTo>
                <a:lnTo>
                  <a:pt x="129" y="118"/>
                </a:lnTo>
                <a:lnTo>
                  <a:pt x="139" y="161"/>
                </a:lnTo>
                <a:lnTo>
                  <a:pt x="129" y="247"/>
                </a:lnTo>
                <a:lnTo>
                  <a:pt x="96" y="343"/>
                </a:lnTo>
                <a:lnTo>
                  <a:pt x="75" y="407"/>
                </a:lnTo>
                <a:lnTo>
                  <a:pt x="75" y="450"/>
                </a:lnTo>
                <a:lnTo>
                  <a:pt x="86" y="482"/>
                </a:lnTo>
                <a:lnTo>
                  <a:pt x="171" y="504"/>
                </a:lnTo>
                <a:lnTo>
                  <a:pt x="204" y="514"/>
                </a:lnTo>
                <a:lnTo>
                  <a:pt x="246" y="514"/>
                </a:lnTo>
                <a:lnTo>
                  <a:pt x="268" y="5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513160" y="152388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819520" y="1905120"/>
            <a:ext cx="393480" cy="879480"/>
          </a:xfrm>
          <a:custGeom>
            <a:avLst/>
            <a:gdLst/>
            <a:ahLst/>
            <a:rect l="l" t="t" r="r" b="b"/>
            <a:pathLst>
              <a:path w="419" h="408">
                <a:moveTo>
                  <a:pt x="418" y="407"/>
                </a:moveTo>
                <a:lnTo>
                  <a:pt x="407" y="343"/>
                </a:lnTo>
                <a:lnTo>
                  <a:pt x="397" y="311"/>
                </a:lnTo>
                <a:lnTo>
                  <a:pt x="386" y="289"/>
                </a:lnTo>
                <a:lnTo>
                  <a:pt x="365" y="257"/>
                </a:lnTo>
                <a:lnTo>
                  <a:pt x="322" y="225"/>
                </a:lnTo>
                <a:lnTo>
                  <a:pt x="279" y="214"/>
                </a:lnTo>
                <a:lnTo>
                  <a:pt x="236" y="204"/>
                </a:lnTo>
                <a:lnTo>
                  <a:pt x="193" y="204"/>
                </a:lnTo>
                <a:lnTo>
                  <a:pt x="150" y="204"/>
                </a:lnTo>
                <a:lnTo>
                  <a:pt x="108" y="204"/>
                </a:lnTo>
                <a:lnTo>
                  <a:pt x="86" y="204"/>
                </a:lnTo>
                <a:lnTo>
                  <a:pt x="54" y="182"/>
                </a:lnTo>
                <a:lnTo>
                  <a:pt x="22" y="140"/>
                </a:lnTo>
                <a:lnTo>
                  <a:pt x="11" y="118"/>
                </a:lnTo>
                <a:lnTo>
                  <a:pt x="11" y="86"/>
                </a:lnTo>
                <a:lnTo>
                  <a:pt x="11" y="43"/>
                </a:lnTo>
                <a:lnTo>
                  <a:pt x="11" y="11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057400" y="4419720"/>
            <a:ext cx="324000" cy="222120"/>
          </a:xfrm>
          <a:custGeom>
            <a:avLst/>
            <a:gdLst/>
            <a:ahLst/>
            <a:rect l="l" t="t" r="r" b="b"/>
            <a:pathLst>
              <a:path w="204" h="140">
                <a:moveTo>
                  <a:pt x="0" y="86"/>
                </a:moveTo>
                <a:lnTo>
                  <a:pt x="150" y="139"/>
                </a:lnTo>
                <a:lnTo>
                  <a:pt x="20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423040" y="5181480"/>
            <a:ext cx="291960" cy="255600"/>
          </a:xfrm>
          <a:custGeom>
            <a:avLst/>
            <a:gdLst/>
            <a:ahLst/>
            <a:rect l="l" t="t" r="r" b="b"/>
            <a:pathLst>
              <a:path w="151" h="130">
                <a:moveTo>
                  <a:pt x="0" y="0"/>
                </a:moveTo>
                <a:lnTo>
                  <a:pt x="150" y="11"/>
                </a:lnTo>
                <a:lnTo>
                  <a:pt x="75" y="1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003320" y="2617920"/>
            <a:ext cx="1401840" cy="718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174680" y="2838600"/>
            <a:ext cx="243000" cy="279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168560" y="2849400"/>
            <a:ext cx="182520" cy="142920"/>
          </a:xfrm>
          <a:custGeom>
            <a:avLst/>
            <a:gdLst/>
            <a:ahLst/>
            <a:rect l="l" t="t" r="r" b="b"/>
            <a:pathLst>
              <a:path w="115" h="90">
                <a:moveTo>
                  <a:pt x="0" y="55"/>
                </a:moveTo>
                <a:lnTo>
                  <a:pt x="84" y="89"/>
                </a:lnTo>
                <a:lnTo>
                  <a:pt x="11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550880" y="287352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73080" y="2770200"/>
            <a:ext cx="208080" cy="344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060560" y="3382920"/>
            <a:ext cx="1955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669640" y="1646280"/>
            <a:ext cx="1599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517920" y="4295880"/>
            <a:ext cx="1344600" cy="376200"/>
          </a:xfrm>
          <a:custGeom>
            <a:avLst/>
            <a:gdLst/>
            <a:ahLst/>
            <a:rect l="l" t="t" r="r" b="b"/>
            <a:pathLst>
              <a:path w="847" h="237">
                <a:moveTo>
                  <a:pt x="0" y="236"/>
                </a:moveTo>
                <a:lnTo>
                  <a:pt x="11" y="182"/>
                </a:lnTo>
                <a:lnTo>
                  <a:pt x="43" y="129"/>
                </a:lnTo>
                <a:lnTo>
                  <a:pt x="86" y="97"/>
                </a:lnTo>
                <a:lnTo>
                  <a:pt x="128" y="86"/>
                </a:lnTo>
                <a:lnTo>
                  <a:pt x="150" y="97"/>
                </a:lnTo>
                <a:lnTo>
                  <a:pt x="182" y="118"/>
                </a:lnTo>
                <a:lnTo>
                  <a:pt x="214" y="129"/>
                </a:lnTo>
                <a:lnTo>
                  <a:pt x="246" y="161"/>
                </a:lnTo>
                <a:lnTo>
                  <a:pt x="268" y="172"/>
                </a:lnTo>
                <a:lnTo>
                  <a:pt x="300" y="172"/>
                </a:lnTo>
                <a:lnTo>
                  <a:pt x="353" y="182"/>
                </a:lnTo>
                <a:lnTo>
                  <a:pt x="396" y="193"/>
                </a:lnTo>
                <a:lnTo>
                  <a:pt x="450" y="193"/>
                </a:lnTo>
                <a:lnTo>
                  <a:pt x="514" y="182"/>
                </a:lnTo>
                <a:lnTo>
                  <a:pt x="557" y="182"/>
                </a:lnTo>
                <a:lnTo>
                  <a:pt x="600" y="172"/>
                </a:lnTo>
                <a:lnTo>
                  <a:pt x="632" y="161"/>
                </a:lnTo>
                <a:lnTo>
                  <a:pt x="675" y="139"/>
                </a:lnTo>
                <a:lnTo>
                  <a:pt x="707" y="118"/>
                </a:lnTo>
                <a:lnTo>
                  <a:pt x="750" y="97"/>
                </a:lnTo>
                <a:lnTo>
                  <a:pt x="782" y="65"/>
                </a:lnTo>
                <a:lnTo>
                  <a:pt x="825" y="32"/>
                </a:lnTo>
                <a:lnTo>
                  <a:pt x="846" y="0"/>
                </a:lnTo>
                <a:lnTo>
                  <a:pt x="814" y="2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37720" y="1981080"/>
            <a:ext cx="1015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7" name=""/>
          <p:cNvCxnSpPr>
            <a:stCxn id="396" idx="2"/>
            <a:endCxn id="391" idx="0"/>
          </p:cNvCxnSpPr>
          <p:nvPr/>
        </p:nvCxnSpPr>
        <p:spPr>
          <a:xfrm flipH="1" rot="16200000">
            <a:off x="1283040" y="2500560"/>
            <a:ext cx="435960" cy="310320"/>
          </a:xfrm>
          <a:prstGeom prst="curvedConnector5">
            <a:avLst>
              <a:gd name="adj1" fmla="val 50000"/>
              <a:gd name="adj2" fmla="val 4994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8" name=""/>
          <p:cNvCxnSpPr/>
          <p:nvPr/>
        </p:nvCxnSpPr>
        <p:spPr>
          <a:xfrm flipH="1" rot="16200000">
            <a:off x="1613880" y="2424600"/>
            <a:ext cx="435600" cy="310320"/>
          </a:xfrm>
          <a:prstGeom prst="curvedConnector5">
            <a:avLst>
              <a:gd name="adj1" fmla="val 49958"/>
              <a:gd name="adj2" fmla="val 49941"/>
              <a:gd name="adj3" fmla="val 4995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99" name=""/>
          <p:cNvSpPr/>
          <p:nvPr/>
        </p:nvSpPr>
        <p:spPr>
          <a:xfrm>
            <a:off x="6552360" y="4168800"/>
            <a:ext cx="215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-sub-Swa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5A04-A7A3-4E4B-9C5D-CCA7FB8154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61D19-F7EF-423D-BBCD-2708E54E2B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agents and objects in Swarm can be prob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 attaches itself to an agent, can send a message, change a variable or retrieve values by calling agent or reading variable direc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b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76920" y="3657600"/>
            <a:ext cx="1523880" cy="213372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2067600">
            <a:off x="5790960" y="2742840"/>
            <a:ext cx="304560" cy="1295280"/>
          </a:xfrm>
          <a:prstGeom prst="cube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2290200">
            <a:off x="5562360" y="2514600"/>
            <a:ext cx="1600200" cy="53352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 rot="17278800">
            <a:off x="7010280" y="1447920"/>
            <a:ext cx="914400" cy="1828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3124080"/>
            <a:ext cx="1371600" cy="99072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=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5257800" y="4648320"/>
            <a:ext cx="676440" cy="35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74E6-9C59-44B8-9E84-C58E5F2C65C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FA88E7-C760-4D52-8A15-BD069E9466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and the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be can be used to communicate with objects in real time through a graphical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faul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be ma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gent shows all variables and functions - can also customize disp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338880" y="4484160"/>
            <a:ext cx="976320" cy="48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78400" y="5121360"/>
            <a:ext cx="779400" cy="1092240"/>
          </a:xfrm>
          <a:prstGeom prst="can">
            <a:avLst>
              <a:gd name="adj" fmla="val 25000"/>
            </a:avLst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2067600">
            <a:off x="4963680" y="4689000"/>
            <a:ext cx="155520" cy="66204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2290200">
            <a:off x="4846320" y="4571640"/>
            <a:ext cx="819000" cy="272880"/>
          </a:xfrm>
          <a:prstGeom prst="can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95760" y="5568840"/>
            <a:ext cx="50472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Ag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415" name=""/>
          <p:cNvSpPr/>
          <p:nvPr/>
        </p:nvSpPr>
        <p:spPr>
          <a:xfrm rot="2067600">
            <a:off x="5495400" y="3759120"/>
            <a:ext cx="152640" cy="96696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5791320" y="2438280"/>
            <a:ext cx="2260440" cy="27082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636520" y="5562720"/>
            <a:ext cx="19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s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5867280" y="49525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216840" y="5234040"/>
            <a:ext cx="25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value for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7086600" y="4495320"/>
            <a:ext cx="4572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412880" y="1981080"/>
            <a:ext cx="23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n probe fo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80600" y="1981080"/>
            <a:ext cx="140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 pro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2362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9BF-7372-4423-995E-EA7DE190FB2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764F8-81E3-416E-8B19-16EDDEA178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es without a GU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es are also used to gather information dynamically from single agents or collection of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ong other features is the ability to define and execute method calls on the fly at run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005600">
            <a:off x="5103360" y="2511000"/>
            <a:ext cx="1420920" cy="7682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124400">
            <a:off x="5622840" y="3301920"/>
            <a:ext cx="157320" cy="1305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897600">
            <a:off x="4150800" y="4527360"/>
            <a:ext cx="4135680" cy="76824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29240" y="440064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447660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9920" y="4514760"/>
            <a:ext cx="571320" cy="5716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459108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72440" y="4648320"/>
            <a:ext cx="571320" cy="5713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rot="6522000">
            <a:off x="6922440" y="2674800"/>
            <a:ext cx="206640" cy="981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372440" y="2495520"/>
            <a:ext cx="1066680" cy="11239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386240" y="535608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124600" y="5718240"/>
            <a:ext cx="25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llec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32440" y="1984320"/>
            <a:ext cx="35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analyze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147080" y="3660840"/>
            <a:ext cx="163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o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7" idx="1"/>
            <a:endCxn id="430" idx="3"/>
          </p:cNvCxnSpPr>
          <p:nvPr/>
        </p:nvCxnSpPr>
        <p:spPr>
          <a:xfrm flipH="1" rot="10800000">
            <a:off x="4384440" y="4887360"/>
            <a:ext cx="329040" cy="697320"/>
          </a:xfrm>
          <a:prstGeom prst="curvedConnector5">
            <a:avLst>
              <a:gd name="adj1" fmla="val -69550"/>
              <a:gd name="adj2" fmla="val 30165"/>
              <a:gd name="adj3" fmla="val -6955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2" name=""/>
          <p:cNvCxnSpPr>
            <a:stCxn id="438" idx="3"/>
            <a:endCxn id="429" idx="3"/>
          </p:cNvCxnSpPr>
          <p:nvPr/>
        </p:nvCxnSpPr>
        <p:spPr>
          <a:xfrm flipV="1">
            <a:off x="7626240" y="5444640"/>
            <a:ext cx="589680" cy="502560"/>
          </a:xfrm>
          <a:prstGeom prst="curvedConnector5">
            <a:avLst>
              <a:gd name="adj1" fmla="val 155772"/>
              <a:gd name="adj2" fmla="val 49964"/>
              <a:gd name="adj3" fmla="val 1557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43" name=""/>
          <p:cNvCxnSpPr>
            <a:stCxn id="439" idx="1"/>
            <a:endCxn id="427" idx="1"/>
          </p:cNvCxnSpPr>
          <p:nvPr/>
        </p:nvCxnSpPr>
        <p:spPr>
          <a:xfrm flipH="1" flipV="1" rot="10800000">
            <a:off x="5032080" y="2211840"/>
            <a:ext cx="102240" cy="477000"/>
          </a:xfrm>
          <a:prstGeom prst="curvedConnector5">
            <a:avLst>
              <a:gd name="adj1" fmla="val -234275"/>
              <a:gd name="adj2" fmla="val 50000"/>
              <a:gd name="adj3" fmla="val -23427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44" name=""/>
          <p:cNvSpPr/>
          <p:nvPr/>
        </p:nvSpPr>
        <p:spPr>
          <a:xfrm>
            <a:off x="4309920" y="35654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5" name=""/>
          <p:cNvCxnSpPr>
            <a:stCxn id="444" idx="2"/>
            <a:endCxn id="428" idx="1"/>
          </p:cNvCxnSpPr>
          <p:nvPr/>
        </p:nvCxnSpPr>
        <p:spPr>
          <a:xfrm flipH="1" flipV="1" rot="5400000">
            <a:off x="5143320" y="3539880"/>
            <a:ext cx="95760" cy="870480"/>
          </a:xfrm>
          <a:prstGeom prst="curvedConnector5">
            <a:avLst>
              <a:gd name="adj1" fmla="val -240000"/>
              <a:gd name="adj2" fmla="val 31816"/>
              <a:gd name="adj3" fmla="val -24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F2E2-54DC-4B43-BC94-6595078B1B5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6112D-B082-4D73-861A-592F47CB5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aphical User Interf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 provided to create and man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stogr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ster im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rap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collection, calculation and updating is provided through support objects to the GUI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ezgraph" descr=""/>
          <p:cNvPicPr/>
          <p:nvPr/>
        </p:nvPicPr>
        <p:blipFill>
          <a:blip r:embed="rId1"/>
          <a:stretch/>
        </p:blipFill>
        <p:spPr>
          <a:xfrm>
            <a:off x="4626000" y="1933560"/>
            <a:ext cx="2590920" cy="1739880"/>
          </a:xfrm>
          <a:prstGeom prst="rect">
            <a:avLst/>
          </a:prstGeom>
          <a:ln w="0">
            <a:noFill/>
          </a:ln>
        </p:spPr>
      </p:pic>
      <p:pic>
        <p:nvPicPr>
          <p:cNvPr id="449" name="ezbin" descr=""/>
          <p:cNvPicPr/>
          <p:nvPr/>
        </p:nvPicPr>
        <p:blipFill>
          <a:blip r:embed="rId2"/>
          <a:stretch/>
        </p:blipFill>
        <p:spPr>
          <a:xfrm>
            <a:off x="5600880" y="3081240"/>
            <a:ext cx="2628720" cy="178452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4508640" y="4102200"/>
            <a:ext cx="2025360" cy="204300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3"/>
          <a:stretch/>
        </p:blipFill>
        <p:spPr>
          <a:xfrm>
            <a:off x="4583160" y="4184640"/>
            <a:ext cx="1876320" cy="187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03C-D298-458C-9FC7-3183962FA7A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35E3B-0EE0-45EF-B891-D72F5B24C5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 rot="1124400">
            <a:off x="5663880" y="322848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124400">
            <a:off x="6883200" y="328572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469200" y="3790800"/>
            <a:ext cx="641160" cy="67644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124400">
            <a:off x="6578280" y="4390560"/>
            <a:ext cx="95040" cy="78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005600">
            <a:off x="5028840" y="3762000"/>
            <a:ext cx="853920" cy="46188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eding data to the GUI widg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124400">
            <a:off x="5340240" y="4238280"/>
            <a:ext cx="95400" cy="784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897600">
            <a:off x="4456080" y="4974840"/>
            <a:ext cx="2486160" cy="46188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43360" y="4898880"/>
            <a:ext cx="34308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167440" y="4944960"/>
            <a:ext cx="342720" cy="34308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80000" y="4967280"/>
            <a:ext cx="343080" cy="3445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991120" y="5013360"/>
            <a:ext cx="3445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392880" y="5048280"/>
            <a:ext cx="342720" cy="34272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ezgraph" descr=""/>
          <p:cNvPicPr/>
          <p:nvPr/>
        </p:nvPicPr>
        <p:blipFill>
          <a:blip r:embed="rId1"/>
          <a:stretch/>
        </p:blipFill>
        <p:spPr>
          <a:xfrm>
            <a:off x="5254560" y="1895400"/>
            <a:ext cx="2590920" cy="173988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7357320" y="387036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604320" y="3508200"/>
            <a:ext cx="131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05000" y="4327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262640" y="49179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33640" y="537516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64720" y="55468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2" name=""/>
          <p:cNvCxnSpPr>
            <a:stCxn id="468" idx="3"/>
            <a:endCxn id="458" idx="1"/>
          </p:cNvCxnSpPr>
          <p:nvPr/>
        </p:nvCxnSpPr>
        <p:spPr>
          <a:xfrm>
            <a:off x="4898520" y="4555800"/>
            <a:ext cx="443880" cy="59400"/>
          </a:xfrm>
          <a:prstGeom prst="curvedConnector5">
            <a:avLst>
              <a:gd name="adj1" fmla="val 35795"/>
              <a:gd name="adj2" fmla="val 50000"/>
              <a:gd name="adj3" fmla="val 357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3" name=""/>
          <p:cNvCxnSpPr>
            <a:stCxn id="469" idx="1"/>
            <a:endCxn id="455" idx="3"/>
          </p:cNvCxnSpPr>
          <p:nvPr/>
        </p:nvCxnSpPr>
        <p:spPr>
          <a:xfrm rot="10800000">
            <a:off x="6670080" y="4796640"/>
            <a:ext cx="591120" cy="349920"/>
          </a:xfrm>
          <a:prstGeom prst="curvedConnector5">
            <a:avLst>
              <a:gd name="adj1" fmla="val 39244"/>
              <a:gd name="adj2" fmla="val 49948"/>
              <a:gd name="adj3" fmla="val 3924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4" name=""/>
          <p:cNvCxnSpPr>
            <a:stCxn id="470" idx="2"/>
            <a:endCxn id="461" idx="4"/>
          </p:cNvCxnSpPr>
          <p:nvPr/>
        </p:nvCxnSpPr>
        <p:spPr>
          <a:xfrm flipH="1" flipV="1" rot="5400000">
            <a:off x="4544640" y="5038920"/>
            <a:ext cx="545040" cy="1042200"/>
          </a:xfrm>
          <a:prstGeom prst="curvedConnector5">
            <a:avLst>
              <a:gd name="adj1" fmla="val -41969"/>
              <a:gd name="adj2" fmla="val 50000"/>
              <a:gd name="adj3" fmla="val -41969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5" name=""/>
          <p:cNvCxnSpPr>
            <a:stCxn id="471" idx="2"/>
            <a:endCxn id="459" idx="3"/>
          </p:cNvCxnSpPr>
          <p:nvPr/>
        </p:nvCxnSpPr>
        <p:spPr>
          <a:xfrm flipV="1" rot="16200000">
            <a:off x="7156080" y="5268240"/>
            <a:ext cx="478800" cy="992880"/>
          </a:xfrm>
          <a:prstGeom prst="curvedConnector5">
            <a:avLst>
              <a:gd name="adj1" fmla="val -47780"/>
              <a:gd name="adj2" fmla="val 41748"/>
              <a:gd name="adj3" fmla="val -4778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6" name=""/>
          <p:cNvCxnSpPr>
            <a:stCxn id="467" idx="0"/>
            <a:endCxn id="456" idx="1"/>
          </p:cNvCxnSpPr>
          <p:nvPr/>
        </p:nvCxnSpPr>
        <p:spPr>
          <a:xfrm flipH="1" rot="16200000">
            <a:off x="4474080" y="3295080"/>
            <a:ext cx="361080" cy="785160"/>
          </a:xfrm>
          <a:prstGeom prst="curvedConnector5">
            <a:avLst>
              <a:gd name="adj1" fmla="val -63373"/>
              <a:gd name="adj2" fmla="val 43807"/>
              <a:gd name="adj3" fmla="val -6337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7" name=""/>
          <p:cNvCxnSpPr>
            <a:stCxn id="466" idx="0"/>
            <a:endCxn id="454" idx="6"/>
          </p:cNvCxnSpPr>
          <p:nvPr/>
        </p:nvCxnSpPr>
        <p:spPr>
          <a:xfrm rot="5400000">
            <a:off x="7432920" y="3546360"/>
            <a:ext cx="259560" cy="905760"/>
          </a:xfrm>
          <a:prstGeom prst="curvedConnector5">
            <a:avLst>
              <a:gd name="adj1" fmla="val -88333"/>
              <a:gd name="adj2" fmla="val 43220"/>
              <a:gd name="adj3" fmla="val -88333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78" name=""/>
          <p:cNvSpPr/>
          <p:nvPr/>
        </p:nvSpPr>
        <p:spPr>
          <a:xfrm>
            <a:off x="3681720" y="2498760"/>
            <a:ext cx="101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8" idx="0"/>
            <a:endCxn id="465" idx="1"/>
          </p:cNvCxnSpPr>
          <p:nvPr/>
        </p:nvCxnSpPr>
        <p:spPr>
          <a:xfrm flipH="1" rot="16200000">
            <a:off x="4589640" y="2098800"/>
            <a:ext cx="267120" cy="1064160"/>
          </a:xfrm>
          <a:prstGeom prst="curvedConnector5">
            <a:avLst>
              <a:gd name="adj1" fmla="val -85695"/>
              <a:gd name="adj2" fmla="val 36988"/>
              <a:gd name="adj3" fmla="val -8569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308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 on graphs or other widgets relies heavily on the probes and dynamic access to agent’s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arm collection objects also facilitate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2745-0F0A-4117-80AA-AC4AF2A3B8C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26E796-E2AD-4253-970F-383135247D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Objective-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story: Created by Brad Cox, most intensively used by NeXT, now owned by Apple Computer and forms basis for Mac OS X (Rhapso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difference between C++ and Objective-C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learn: A simple superclass of C - no new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interpreted: Dynamic binding at runtime for objects and methods. Static typing opt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D2E-9140-4C51-B9BC-2EA3C0E1C03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28923-E6F0-46D6-B833-3818D475A1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riting objects in Objective-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object is defined in terms of it’s interface and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rogram or project consists of a collection of object declarations and definitions (*.h and *.m fi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WATCHC1" descr=""/>
          <p:cNvPicPr/>
          <p:nvPr/>
        </p:nvPicPr>
        <p:blipFill>
          <a:blip r:embed="rId1"/>
          <a:stretch/>
        </p:blipFill>
        <p:spPr>
          <a:xfrm>
            <a:off x="1481040" y="1854360"/>
            <a:ext cx="1838520" cy="140940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718200" y="565308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ce: *.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40160" y="3149640"/>
            <a:ext cx="2082600" cy="226044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mple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82760" y="3301920"/>
            <a:ext cx="2133360" cy="2324160"/>
          </a:xfrm>
          <a:prstGeom prst="foldedCorner">
            <a:avLst>
              <a:gd name="adj" fmla="val 125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@interfa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clar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inst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9" name=""/>
          <p:cNvCxnSpPr/>
          <p:nvPr/>
        </p:nvCxnSpPr>
        <p:spPr>
          <a:xfrm flipH="1" flipV="1" rot="10800000">
            <a:off x="1722240" y="2583360"/>
            <a:ext cx="81360" cy="1010520"/>
          </a:xfrm>
          <a:prstGeom prst="bentConnector4">
            <a:avLst>
              <a:gd name="adj1" fmla="val -282222"/>
              <a:gd name="adj2" fmla="val 84889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0" name=""/>
          <p:cNvCxnSpPr/>
          <p:nvPr/>
        </p:nvCxnSpPr>
        <p:spPr>
          <a:xfrm>
            <a:off x="3002040" y="2584440"/>
            <a:ext cx="148320" cy="78192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1" name=""/>
          <p:cNvSpPr/>
          <p:nvPr/>
        </p:nvSpPr>
        <p:spPr>
          <a:xfrm>
            <a:off x="2494440" y="5386320"/>
            <a:ext cx="231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: *.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456-E5E8-45E3-ABD2-EC8FA7A0D2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48E9F-E89E-43E9-BF54-D9B623B0E4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for the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 structure of a Swarm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contributions of the Swarm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management: Swarms, Activity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management: Prob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input and output: GUI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management: Creation/destr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multiple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B57C-8C8A-4A5E-8218-3177071312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76F82-F020-4E61-9012-C355235558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571680" y="4324320"/>
            <a:ext cx="4095720" cy="7621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71680" y="2666880"/>
            <a:ext cx="4133520" cy="10479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971800" y="2171880"/>
            <a:ext cx="16192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2171880"/>
            <a:ext cx="514080" cy="361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few Objective-C bas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46640" y="2543040"/>
            <a:ext cx="541440" cy="5414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088040" y="3319560"/>
            <a:ext cx="541440" cy="541080"/>
          </a:xfrm>
          <a:prstGeom prst="ellipse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337000" y="3336840"/>
            <a:ext cx="541440" cy="54144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0" name=""/>
          <p:cNvCxnSpPr>
            <a:stCxn id="497" idx="4"/>
            <a:endCxn id="499" idx="0"/>
          </p:cNvCxnSpPr>
          <p:nvPr/>
        </p:nvCxnSpPr>
        <p:spPr>
          <a:xfrm rot="5400000">
            <a:off x="5886720" y="2805480"/>
            <a:ext cx="253080" cy="810360"/>
          </a:xfrm>
          <a:prstGeom prst="bentConnector3">
            <a:avLst>
              <a:gd name="adj1" fmla="val 4957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97" idx="4"/>
            <a:endCxn id="498" idx="0"/>
          </p:cNvCxnSpPr>
          <p:nvPr/>
        </p:nvCxnSpPr>
        <p:spPr>
          <a:xfrm flipH="1" rot="16200000">
            <a:off x="6771240" y="2730960"/>
            <a:ext cx="235800" cy="941760"/>
          </a:xfrm>
          <a:prstGeom prst="bentConnector3">
            <a:avLst>
              <a:gd name="adj1" fmla="val 5535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02" name=""/>
          <p:cNvSpPr/>
          <p:nvPr/>
        </p:nvSpPr>
        <p:spPr>
          <a:xfrm>
            <a:off x="605160" y="2208240"/>
            <a:ext cx="4295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 : 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 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146560" y="4226040"/>
            <a:ext cx="1363680" cy="139068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238720" y="49528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5" name=""/>
          <p:cNvCxnSpPr>
            <a:endCxn id="493" idx="3"/>
          </p:cNvCxnSpPr>
          <p:nvPr/>
        </p:nvCxnSpPr>
        <p:spPr>
          <a:xfrm rot="10800000">
            <a:off x="4704480" y="3191040"/>
            <a:ext cx="515160" cy="1390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endCxn id="492" idx="3"/>
          </p:cNvCxnSpPr>
          <p:nvPr/>
        </p:nvCxnSpPr>
        <p:spPr>
          <a:xfrm rot="10800000">
            <a:off x="4666680" y="4704480"/>
            <a:ext cx="552960" cy="457920"/>
          </a:xfrm>
          <a:prstGeom prst="bentConnector3">
            <a:avLst>
              <a:gd name="adj1" fmla="val 499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7" name=""/>
          <p:cNvCxnSpPr>
            <a:stCxn id="497" idx="0"/>
            <a:endCxn id="494" idx="0"/>
          </p:cNvCxnSpPr>
          <p:nvPr/>
        </p:nvCxnSpPr>
        <p:spPr>
          <a:xfrm flipV="1" rot="16200000">
            <a:off x="4913640" y="1038240"/>
            <a:ext cx="371880" cy="2637720"/>
          </a:xfrm>
          <a:prstGeom prst="bentConnector3">
            <a:avLst>
              <a:gd name="adj1" fmla="val 16153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8" name=""/>
          <p:cNvCxnSpPr>
            <a:stCxn id="499" idx="2"/>
            <a:endCxn id="495" idx="0"/>
          </p:cNvCxnSpPr>
          <p:nvPr/>
        </p:nvCxnSpPr>
        <p:spPr>
          <a:xfrm rot="10800000">
            <a:off x="2390040" y="2171160"/>
            <a:ext cx="2946960" cy="1437120"/>
          </a:xfrm>
          <a:prstGeom prst="bentConnector4">
            <a:avLst>
              <a:gd name="adj1" fmla="val 6841"/>
              <a:gd name="adj2" fmla="val 13179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9" name=""/>
          <p:cNvSpPr/>
          <p:nvPr/>
        </p:nvSpPr>
        <p:spPr>
          <a:xfrm>
            <a:off x="6842160" y="236520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052400" y="4022640"/>
            <a:ext cx="15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089840" y="4651200"/>
            <a:ext cx="135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785640" y="579420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3" name=""/>
          <p:cNvCxnSpPr>
            <a:stCxn id="512" idx="1"/>
            <a:endCxn id="503" idx="4"/>
          </p:cNvCxnSpPr>
          <p:nvPr/>
        </p:nvCxnSpPr>
        <p:spPr>
          <a:xfrm rot="10800000">
            <a:off x="5828760" y="5616000"/>
            <a:ext cx="956160" cy="40680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4" name=""/>
          <p:cNvCxnSpPr>
            <a:stCxn id="511" idx="1"/>
            <a:endCxn id="503" idx="7"/>
          </p:cNvCxnSpPr>
          <p:nvPr/>
        </p:nvCxnSpPr>
        <p:spPr>
          <a:xfrm rot="10800000">
            <a:off x="6309720" y="4428360"/>
            <a:ext cx="780120" cy="634320"/>
          </a:xfrm>
          <a:prstGeom prst="curvedConnector5">
            <a:avLst>
              <a:gd name="adj1" fmla="val 37026"/>
              <a:gd name="adj2" fmla="val 84043"/>
              <a:gd name="adj3" fmla="val 370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D650-CC10-469F-8F6D-97683B888CAA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25282-8947-41D9-80AB-9DF0A2500F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basi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27720" y="1866960"/>
            <a:ext cx="427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a method called `message'. E.g. ‘step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message:’ that takes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setX:(type)x Y:(type)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s method called ‘setX:Y:’ that takes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2720" y="1981080"/>
            <a:ext cx="4048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interface Bug:SwarmObjec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xPos, yP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worldXSize,worldY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d foodSpac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te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setX: (int) x Y: (int) y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@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AE90-2464-4BAD-BDC5-7D3E2D0F887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A2851-7DC6-44F3-B4E7-04982947C8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Objective-C synta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Message:(type)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aMessage:(type)v1 with:(type)v2 and:(type) 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ing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obj aMessage: val1 with: val2 and: val3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5CDE-B4FD-46B9-B101-FAE29B4A3A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DDDB3-11A4-4AC9-AA0E-5CDFA61E6D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 Functions vs. ObjC method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-C metho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: (type) v1 argName2: (type) v2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fun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(type)name((type) v1,(type) v2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324320" y="4857840"/>
            <a:ext cx="3543480" cy="1276200"/>
          </a:xfrm>
          <a:prstGeom prst="wedgeRectCallout">
            <a:avLst>
              <a:gd name="adj1" fmla="val -102643"/>
              <a:gd name="adj2" fmla="val -4402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n body cou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exactl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in C and Objective-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6301-E026-4763-936D-F4B3C88492A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E76B7-A2D3-4354-AC70-8D0A03B021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id variable type et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ault variable type for object in ObjC is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nk of this as a special variable type (which is actually a pointer to a special data structure - namely the ob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themselve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elf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bjects can refer to superclass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super ...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97B-2F8C-47B3-9558-B32DC0553E1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3BF1A-280D-4784-98AC-04C72E4F94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clar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54640" y="4781520"/>
            <a:ext cx="3938400" cy="116208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425840" y="2662200"/>
            <a:ext cx="3938760" cy="19526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419720" y="1981080"/>
            <a:ext cx="15238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19920" y="1981080"/>
            <a:ext cx="2438280" cy="3812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85800" y="198108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header file or interface declar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sup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41972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face  Obj:Super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ype Iv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085240" y="262908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8085240" y="182880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043520" y="185724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8085240" y="461628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2560" y="28735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82560" y="33591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2560" y="38289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2560" y="42451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9155-4E1E-4F01-916E-3F5D1CC43E2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E8E5D-196F-442E-B6BF-6E97944AC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ng a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75000" y="5041800"/>
            <a:ext cx="4449960" cy="100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292960" y="4719600"/>
            <a:ext cx="459000" cy="47484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4200" y="3425760"/>
            <a:ext cx="4449600" cy="135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270320" y="2003400"/>
            <a:ext cx="4449960" cy="363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267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553080" y="2697120"/>
            <a:ext cx="2210040" cy="380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267080" y="1981080"/>
            <a:ext cx="4496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import “Obj.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@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mplementation  Ob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(type)aMetho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v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anotherMethod: (type) v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bod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self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85800" y="1981080"/>
            <a:ext cx="3527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the interface the object file contains the implementation of th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 are essentially C functions, same rules about return values and arguments, local v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turn type of method is not defined value must return an id (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242200" y="1890720"/>
            <a:ext cx="459000" cy="474480"/>
          </a:xfrm>
          <a:custGeom>
            <a:avLst/>
            <a:gdLst>
              <a:gd name="textAreaLeft" fmla="*/ 104760 w 459000"/>
              <a:gd name="textAreaRight" fmla="*/ 354240 w 45900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23880" y="236232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373640" y="236052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232840" y="2459160"/>
            <a:ext cx="458640" cy="47448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480"/>
              <a:gd name="textAreaBottom" fmla="*/ 366120 h 474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8247240" y="3209760"/>
            <a:ext cx="458640" cy="474840"/>
          </a:xfrm>
          <a:custGeom>
            <a:avLst/>
            <a:gdLst>
              <a:gd name="textAreaLeft" fmla="*/ 104760 w 458640"/>
              <a:gd name="textAreaRight" fmla="*/ 353880 w 458640"/>
              <a:gd name="textAreaTop" fmla="*/ 108360 h 474840"/>
              <a:gd name="textAreaBottom" fmla="*/ 366480 h 474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25320" y="276228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23880" y="3144960"/>
            <a:ext cx="374760" cy="404640"/>
          </a:xfrm>
          <a:custGeom>
            <a:avLst/>
            <a:gdLst>
              <a:gd name="textAreaLeft" fmla="*/ 85320 w 374760"/>
              <a:gd name="textAreaRight" fmla="*/ 289440 w 374760"/>
              <a:gd name="textAreaTop" fmla="*/ 92160 h 404640"/>
              <a:gd name="textAreaBottom" fmla="*/ 312480 h 40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23880" y="3895560"/>
            <a:ext cx="374760" cy="405000"/>
          </a:xfrm>
          <a:custGeom>
            <a:avLst/>
            <a:gdLst>
              <a:gd name="textAreaLeft" fmla="*/ 85320 w 374760"/>
              <a:gd name="textAreaRight" fmla="*/ 289440 w 374760"/>
              <a:gd name="textAreaTop" fmla="*/ 92520 h 405000"/>
              <a:gd name="textAreaBottom" fmla="*/ 312480 h 40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56B5-797E-4DB5-9415-F1681C9EFF5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B561D9-150E-4299-81CB-846F850ECC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small ObjC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400" y="441000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89240" y="4427640"/>
            <a:ext cx="96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758040" y="2106720"/>
            <a:ext cx="91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A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902560" y="212256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assB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569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575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581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587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593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708-66D1-48D0-9C9F-6BDB0E52EB8F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F9AD4-497F-41BB-A9F7-2E0382467E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players A and B alternate aiming revolver at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n starts emp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fore pulling trigger each player must load new bullet in revol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revolver doesn’t go off player hands gun over to oppo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075-8D66-4D61-953C-F1A22695C29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6BC4D-F979-48C4-863F-961F46DCA6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rvival probabil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1469520" y="1601640"/>
            <a:ext cx="1404000" cy="981000"/>
            <a:chOff x="1469520" y="1601640"/>
            <a:chExt cx="1404000" cy="981000"/>
          </a:xfrm>
        </p:grpSpPr>
        <p:sp>
          <p:nvSpPr>
            <p:cNvPr id="604" name=""/>
            <p:cNvSpPr/>
            <p:nvPr/>
          </p:nvSpPr>
          <p:spPr>
            <a:xfrm flipH="1">
              <a:off x="1469520" y="2081160"/>
              <a:ext cx="58428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4920" y="2081160"/>
              <a:ext cx="76860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89288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2475000" y="2389320"/>
            <a:ext cx="1402920" cy="981000"/>
            <a:chOff x="2475000" y="2389320"/>
            <a:chExt cx="1402920" cy="981000"/>
          </a:xfrm>
        </p:grpSpPr>
        <p:sp>
          <p:nvSpPr>
            <p:cNvPr id="608" name=""/>
            <p:cNvSpPr/>
            <p:nvPr/>
          </p:nvSpPr>
          <p:spPr>
            <a:xfrm flipH="1">
              <a:off x="2475000" y="2868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109680" y="2868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5200" y="2389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3610080" y="3141720"/>
            <a:ext cx="1402920" cy="981000"/>
            <a:chOff x="3610080" y="3141720"/>
            <a:chExt cx="1402920" cy="981000"/>
          </a:xfrm>
        </p:grpSpPr>
        <p:sp>
          <p:nvSpPr>
            <p:cNvPr id="612" name=""/>
            <p:cNvSpPr/>
            <p:nvPr/>
          </p:nvSpPr>
          <p:spPr>
            <a:xfrm flipH="1">
              <a:off x="3610080" y="36212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244760" y="36212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32360" y="31417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4680000" y="3876840"/>
            <a:ext cx="1402920" cy="981000"/>
            <a:chOff x="4680000" y="3876840"/>
            <a:chExt cx="1402920" cy="981000"/>
          </a:xfrm>
        </p:grpSpPr>
        <p:sp>
          <p:nvSpPr>
            <p:cNvPr id="616" name=""/>
            <p:cNvSpPr/>
            <p:nvPr/>
          </p:nvSpPr>
          <p:spPr>
            <a:xfrm flipH="1">
              <a:off x="4680000" y="435636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314680" y="435636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10200" y="38768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783400" y="4594320"/>
            <a:ext cx="1402920" cy="981000"/>
            <a:chOff x="5783400" y="4594320"/>
            <a:chExt cx="1402920" cy="981000"/>
          </a:xfrm>
        </p:grpSpPr>
        <p:sp>
          <p:nvSpPr>
            <p:cNvPr id="620" name=""/>
            <p:cNvSpPr/>
            <p:nvPr/>
          </p:nvSpPr>
          <p:spPr>
            <a:xfrm flipH="1">
              <a:off x="5783400" y="5073840"/>
              <a:ext cx="583920" cy="50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418080" y="5073840"/>
              <a:ext cx="768240" cy="46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205680" y="4594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1001160" y="19684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439360" y="19018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887120" y="282096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541320" y="27036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1152360" y="2408400"/>
            <a:ext cx="250920" cy="568080"/>
            <a:chOff x="1152360" y="2408400"/>
            <a:chExt cx="250920" cy="568080"/>
          </a:xfrm>
        </p:grpSpPr>
        <p:sp>
          <p:nvSpPr>
            <p:cNvPr id="628" name=""/>
            <p:cNvSpPr/>
            <p:nvPr/>
          </p:nvSpPr>
          <p:spPr>
            <a:xfrm>
              <a:off x="1270080" y="240840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152360" y="259236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2206800" y="3313080"/>
            <a:ext cx="250560" cy="568440"/>
            <a:chOff x="2206800" y="3313080"/>
            <a:chExt cx="250560" cy="568440"/>
          </a:xfrm>
        </p:grpSpPr>
        <p:sp>
          <p:nvSpPr>
            <p:cNvPr id="631" name=""/>
            <p:cNvSpPr/>
            <p:nvPr/>
          </p:nvSpPr>
          <p:spPr>
            <a:xfrm>
              <a:off x="2324160" y="331308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206800" y="3497400"/>
              <a:ext cx="250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343320" y="4165560"/>
            <a:ext cx="250920" cy="568440"/>
            <a:chOff x="3343320" y="4165560"/>
            <a:chExt cx="250920" cy="568440"/>
          </a:xfrm>
        </p:grpSpPr>
        <p:sp>
          <p:nvSpPr>
            <p:cNvPr id="634" name=""/>
            <p:cNvSpPr/>
            <p:nvPr/>
          </p:nvSpPr>
          <p:spPr>
            <a:xfrm>
              <a:off x="3461040" y="41655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343320" y="43498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429080" y="4917960"/>
            <a:ext cx="250920" cy="568440"/>
            <a:chOff x="4429080" y="4917960"/>
            <a:chExt cx="250920" cy="568440"/>
          </a:xfrm>
        </p:grpSpPr>
        <p:sp>
          <p:nvSpPr>
            <p:cNvPr id="637" name=""/>
            <p:cNvSpPr/>
            <p:nvPr/>
          </p:nvSpPr>
          <p:spPr>
            <a:xfrm>
              <a:off x="4546800" y="491796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429080" y="5102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5481720" y="5600880"/>
            <a:ext cx="250920" cy="568080"/>
            <a:chOff x="5481720" y="5600880"/>
            <a:chExt cx="250920" cy="568080"/>
          </a:xfrm>
        </p:grpSpPr>
        <p:sp>
          <p:nvSpPr>
            <p:cNvPr id="640" name=""/>
            <p:cNvSpPr/>
            <p:nvPr/>
          </p:nvSpPr>
          <p:spPr>
            <a:xfrm>
              <a:off x="5599440" y="5600880"/>
              <a:ext cx="0" cy="56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81720" y="57848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7253280" y="5602320"/>
            <a:ext cx="250920" cy="568440"/>
            <a:chOff x="7253280" y="5602320"/>
            <a:chExt cx="250920" cy="568440"/>
          </a:xfrm>
        </p:grpSpPr>
        <p:sp>
          <p:nvSpPr>
            <p:cNvPr id="643" name=""/>
            <p:cNvSpPr/>
            <p:nvPr/>
          </p:nvSpPr>
          <p:spPr>
            <a:xfrm>
              <a:off x="7371000" y="5602320"/>
              <a:ext cx="0" cy="56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53280" y="578664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2957040" y="358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093560" y="429264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110720" y="5160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162040" y="4994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60480" y="34066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47760" y="41752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766920" y="475920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B13C-FE32-4989-9F89-194FD7A87D38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944B72-2FA1-4AD9-AC6F-07DD9EBBFF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po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tudy complex nonlinear systems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co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national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ncial cri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based models allow us to stud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inter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aptive, heterogeneous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gents which face costs of information acquisition and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sted subsystems - economy, markets, firms, plants,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E877-C390-41E3-A515-F531C509B5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43B9A-F151-4F50-8A47-96212F7CF2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project: Russian roul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521000" y="421812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635280" y="1981080"/>
            <a:ext cx="113688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810400" y="200016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672000" y="4222800"/>
            <a:ext cx="1136520" cy="170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96000" y="4275000"/>
            <a:ext cx="1136520" cy="1703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627920" y="437508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31400" y="441000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807160" y="4427640"/>
            <a:ext cx="11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793680" y="2106720"/>
            <a:ext cx="85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820480" y="2122560"/>
            <a:ext cx="10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olver.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3859200" y="4886280"/>
            <a:ext cx="685800" cy="650880"/>
            <a:chOff x="3859200" y="4886280"/>
            <a:chExt cx="685800" cy="650880"/>
          </a:xfrm>
        </p:grpSpPr>
        <p:sp>
          <p:nvSpPr>
            <p:cNvPr id="664" name=""/>
            <p:cNvSpPr/>
            <p:nvPr/>
          </p:nvSpPr>
          <p:spPr>
            <a:xfrm>
              <a:off x="3859200" y="48862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859200" y="50529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59200" y="52196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59200" y="53881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59200" y="55371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5999040" y="4954680"/>
            <a:ext cx="685800" cy="650880"/>
            <a:chOff x="5999040" y="4954680"/>
            <a:chExt cx="685800" cy="650880"/>
          </a:xfrm>
        </p:grpSpPr>
        <p:sp>
          <p:nvSpPr>
            <p:cNvPr id="670" name=""/>
            <p:cNvSpPr/>
            <p:nvPr/>
          </p:nvSpPr>
          <p:spPr>
            <a:xfrm>
              <a:off x="5999040" y="495468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99040" y="512136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999040" y="52880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999040" y="545652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999040" y="560556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5" name=""/>
          <p:cNvGrpSpPr/>
          <p:nvPr/>
        </p:nvGrpSpPr>
        <p:grpSpPr>
          <a:xfrm>
            <a:off x="3846600" y="2784600"/>
            <a:ext cx="685800" cy="650880"/>
            <a:chOff x="3846600" y="2784600"/>
            <a:chExt cx="685800" cy="650880"/>
          </a:xfrm>
        </p:grpSpPr>
        <p:sp>
          <p:nvSpPr>
            <p:cNvPr id="676" name=""/>
            <p:cNvSpPr/>
            <p:nvPr/>
          </p:nvSpPr>
          <p:spPr>
            <a:xfrm>
              <a:off x="3846600" y="27846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846600" y="29512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846600" y="3117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846600" y="32864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846600" y="34354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5987880" y="2770200"/>
            <a:ext cx="685800" cy="650880"/>
            <a:chOff x="5987880" y="2770200"/>
            <a:chExt cx="685800" cy="650880"/>
          </a:xfrm>
        </p:grpSpPr>
        <p:sp>
          <p:nvSpPr>
            <p:cNvPr id="682" name=""/>
            <p:cNvSpPr/>
            <p:nvPr/>
          </p:nvSpPr>
          <p:spPr>
            <a:xfrm>
              <a:off x="5987880" y="2770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987880" y="2936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987880" y="3103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987880" y="3272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987880" y="3421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709640" y="4975200"/>
            <a:ext cx="685800" cy="650880"/>
            <a:chOff x="1709640" y="4975200"/>
            <a:chExt cx="685800" cy="650880"/>
          </a:xfrm>
        </p:grpSpPr>
        <p:sp>
          <p:nvSpPr>
            <p:cNvPr id="688" name=""/>
            <p:cNvSpPr/>
            <p:nvPr/>
          </p:nvSpPr>
          <p:spPr>
            <a:xfrm>
              <a:off x="1709640" y="4975200"/>
              <a:ext cx="585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709640" y="5141880"/>
              <a:ext cx="468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709640" y="53085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709640" y="5477040"/>
              <a:ext cx="30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09640" y="5626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3" name=""/>
          <p:cNvSpPr/>
          <p:nvPr/>
        </p:nvSpPr>
        <p:spPr>
          <a:xfrm>
            <a:off x="3408480" y="1711440"/>
            <a:ext cx="1738080" cy="442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5532480" y="1698480"/>
            <a:ext cx="1738440" cy="442764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BD08-FD64-4284-9234-E48607E7E2AC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A319EF-3A45-45AD-86F3-FB1A6D8B5F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Play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nam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d oth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init: (int) n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tOther: o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isAliv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play: 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876920" y="3911760"/>
            <a:ext cx="166356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Play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own 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ther he is al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ity of other p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Player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 to “aliv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ol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194600" y="376704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264440" y="418932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838760" y="2362320"/>
            <a:ext cx="16635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2" name=""/>
          <p:cNvCxnSpPr>
            <a:stCxn id="699" idx="4"/>
            <a:endCxn id="696" idx="2"/>
          </p:cNvCxnSpPr>
          <p:nvPr/>
        </p:nvCxnSpPr>
        <p:spPr>
          <a:xfrm rot="5400000">
            <a:off x="6337440" y="396288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99" idx="0"/>
            <a:endCxn id="701" idx="3"/>
          </p:cNvCxnSpPr>
          <p:nvPr/>
        </p:nvCxnSpPr>
        <p:spPr>
          <a:xfrm flipV="1" rot="16200000">
            <a:off x="6681960" y="284184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DC3B-E6CA-43EC-8730-C9E1BECBE55F}" type="slidenum">
              <a:t>4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F73B5-FFE8-43E1-80AC-C805116824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objects: Revol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: Revolver kn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havior: Gun c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 bul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 new bul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age trigger and return result (fired, didn’t f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interface Revolver: SwarmObject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 bullets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empt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lo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(BOOL)trigger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@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6991200" y="3119400"/>
            <a:ext cx="825480" cy="8254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8" name=""/>
          <p:cNvCxnSpPr>
            <a:stCxn id="707" idx="4"/>
          </p:cNvCxnSpPr>
          <p:nvPr/>
        </p:nvCxnSpPr>
        <p:spPr>
          <a:xfrm rot="5400000">
            <a:off x="6134400" y="3315240"/>
            <a:ext cx="640440" cy="1899360"/>
          </a:xfrm>
          <a:prstGeom prst="bentConnector3">
            <a:avLst>
              <a:gd name="adj1" fmla="val 13571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707" idx="0"/>
          </p:cNvCxnSpPr>
          <p:nvPr/>
        </p:nvCxnSpPr>
        <p:spPr>
          <a:xfrm flipV="1" rot="16200000">
            <a:off x="6478920" y="2194200"/>
            <a:ext cx="745200" cy="11055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0" name=""/>
          <p:cNvSpPr/>
          <p:nvPr/>
        </p:nvSpPr>
        <p:spPr>
          <a:xfrm>
            <a:off x="7048440" y="355608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2E56-4B37-4A27-8038-C8153FBDA650}" type="slidenum">
              <a:t>4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AB9702-418D-4368-85A5-05A3104A9B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0452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are created in main.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hands empty revolver object off to player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A loads bullet and pulls trigg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7040" y="18669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A is alive hands gun to B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to 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yer B loads bullet and pulls trig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layer B is alive hands gun to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l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turns own 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8579-CED0-43D1-9D38-526FD370901D}" type="slidenum">
              <a:t>4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90356-843A-47DA-A132-889F24835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5460840" y="1574640"/>
            <a:ext cx="2578320" cy="23878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5" name=""/>
          <p:cNvCxnSpPr>
            <a:endCxn id="716" idx="2"/>
          </p:cNvCxnSpPr>
          <p:nvPr/>
        </p:nvCxnSpPr>
        <p:spPr>
          <a:xfrm rot="10800000">
            <a:off x="1370880" y="2401200"/>
            <a:ext cx="4687200" cy="33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718" idx="2"/>
            <a:endCxn id="716" idx="2"/>
          </p:cNvCxnSpPr>
          <p:nvPr/>
        </p:nvCxnSpPr>
        <p:spPr>
          <a:xfrm rot="10800000">
            <a:off x="1370880" y="2401200"/>
            <a:ext cx="2946960" cy="2405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787320" y="1574640"/>
            <a:ext cx="1168560" cy="876600"/>
          </a:xfrm>
          <a:prstGeom prst="flowChartDocumen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.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82548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816200" y="27115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2" name=""/>
          <p:cNvCxnSpPr>
            <a:stCxn id="720" idx="6"/>
            <a:endCxn id="721" idx="2"/>
          </p:cNvCxnSpPr>
          <p:nvPr/>
        </p:nvCxnSpPr>
        <p:spPr>
          <a:xfrm>
            <a:off x="1584360" y="29779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3" name=""/>
          <p:cNvSpPr/>
          <p:nvPr/>
        </p:nvSpPr>
        <p:spPr>
          <a:xfrm>
            <a:off x="2577960" y="2610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4" name=""/>
          <p:cNvCxnSpPr/>
          <p:nvPr/>
        </p:nvCxnSpPr>
        <p:spPr>
          <a:xfrm>
            <a:off x="2371680" y="296532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5" name=""/>
          <p:cNvSpPr/>
          <p:nvPr/>
        </p:nvSpPr>
        <p:spPr>
          <a:xfrm>
            <a:off x="256536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56080" y="3575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7" name=""/>
          <p:cNvCxnSpPr>
            <a:stCxn id="725" idx="6"/>
            <a:endCxn id="726" idx="2"/>
          </p:cNvCxnSpPr>
          <p:nvPr/>
        </p:nvCxnSpPr>
        <p:spPr>
          <a:xfrm>
            <a:off x="3324240" y="38415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8" name=""/>
          <p:cNvSpPr/>
          <p:nvPr/>
        </p:nvSpPr>
        <p:spPr>
          <a:xfrm>
            <a:off x="4317840" y="3473280"/>
            <a:ext cx="758880" cy="736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317840" y="44388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308560" y="454032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0" name=""/>
          <p:cNvCxnSpPr>
            <a:stCxn id="718" idx="6"/>
            <a:endCxn id="729" idx="2"/>
          </p:cNvCxnSpPr>
          <p:nvPr/>
        </p:nvCxnSpPr>
        <p:spPr>
          <a:xfrm>
            <a:off x="5076720" y="48067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1" name=""/>
          <p:cNvCxnSpPr/>
          <p:nvPr/>
        </p:nvCxnSpPr>
        <p:spPr>
          <a:xfrm>
            <a:off x="4644720" y="426096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2" name=""/>
          <p:cNvCxnSpPr/>
          <p:nvPr/>
        </p:nvCxnSpPr>
        <p:spPr>
          <a:xfrm>
            <a:off x="2917440" y="3295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723" idx="0"/>
            <a:endCxn id="716" idx="3"/>
          </p:cNvCxnSpPr>
          <p:nvPr/>
        </p:nvCxnSpPr>
        <p:spPr>
          <a:xfrm flipV="1" rot="16200000">
            <a:off x="2157840" y="1810080"/>
            <a:ext cx="597600" cy="1002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4" name=""/>
          <p:cNvSpPr/>
          <p:nvPr/>
        </p:nvSpPr>
        <p:spPr>
          <a:xfrm>
            <a:off x="6083280" y="446400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5" name=""/>
          <p:cNvCxnSpPr/>
          <p:nvPr/>
        </p:nvCxnSpPr>
        <p:spPr>
          <a:xfrm>
            <a:off x="5877000" y="481932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607068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61040" y="5429160"/>
            <a:ext cx="57492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6"/>
            <a:endCxn id="737" idx="2"/>
          </p:cNvCxnSpPr>
          <p:nvPr/>
        </p:nvCxnSpPr>
        <p:spPr>
          <a:xfrm>
            <a:off x="6829200" y="5695560"/>
            <a:ext cx="23220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7823160" y="53276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/>
          <p:nvPr/>
        </p:nvCxnSpPr>
        <p:spPr>
          <a:xfrm>
            <a:off x="7616880" y="568296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1" name=""/>
          <p:cNvCxnSpPr/>
          <p:nvPr/>
        </p:nvCxnSpPr>
        <p:spPr>
          <a:xfrm>
            <a:off x="6422760" y="51498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2" name=""/>
          <p:cNvSpPr/>
          <p:nvPr/>
        </p:nvSpPr>
        <p:spPr>
          <a:xfrm>
            <a:off x="2301120" y="2098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9040" y="4575240"/>
            <a:ext cx="131616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B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301120" y="5527800"/>
            <a:ext cx="1332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 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5" name=""/>
          <p:cNvCxnSpPr/>
          <p:nvPr/>
        </p:nvCxnSpPr>
        <p:spPr>
          <a:xfrm>
            <a:off x="8238600" y="6039000"/>
            <a:ext cx="3960" cy="2419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6" name=""/>
          <p:cNvCxnSpPr/>
          <p:nvPr/>
        </p:nvCxnSpPr>
        <p:spPr>
          <a:xfrm>
            <a:off x="4098960" y="3816000"/>
            <a:ext cx="232560" cy="133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7" name=""/>
          <p:cNvSpPr/>
          <p:nvPr/>
        </p:nvSpPr>
        <p:spPr>
          <a:xfrm>
            <a:off x="5727600" y="1619280"/>
            <a:ext cx="758880" cy="7365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753160" y="236844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49040" y="1781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448680" y="2568600"/>
            <a:ext cx="141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layer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448320" y="325440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Revol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80240" y="3143160"/>
            <a:ext cx="574560" cy="558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9A75-0A69-404C-82A4-11791D5E814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76358-82F7-4CE1-8186-566FDB5299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it works (co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219400" y="2917800"/>
            <a:ext cx="1009440" cy="9828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7846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12880" y="2946240"/>
            <a:ext cx="923760" cy="92736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938840" y="2247840"/>
            <a:ext cx="262224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1 THEN return self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8" name=""/>
          <p:cNvCxnSpPr/>
          <p:nvPr/>
        </p:nvCxnSpPr>
        <p:spPr>
          <a:xfrm>
            <a:off x="178740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9" name=""/>
          <p:cNvCxnSpPr/>
          <p:nvPr/>
        </p:nvCxnSpPr>
        <p:spPr>
          <a:xfrm>
            <a:off x="3336840" y="3403440"/>
            <a:ext cx="232560" cy="136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/>
          <p:nvPr/>
        </p:nvCxnSpPr>
        <p:spPr>
          <a:xfrm>
            <a:off x="4187520" y="4019040"/>
            <a:ext cx="3960" cy="2422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/>
          <p:nvPr/>
        </p:nvCxnSpPr>
        <p:spPr>
          <a:xfrm flipV="1">
            <a:off x="4187880" y="2629800"/>
            <a:ext cx="2160" cy="25308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2" name=""/>
          <p:cNvSpPr/>
          <p:nvPr/>
        </p:nvSpPr>
        <p:spPr>
          <a:xfrm>
            <a:off x="4876200" y="4229280"/>
            <a:ext cx="3471120" cy="368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0 THEN send message B play: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809880" y="4235400"/>
            <a:ext cx="758880" cy="7365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3240" y="4280040"/>
            <a:ext cx="23767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lo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message R: trig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499760" y="2222640"/>
            <a:ext cx="2407320" cy="642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heads THEN retur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SE retur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2870280"/>
            <a:ext cx="11412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1790640" y="3593880"/>
            <a:ext cx="76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4406760" y="4140000"/>
            <a:ext cx="47016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4381560" y="2438280"/>
            <a:ext cx="55872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70C3-B66C-4F55-99C3-07904DED959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6325B-9522-48A9-A289-5D9EE087AF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resour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ive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w textbooks available because language is simply a superset of 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resource: Manual from Apple web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 website at SFI: Code, manuals,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r community, mailinglists (and archiv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, steal and borrow other people’s cod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FB9-0362-4C73-AC98-A17A2C5AAD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D4F614-0956-4DC7-924F-A7878E6738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to find hel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 Swarm web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www.santafe.edu/projects/swa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bjective-C m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 to above and look under Objective-C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cribing to mailing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mail to majordomo@santafe.edu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 swarm-support &lt;Your E-ma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C36F-E963-448C-9095-A38A9E8A555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E3F886-8580-42B5-877B-51B936D367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ottom up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05440" y="4373640"/>
            <a:ext cx="1235160" cy="1376280"/>
          </a:xfrm>
          <a:prstGeom prst="flowChartMultidocument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492440" y="3965040"/>
            <a:ext cx="1490760" cy="163656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560"/>
              <a:gd name="textAreaBottom" fmla="*/ 1636920 h 163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6040" y="22543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118120" y="43084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0360" y="2909880"/>
            <a:ext cx="787680" cy="825480"/>
          </a:xfrm>
          <a:custGeom>
            <a:avLst/>
            <a:gdLst/>
            <a:ahLst/>
            <a:rect l="l" t="t" r="r" b="b"/>
            <a:pathLst>
              <a:path w="496" h="520">
                <a:moveTo>
                  <a:pt x="23" y="0"/>
                </a:moveTo>
                <a:cubicBezTo>
                  <a:pt x="252" y="76"/>
                  <a:pt x="482" y="152"/>
                  <a:pt x="489" y="233"/>
                </a:cubicBezTo>
                <a:cubicBezTo>
                  <a:pt x="496" y="314"/>
                  <a:pt x="134" y="520"/>
                  <a:pt x="67" y="489"/>
                </a:cubicBezTo>
                <a:cubicBezTo>
                  <a:pt x="0" y="458"/>
                  <a:pt x="82" y="121"/>
                  <a:pt x="89" y="4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29280" y="3121200"/>
            <a:ext cx="317520" cy="3711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00920" y="2786040"/>
            <a:ext cx="828360" cy="264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224400" y="3703680"/>
            <a:ext cx="68724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endCxn id="51" idx="1"/>
          </p:cNvCxnSpPr>
          <p:nvPr/>
        </p:nvCxnSpPr>
        <p:spPr>
          <a:xfrm>
            <a:off x="6435360" y="4498920"/>
            <a:ext cx="370440" cy="564480"/>
          </a:xfrm>
          <a:prstGeom prst="bentConnector3">
            <a:avLst>
              <a:gd name="adj1" fmla="val 49708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4005360" y="361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4840" y="54853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2640" y="380916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43400" y="4883760"/>
            <a:ext cx="66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25280" y="589824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ificial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00040" y="37184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8006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19810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8000" y="206856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3720" y="2273400"/>
            <a:ext cx="148248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311640" y="23572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99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40080" y="34131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82280" y="294084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95680" y="4495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9528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6480" y="3429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49680" y="284652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360" y="1619280"/>
            <a:ext cx="3048120" cy="2636640"/>
          </a:xfrm>
          <a:prstGeom prst="cloudCallout">
            <a:avLst>
              <a:gd name="adj1" fmla="val 76564"/>
              <a:gd name="adj2" fmla="val 2001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d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1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on2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/>
          <p:nvPr/>
        </p:nvCxnSpPr>
        <p:spPr>
          <a:xfrm flipH="1" rot="16200000">
            <a:off x="3451680" y="41112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V="1">
            <a:off x="4925520" y="3338640"/>
            <a:ext cx="623160" cy="2955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7A2-CBCD-4BB0-BF5B-FEB42B8A24B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22BB7-794C-4F5B-8AFD-8851B8984B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Sw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nched in 1994 by Chris Langton at Santa Fe Institute in New Mexico (Contributors: Chris Langton, Roger Burkhart, Nelson Minar, Manor Askenazi, Glen Ropella, Sven Thommesen, Marcus Daniels, Alex Lancaster, Vladimir Jojic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a shared simulation platform for AB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cilitate the development of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eased in beta in ‘95, 1.0 release in January ‘97, 1.1 with Win95/NT support April ‘98, 2.0 with Java April ‘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4DAB-0817-4F43-9181-8CDC1ED7C87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B7ADF1-F0A9-4D0F-9D46-B531931F16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sic fa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04880" y="1866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arm is a collection of object oriented software libraries which provide support for simulation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s build simulations by incorporating Swarm library objects in their own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ies are written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-C : A superset of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l/Tk: Scripting language and GUI widgets (transparent to user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for Unix and Windows 95/98/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164B-9426-4AC4-B7A4-9418F64897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A6DC4E-F3EA-4E3B-9F3F-9D15694E1D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arm mode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862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2867040" y="3952440"/>
            <a:ext cx="1490760" cy="1636920"/>
          </a:xfrm>
          <a:custGeom>
            <a:avLst/>
            <a:gdLst>
              <a:gd name="textAreaLeft" fmla="*/ 0 w 1490760"/>
              <a:gd name="textAreaRight" fmla="*/ 1491120 w 1490760"/>
              <a:gd name="textAreaTop" fmla="*/ 0 h 1636920"/>
              <a:gd name="textAreaBottom" fmla="*/ 1637280 h 1636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330280" y="2241720"/>
            <a:ext cx="476280" cy="441000"/>
          </a:xfrm>
          <a:prstGeom prst="smileyFace">
            <a:avLst>
              <a:gd name="adj" fmla="val 9282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2958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79600" y="3603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79440" y="5472720"/>
            <a:ext cx="260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ganizations of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96880" y="3796200"/>
            <a:ext cx="177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18640" y="58852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60640" y="47880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422360" y="1968480"/>
            <a:ext cx="3370320" cy="39625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62240" y="2055960"/>
            <a:ext cx="1482840" cy="63468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47960" y="2260440"/>
            <a:ext cx="1482840" cy="635040"/>
          </a:xfrm>
          <a:prstGeom prst="cube">
            <a:avLst>
              <a:gd name="adj" fmla="val 25000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5880" y="23446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14680" y="3400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56520" y="2927880"/>
            <a:ext cx="191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animate ag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70280" y="448308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74840" y="4940280"/>
            <a:ext cx="476280" cy="441360"/>
          </a:xfrm>
          <a:prstGeom prst="smileyFace">
            <a:avLst>
              <a:gd name="adj" fmla="val 518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20720" y="341640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023920" y="2833560"/>
            <a:ext cx="476280" cy="441360"/>
          </a:xfrm>
          <a:prstGeom prst="smileyFace">
            <a:avLst>
              <a:gd name="adj" fmla="val 9282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/>
          <p:nvPr/>
        </p:nvCxnSpPr>
        <p:spPr>
          <a:xfrm flipH="1" rot="16200000">
            <a:off x="1825920" y="4098600"/>
            <a:ext cx="847080" cy="101196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/>
          <p:nvPr/>
        </p:nvCxnSpPr>
        <p:spPr>
          <a:xfrm flipV="1">
            <a:off x="3300480" y="3324960"/>
            <a:ext cx="622800" cy="296280"/>
          </a:xfrm>
          <a:prstGeom prst="curvedConnector2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4952880" y="1955880"/>
            <a:ext cx="3370320" cy="396216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70240" y="58600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zbin" descr=""/>
          <p:cNvPicPr/>
          <p:nvPr/>
        </p:nvPicPr>
        <p:blipFill>
          <a:blip r:embed="rId1"/>
          <a:stretch/>
        </p:blipFill>
        <p:spPr>
          <a:xfrm>
            <a:off x="6908760" y="2220840"/>
            <a:ext cx="1231920" cy="8366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6959520" y="3200400"/>
            <a:ext cx="1136880" cy="102384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996240" y="3219480"/>
            <a:ext cx="1063440" cy="974520"/>
          </a:xfrm>
          <a:prstGeom prst="rect">
            <a:avLst/>
          </a:prstGeom>
          <a:ln w="0">
            <a:noFill/>
          </a:ln>
        </p:spPr>
      </p:pic>
      <p:cxnSp>
        <p:nvCxnSpPr>
          <p:cNvPr id="111" name=""/>
          <p:cNvCxnSpPr>
            <a:stCxn id="94" idx="3"/>
            <a:endCxn id="112" idx="2"/>
          </p:cNvCxnSpPr>
          <p:nvPr/>
        </p:nvCxnSpPr>
        <p:spPr>
          <a:xfrm flipV="1">
            <a:off x="4792680" y="3584160"/>
            <a:ext cx="443520" cy="365760"/>
          </a:xfrm>
          <a:prstGeom prst="bentConnector3">
            <a:avLst>
              <a:gd name="adj1" fmla="val 49796"/>
            </a:avLst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5235480" y="2527200"/>
            <a:ext cx="1317600" cy="571680"/>
          </a:xfrm>
          <a:prstGeom prst="cube">
            <a:avLst>
              <a:gd name="adj" fmla="val 25000"/>
            </a:avLst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5480" y="3251160"/>
            <a:ext cx="1254240" cy="533520"/>
          </a:xfrm>
          <a:prstGeom prst="cube">
            <a:avLst>
              <a:gd name="adj" fmla="val 25000"/>
            </a:avLst>
          </a:prstGeom>
          <a:solidFill>
            <a:srgbClr val="00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35480" y="4000680"/>
            <a:ext cx="1279800" cy="571320"/>
          </a:xfrm>
          <a:prstGeom prst="cube">
            <a:avLst>
              <a:gd name="adj" fmla="val 25000"/>
            </a:avLst>
          </a:prstGeom>
          <a:solidFill>
            <a:srgbClr val="33cc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35480" y="4749840"/>
            <a:ext cx="1279800" cy="57132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2"/>
            <a:endCxn id="94" idx="3"/>
          </p:cNvCxnSpPr>
          <p:nvPr/>
        </p:nvCxnSpPr>
        <p:spPr>
          <a:xfrm flipV="1" rot="10800000">
            <a:off x="4791960" y="2883240"/>
            <a:ext cx="443520" cy="1065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7" name=""/>
          <p:cNvCxnSpPr>
            <a:stCxn id="114" idx="2"/>
            <a:endCxn id="94" idx="3"/>
          </p:cNvCxnSpPr>
          <p:nvPr/>
        </p:nvCxnSpPr>
        <p:spPr>
          <a:xfrm rot="10800000">
            <a:off x="4791960" y="3948840"/>
            <a:ext cx="443520" cy="4089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8" name=""/>
          <p:cNvCxnSpPr>
            <a:stCxn id="115" idx="2"/>
            <a:endCxn id="94" idx="3"/>
          </p:cNvCxnSpPr>
          <p:nvPr/>
        </p:nvCxnSpPr>
        <p:spPr>
          <a:xfrm rot="10800000">
            <a:off x="4791960" y="3948840"/>
            <a:ext cx="443520" cy="1157760"/>
          </a:xfrm>
          <a:prstGeom prst="bentConnector3">
            <a:avLst>
              <a:gd name="adj1" fmla="val 49796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119" name="modelprobe" descr=""/>
          <p:cNvPicPr/>
          <p:nvPr/>
        </p:nvPicPr>
        <p:blipFill>
          <a:blip r:embed="rId3"/>
          <a:stretch/>
        </p:blipFill>
        <p:spPr>
          <a:xfrm>
            <a:off x="6883560" y="4419720"/>
            <a:ext cx="1282680" cy="10508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3" idx="4"/>
            <a:endCxn id="108" idx="1"/>
          </p:cNvCxnSpPr>
          <p:nvPr/>
        </p:nvCxnSpPr>
        <p:spPr>
          <a:xfrm flipV="1">
            <a:off x="6409800" y="2639520"/>
            <a:ext cx="499320" cy="244800"/>
          </a:xfrm>
          <a:prstGeom prst="bentConnector3">
            <a:avLst>
              <a:gd name="adj1" fmla="val 64285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1" name=""/>
          <p:cNvCxnSpPr>
            <a:stCxn id="112" idx="5"/>
            <a:endCxn id="110" idx="1"/>
          </p:cNvCxnSpPr>
          <p:nvPr/>
        </p:nvCxnSpPr>
        <p:spPr>
          <a:xfrm>
            <a:off x="6489360" y="3451320"/>
            <a:ext cx="506880" cy="255960"/>
          </a:xfrm>
          <a:prstGeom prst="bentConnector3">
            <a:avLst>
              <a:gd name="adj1" fmla="val 4982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09" idx="1"/>
          </p:cNvCxnSpPr>
          <p:nvPr/>
        </p:nvCxnSpPr>
        <p:spPr>
          <a:xfrm flipV="1">
            <a:off x="6515280" y="3712680"/>
            <a:ext cx="444960" cy="502560"/>
          </a:xfrm>
          <a:prstGeom prst="bentConnector3">
            <a:avLst>
              <a:gd name="adj1" fmla="val 52469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9" idx="1"/>
            <a:endCxn id="115" idx="4"/>
          </p:cNvCxnSpPr>
          <p:nvPr/>
        </p:nvCxnSpPr>
        <p:spPr>
          <a:xfrm flipV="1" rot="10800000">
            <a:off x="6371640" y="4944600"/>
            <a:ext cx="511920" cy="162720"/>
          </a:xfrm>
          <a:prstGeom prst="bentConnector3">
            <a:avLst>
              <a:gd name="adj1" fmla="val 35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472C-D5D3-47E3-B6EA-ED95461918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2DEED-925E-4191-9760-B95177520A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 Oriented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2424240"/>
            <a:ext cx="2828880" cy="28159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6680" y="3147840"/>
            <a:ext cx="1528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42040" y="412920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83040" y="3065400"/>
            <a:ext cx="904680" cy="317520"/>
          </a:xfrm>
          <a:custGeom>
            <a:avLst/>
            <a:gdLst/>
            <a:ahLst/>
            <a:rect l="l" t="t" r="r" b="b"/>
            <a:pathLst>
              <a:path w="570" h="200">
                <a:moveTo>
                  <a:pt x="0" y="199"/>
                </a:moveTo>
                <a:lnTo>
                  <a:pt x="98" y="98"/>
                </a:lnTo>
                <a:lnTo>
                  <a:pt x="180" y="44"/>
                </a:lnTo>
                <a:lnTo>
                  <a:pt x="253" y="8"/>
                </a:lnTo>
                <a:lnTo>
                  <a:pt x="288" y="0"/>
                </a:lnTo>
                <a:lnTo>
                  <a:pt x="307" y="8"/>
                </a:lnTo>
                <a:lnTo>
                  <a:pt x="325" y="26"/>
                </a:lnTo>
                <a:lnTo>
                  <a:pt x="343" y="53"/>
                </a:lnTo>
                <a:lnTo>
                  <a:pt x="352" y="90"/>
                </a:lnTo>
                <a:lnTo>
                  <a:pt x="352" y="117"/>
                </a:lnTo>
                <a:lnTo>
                  <a:pt x="361" y="144"/>
                </a:lnTo>
                <a:lnTo>
                  <a:pt x="406" y="134"/>
                </a:lnTo>
                <a:lnTo>
                  <a:pt x="443" y="126"/>
                </a:lnTo>
                <a:lnTo>
                  <a:pt x="478" y="107"/>
                </a:lnTo>
                <a:lnTo>
                  <a:pt x="514" y="98"/>
                </a:lnTo>
                <a:lnTo>
                  <a:pt x="533" y="98"/>
                </a:lnTo>
                <a:lnTo>
                  <a:pt x="569" y="90"/>
                </a:lnTo>
                <a:lnTo>
                  <a:pt x="567" y="77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4920" y="4021200"/>
            <a:ext cx="838440" cy="261720"/>
          </a:xfrm>
          <a:custGeom>
            <a:avLst/>
            <a:gdLst/>
            <a:ahLst/>
            <a:rect l="l" t="t" r="r" b="b"/>
            <a:pathLst>
              <a:path w="528" h="165">
                <a:moveTo>
                  <a:pt x="0" y="164"/>
                </a:moveTo>
                <a:lnTo>
                  <a:pt x="12" y="126"/>
                </a:lnTo>
                <a:lnTo>
                  <a:pt x="58" y="71"/>
                </a:lnTo>
                <a:lnTo>
                  <a:pt x="121" y="35"/>
                </a:lnTo>
                <a:lnTo>
                  <a:pt x="157" y="27"/>
                </a:lnTo>
                <a:lnTo>
                  <a:pt x="175" y="54"/>
                </a:lnTo>
                <a:lnTo>
                  <a:pt x="194" y="71"/>
                </a:lnTo>
                <a:lnTo>
                  <a:pt x="221" y="71"/>
                </a:lnTo>
                <a:lnTo>
                  <a:pt x="284" y="44"/>
                </a:lnTo>
                <a:lnTo>
                  <a:pt x="311" y="27"/>
                </a:lnTo>
                <a:lnTo>
                  <a:pt x="338" y="17"/>
                </a:lnTo>
                <a:lnTo>
                  <a:pt x="357" y="27"/>
                </a:lnTo>
                <a:lnTo>
                  <a:pt x="384" y="35"/>
                </a:lnTo>
                <a:lnTo>
                  <a:pt x="420" y="35"/>
                </a:lnTo>
                <a:lnTo>
                  <a:pt x="447" y="27"/>
                </a:lnTo>
                <a:lnTo>
                  <a:pt x="483" y="8"/>
                </a:lnTo>
                <a:lnTo>
                  <a:pt x="519" y="0"/>
                </a:lnTo>
                <a:lnTo>
                  <a:pt x="527" y="1"/>
                </a:lnTo>
              </a:path>
            </a:pathLst>
          </a:custGeom>
          <a:noFill/>
          <a:ln cap="rnd"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74600" y="2789280"/>
            <a:ext cx="796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25720" y="3575160"/>
            <a:ext cx="1303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77800" y="5452920"/>
            <a:ext cx="1379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86640" y="2205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95920" y="3348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05200" y="4491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58040" y="456876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429000"/>
            <a:ext cx="825480" cy="825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070320" y="3071880"/>
            <a:ext cx="990360" cy="30456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97760" y="3089160"/>
            <a:ext cx="990720" cy="381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5138640" y="4232160"/>
            <a:ext cx="914400" cy="30492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05600" y="4268880"/>
            <a:ext cx="838080" cy="380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3836880"/>
            <a:ext cx="752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518160" y="499284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0" y="5489640"/>
            <a:ext cx="1515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81960" y="2935440"/>
            <a:ext cx="512640" cy="223560"/>
          </a:xfrm>
          <a:custGeom>
            <a:avLst/>
            <a:gdLst/>
            <a:ahLst/>
            <a:rect l="l" t="t" r="r" b="b"/>
            <a:pathLst>
              <a:path w="323" h="141">
                <a:moveTo>
                  <a:pt x="0" y="140"/>
                </a:moveTo>
                <a:lnTo>
                  <a:pt x="32" y="65"/>
                </a:lnTo>
                <a:lnTo>
                  <a:pt x="64" y="22"/>
                </a:lnTo>
                <a:lnTo>
                  <a:pt x="86" y="11"/>
                </a:lnTo>
                <a:lnTo>
                  <a:pt x="118" y="22"/>
                </a:lnTo>
                <a:lnTo>
                  <a:pt x="161" y="33"/>
                </a:lnTo>
                <a:lnTo>
                  <a:pt x="204" y="65"/>
                </a:lnTo>
                <a:lnTo>
                  <a:pt x="214" y="97"/>
                </a:lnTo>
                <a:lnTo>
                  <a:pt x="247" y="65"/>
                </a:lnTo>
                <a:lnTo>
                  <a:pt x="268" y="33"/>
                </a:lnTo>
                <a:lnTo>
                  <a:pt x="289" y="11"/>
                </a:lnTo>
                <a:lnTo>
                  <a:pt x="322" y="0"/>
                </a:lnTo>
                <a:lnTo>
                  <a:pt x="322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5160" y="2546280"/>
            <a:ext cx="125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56400" y="3768840"/>
            <a:ext cx="706320" cy="12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56480" y="262728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2040" y="4898880"/>
            <a:ext cx="7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049400" y="3879360"/>
            <a:ext cx="2549520" cy="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enedikt Stefansson &lt;benedikt@ucla.edu&gt; -  March 199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39FD-437F-4C58-9E3D-49462BDC2FE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09AB7C-5115-4425-9548-07250A1BBE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5T01:43:27Z</dcterms:created>
  <dc:creator>Benedikt Stefansson</dc:creator>
  <dc:description/>
  <dc:language>en-US</dc:language>
  <cp:lastModifiedBy>Office</cp:lastModifiedBy>
  <dcterms:modified xsi:type="dcterms:W3CDTF">1999-03-27T03:04:52Z</dcterms:modified>
  <cp:revision>42</cp:revision>
  <dc:subject/>
  <dc:title>Swarmfest 1998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cce.sscnet.ucla.edu/swarmcourse</vt:lpwstr>
  </property>
  <property fmtid="{D5CDD505-2E9C-101B-9397-08002B2CF9AE}" pid="9" name="LinkColor">
    <vt:r8>16711782</vt:r8>
  </property>
  <property fmtid="{D5CDD505-2E9C-101B-9397-08002B2CF9AE}" pid="10" name="MailAddress">
    <vt:lpwstr>benedikt@ucla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\Benedikt\CourseMaterial\Swarmfest 1998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