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959887"/>
        <c:axId val="40070146"/>
      </c:barChart>
      <c:catAx>
        <c:axId val="395988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070146"/>
        <c:crosses val="autoZero"/>
        <c:auto val="1"/>
        <c:lblAlgn val="ctr"/>
        <c:lblOffset val="100"/>
        <c:noMultiLvlLbl val="0"/>
      </c:catAx>
      <c:valAx>
        <c:axId val="4007014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5988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2311-3DC5-4814-962E-5BDD0A5B5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11CD-2166-411F-B7A9-FDCA4CFAA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A69F-74B7-49F5-8457-CEB06778D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54DC-0FBF-4948-B7DD-01F467F5C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FDB0-ACF4-4BCA-97B8-0A1B145DB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D8D4-02C9-4D5B-92DB-9B77FCCA3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4DCE-42A8-4187-A77F-BD2F8F1EE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75BA-C0D3-4198-8411-410F8B800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8353-3D5C-4B8C-8D01-620C24E78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2B01-60DE-4BA2-BE46-52C1E955B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8B26-FAA5-4713-A27F-69F0F6E91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8FE9-D7B7-426D-BA48-FA8A85EC7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891ABF-99BB-491F-8406-88911E0969C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