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363297"/>
        <c:axId val="30277778"/>
      </c:barChart>
      <c:catAx>
        <c:axId val="53363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77778"/>
        <c:crosses val="autoZero"/>
        <c:auto val="1"/>
        <c:lblAlgn val="ctr"/>
        <c:lblOffset val="100"/>
        <c:noMultiLvlLbl val="0"/>
      </c:catAx>
      <c:valAx>
        <c:axId val="30277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63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A38C-AD7C-4A3E-89D8-B787624D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84B-CC6F-4692-8769-9EA1DED9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E27-48F9-4A78-8BD7-A32824D0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FFA-B992-4A57-9CF2-A7B17F9F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E7D-B087-4F5F-ACAD-C1E87B22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ED61-4914-4675-8A34-9DFAF8BA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900-40C7-4EF3-9C24-F8ABBC9C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978A-C367-4216-A62D-D3301015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170-EF7D-433A-A903-D19120C7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F11-6D86-4DC1-8AEB-49596908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E03-31C9-4C30-9DF8-9249572B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9CB-4236-458A-8553-BF1014BD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85640-2A7A-4765-8E78-A6A7264BB1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